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D04B-EC66-41B9-BA49-F8856AE9A1E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D605-D910-4501-9182-A18745D4E56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D456-1C8A-4300-96C7-7C9736B87FB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AB30-05FF-4317-8333-BC6D044E9F1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405F-AF6C-4C6F-9FF3-E94DA226F0A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B74E-7632-4E5C-8558-AC3084B5192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182A-20FF-4454-9C45-1C9A52D40F5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F8D9-79A0-460E-B345-B3C9920FB35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E7C0-227A-4010-AD1B-75A7DC2D94B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FF36-980C-486C-AEB0-8330D0C7A2D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F63F-18B6-4D8C-9173-5021BC206C7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BBF-F0D2-41AA-AA6D-E60F03CB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A7F-5184-4BDB-8306-E0CF0092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D7C-9D44-4C62-B2ED-DA337339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EB6-7CEA-4781-A504-ED0B5931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B3DF-425E-43B0-BAAC-6CB7D938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AC77-507D-4F11-B14C-C732C778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2F75-0639-4650-9CBA-68787B10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8C72-8905-4348-97AD-2032AF4D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E8E3-B950-4FAF-AB79-FDAEAE05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43D9-6403-4289-B996-74AD3C1C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CC13-2DA9-4B81-9ABC-4D49FD10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D28-8C39-4D62-BDCD-C537EF2A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9EB6-E926-4819-A4ED-A63FD152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1F40-D47F-41F5-8CED-B1741D9A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8B82-E18B-4EC1-B837-48D41951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2468-C80C-4124-ACBB-430FC3D6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ED4D-96AC-4E15-A76E-8CE860D5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414-4319-4654-8C70-97FBF1D6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DAD-827F-4D79-B0CE-4B642C3B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533-31A9-4144-B8C9-05C53350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15B-26EE-44BD-BA49-11541A11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057-5C9A-49FC-90CB-E1D85BCE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CDA-7FE2-4B57-AE87-5DFD15CE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81E-1C06-4FC6-BAC9-4CF9F97E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ECEF-A37E-400F-A191-DA77F252175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105D-CF7D-4DBC-8A8D-D95BED47A009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483920"/>
            <a:ext cx="769608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sluchu</a:t>
            </a:r>
            <a:r>
              <a:rPr b="1" lang="sk-SK" sz="4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 </a:t>
            </a:r>
            <a:br>
              <a:rPr sz="7200"/>
            </a:br>
            <a:br>
              <a:rPr sz="72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r>
              <a:rPr b="1" lang="sk-SK" sz="7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endParaRPr b="0" lang="en-US" sz="7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724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nos zvuku vnútorným uchom</a:t>
            </a:r>
            <a:br>
              <a:rPr sz="36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vuk prichádza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a - Cochle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cez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álne okienko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imák je rozdelený na 3 čast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: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VESTIBULI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perilymfou 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ššiu koncentráciu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  Cl 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  a viac  proteín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,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MEDI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ndolymfou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 vyššiu konc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katiónov a menej 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d Cl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Na bazilárnej membrán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ortiho orgán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nútornými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onkaj-šími vláskovými bunkam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.Obe majú na povrchu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tereocílie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útorné vláskové bun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lastné receptory zvuku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v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kajš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e 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sobia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zosiľňovač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TYMPAN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á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  <a:ea typeface="Arial"/>
              </a:rPr>
              <a:t>Rozdielne zloženie tekutín umožňuje vznik elektrických zmien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GPs a APs, tiež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endokochleárneho potenciálu v Scala media (+80mV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, kochleárneho mikrofonického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potenciálu ( na celom slimaku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a negat. sumačného potenciálu na vnútorných vlaskových bunkách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2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 vstupe do Vnútorného ucha  zvuk (akustický tla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vlní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u a endolymf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dolymf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kmitá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azilárnu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a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vláskových buniek.</a:t>
            </a:r>
            <a:br>
              <a:rPr sz="32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i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pohybom endolymfy ohýbajú raz dopra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(hyperpolariz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az doľava (depolarizá-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Generátorový potenciál (G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 vytvára z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mikro-fonických potenciálov slimáka a negatívnych sumačných potenciálov  vnútorných vláskových buniek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o vstupe K+  z endolymfy  do vnútorných buniek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!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kčný potenciál (A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vzniká po sumácii GPs na axónoch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sluchového nerv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s  sú prenášané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vým nervo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do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empo-rálneho lalok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sluchového kortexu, kde sú spraco-vávané a tu si uvedomujem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valitu, silu, farbu a význam zvuku (re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2" name="Picture 4" descr="Gray756"/>
          <p:cNvPicPr/>
          <p:nvPr/>
        </p:nvPicPr>
        <p:blipFill>
          <a:blip r:embed="rId1"/>
          <a:stretch/>
        </p:blipFill>
        <p:spPr>
          <a:xfrm>
            <a:off x="900000" y="1773360"/>
            <a:ext cx="734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odľ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EKESYHO teórie počuti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(1964):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zilárna membrána slúži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rekvenčný analyzátor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ysoké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ju rozochvieve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na báze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, blízko Oválneho okienka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de je najužšia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Nízke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ju rozochvievajú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i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rchole slimáka – pri helikotrem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membrána najširšia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ný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byrint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4" name="Picture 3" descr="250px-Gray923"/>
          <p:cNvPicPr/>
          <p:nvPr/>
        </p:nvPicPr>
        <p:blipFill>
          <a:blip r:embed="rId1">
            <a:grayscl/>
          </a:blip>
          <a:stretch/>
        </p:blipFill>
        <p:spPr>
          <a:xfrm>
            <a:off x="3419640" y="2708280"/>
            <a:ext cx="57243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ucho"/>
          <p:cNvPicPr/>
          <p:nvPr/>
        </p:nvPicPr>
        <p:blipFill>
          <a:blip r:embed="rId1"/>
          <a:stretch/>
        </p:blipFill>
        <p:spPr>
          <a:xfrm>
            <a:off x="900000" y="260280"/>
            <a:ext cx="741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Poruchy sluchu  (hluchota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424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UDIOMETRI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umožňuje zistiť 3 druhy porúch sluch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1. Poruchu prevodovú (perifér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nutý 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bubieno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/aleb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luchové kostič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tredného ucha –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cient nepoču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hlboké zvu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nízke frekvenci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2. Poruchu percepčnú (centrál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uje buď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ortiho orgán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 v ňo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láskové bunky, príp. sluchový nerv, alebo sluchový kortex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 Pacient nepoč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soké tón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(s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ššou frekvenciou kmita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3. Poruchu zmiešan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hrnutie - animáci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4402080" y="3571920"/>
          <a:ext cx="13082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2080" y="3571920"/>
                    <a:ext cx="1308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69932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Ďakujem Vám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a pozornosť  ! </a:t>
            </a:r>
            <a:br>
              <a:rPr sz="3600"/>
            </a:b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84" name="Picture 3" descr="Winter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luc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 veĺmi citlivý ľudský zmysel, ktorým vnímame zvuk (reč, hudbu, hluk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 Je to druh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mechanickej energie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(akustický tlak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, ktorý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zniká v 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sledku kmitania molekúl vzduchu, ich zhusťova-nia a zrieďovania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o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áku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a zvuk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ešíri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lebo nie sú tam molekuly vzduchu, ktoré by sa rozkmitali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Akustický tlak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– jednotka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/m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( Pa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Sluchový prah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2.10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</a:rPr>
              <a:t>-5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Pa. (0 d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Rýchlosť zvuku vo vzduch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je cca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30 m/ s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a šíri sa v nom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vlnením,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rovnako aj  v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kvapalinách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však rýchlosť zvuku 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 pevných látkach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je rýchlosť zvuk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20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, šíri sa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aj priečnym vlnením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ho intenzita  je však nižšia.  </a:t>
            </a:r>
            <a:br>
              <a:rPr sz="3000"/>
            </a:br>
            <a:endParaRPr b="0" lang="en-US" sz="3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vu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: pravidelné (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tón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a nepravi-delné (ne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hluk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m vnímame zvuk v rozsahu o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16 Hz do 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ajčastejšie vnímame frekvencie od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500- 4000 H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Netopiere, psi, delfíni sú citliví n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ltraz-vu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(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Kmitani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16 Hz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Infrazvuk 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Frekvenci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ýšk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ónu, amplitúd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hlasitosť. (subjektivne vnímané parametre: výška, hlasitosť zafarbenie zvuku...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jektívne vytváraného  zvuku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sily zvu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udá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v jednotkách B resp. v dB 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ubjektívne vnímaného zvuku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hlasitosti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a udáva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vo fónoch (P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e stupnice- v dB a vo Ph, sa zhodujú len pri frekvencii 1 kHz, kedy je ucho najcitlivejš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í.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3757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Ucho- schém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scan0010"/>
          <p:cNvPicPr/>
          <p:nvPr/>
        </p:nvPicPr>
        <p:blipFill>
          <a:blip r:embed="rId1"/>
          <a:stretch/>
        </p:blipFill>
        <p:spPr>
          <a:xfrm>
            <a:off x="395280" y="692280"/>
            <a:ext cx="845964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72960"/>
            <a:ext cx="9144000" cy="586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TÓMIA UCHA </a:t>
            </a:r>
            <a:br>
              <a:rPr sz="3200"/>
            </a:br>
            <a:br>
              <a:rPr sz="32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loženie: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. Vonk.ucho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šnic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auricul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cho-vý kanál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ý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mazom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(cerum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hĺpkami.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. Stredné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bubienok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mbra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ympani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 3 kostičky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aleus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ladivk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cus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ná-kovka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apes</a:t>
            </a:r>
            <a:r>
              <a:rPr b="0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strmienok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krúhle okienko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2 svaly (m. stapedius  a m. tensor tympan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ustachova trubic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3.5 cm dlhá spája stredné ucho s  faryngom (vyrovnávanie tla-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možná cesta prenosu infekcie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detí.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I. Vnút.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- slimá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chle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or-tiho orgánom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renos zvuku Vonkajším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a  Stredným uchom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onkajšie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 sluchová energia je zachytávaná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ušnic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 zvuk sa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šíri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i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vzduchom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ž na pevnú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bubienok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bí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ho rozochve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redné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Zvuk sa prenáša ce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sluchové kostičky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šírenie kosťou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ž na tekutinu vnútorného uch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 perilymf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ozochveje drobné blanky ta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ho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ko aj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Okrúhleho okienka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v strednom uch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ýznam Stredného ucha  - zabezpečuje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mpedanč-né pris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oben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enosu zvuku medzi vzduchom vonk. ucha a kvapalinou vnút. ucha. Ak by  nebolo stredné ucho s kostičkami - až viac ak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99 %  zvuku by sa odrazil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z perilymfy vnútorného uch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ť do ucha vonkajšie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OUND PERCEPTION</a:t>
            </a: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4084560" y="3619440"/>
          <a:ext cx="19432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4560" y="3619440"/>
                    <a:ext cx="1943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Zloženie vnútorného uch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6" name="Picture 5" descr="scan0035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77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Cortiho orgán - zloženie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8" name="Picture 4" descr="300px-Cochlea-crosssection"/>
          <p:cNvPicPr/>
          <p:nvPr/>
        </p:nvPicPr>
        <p:blipFill>
          <a:blip r:embed="rId2">
            <a:lum contrast="50000"/>
          </a:blip>
          <a:stretch/>
        </p:blipFill>
        <p:spPr>
          <a:xfrm>
            <a:off x="684360" y="1268280"/>
            <a:ext cx="845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29Z</dcterms:modified>
  <cp:revision>385</cp:revision>
  <dc:subject/>
  <dc:title>Úvod</dc:title>
</cp:coreProperties>
</file>