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4.gif" ContentType="image/gi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jpeg" ContentType="image/jpeg"/>
  <Override PartName="/ppt/media/image8.wmf" ContentType="image/x-wmf"/>
  <Override PartName="/ppt/media/image9.png" ContentType="image/pn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AB79-D29D-413E-9963-85687FE3CFC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6D9E-F7DB-4C7C-B219-6D5D155A120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70FD-B6EA-457B-A06D-E1B5D69E3F9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A700-AA8C-43F8-AF94-50970C18124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0697-1216-48FA-9719-039639B0036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98B4-EC52-4104-B2F4-842575376FE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1844-E9BF-49D4-9EBB-D993F14CB59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8BC7-F009-4C2C-ADE5-7F8D3FC7058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58CC-2A85-4252-B092-80A8AEBA128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02CB-D6D3-49DB-9A15-78D13444B46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C421-F1A9-4B85-A9E8-87E94146E9B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D562-4CA3-4100-A354-4829F23D708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19A5-22B7-4DD7-97A2-29918549565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D74F-FEF9-4527-B702-F1CCFEBD9A4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75FD-814C-4483-B5D4-02F4E0CC54E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5BCB-A440-4EBE-BABD-8E04465C881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B38A-DBBA-43CA-A725-5F4599122FD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3F97-DDF3-4FC6-9AFA-362DDCBCAE4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8F27-D9E3-4FC4-9D29-9169A8C3DA8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8DC2-6A61-4396-AC11-CC7EE5DEF52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1ECC-8AE9-486F-A271-8E4D73A1A79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393A-9CB8-460F-9D64-0E8445A6264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A696-46D5-4E7A-A1F9-DFFFB486796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D2D5-7DBC-45F6-A7E4-CCE29BEC8C2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1996-8FD8-4353-9026-8501E268954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2364-DB40-4704-8E44-A49742385E4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729C-8AB6-4286-82FB-1DE4B0ED5FC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E6CB-2930-4EE5-967A-B67F7B99416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1977-A208-4B9C-9391-5EA272A8295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8EE2-2FE6-4D1E-8E36-40374137719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E34C-244C-47BF-ADAF-41BA257D622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92CE-CC70-4667-AEEA-FD08FBFE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B0EE-5C77-490E-90C5-50E95671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C2FB-1B3E-4393-A798-A229EF5C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284F-64A9-4206-9477-FE925855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1FB-C695-4438-B712-15CD3300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EF66-2092-4DCA-A52A-00DCA374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E37-4C56-49A5-A8F1-BF3C8D42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5D5-F72B-4774-AAC8-3EAF9C20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AB28-6261-4E10-B4DD-6717FC27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BEB1-2A60-4D59-9161-6DF9F202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CAF-FD6D-400B-9304-AF02941E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97E9-717F-4968-BD72-D7ED880E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F77F-8A20-4C0A-A377-ABF49C3186AA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sk-SK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</a:t>
            </a:r>
            <a:br>
              <a:rPr sz="4400"/>
            </a:br>
            <a:r>
              <a:rPr b="1" lang="sk-SK" sz="4400" spc="-1" strike="noStrike">
                <a:solidFill>
                  <a:srgbClr val="ffff00"/>
                </a:solidFill>
                <a:latin typeface="Arial"/>
              </a:rPr>
              <a:t>dýchacieho systému</a:t>
            </a:r>
            <a:br>
              <a:rPr sz="4400"/>
            </a:br>
            <a:br>
              <a:rPr sz="2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Ján Jakuš</a:t>
            </a:r>
            <a:br>
              <a:rPr sz="4000"/>
            </a:b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3508200" y="709560"/>
            <a:ext cx="48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Dum spiro, spero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7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Úloha bránice, medzirebrových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a prídatných dýchacích svalov 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(model-Paralelogram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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bránica </a:t>
            </a:r>
            <a:br>
              <a:rPr sz="24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prídatné svaly             </a:t>
            </a: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medzirebrové (interkostálne) svaly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20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(auxiliárne)                                  </a:t>
            </a:r>
            <a:r>
              <a:rPr b="1" i="1" lang="sk-SK" sz="2400" spc="-1" strike="noStrike">
                <a:solidFill>
                  <a:srgbClr val="ffffcc"/>
                </a:solidFill>
                <a:latin typeface="Arial"/>
              </a:rPr>
              <a:t>vonkajšie -inspiračné           </a:t>
            </a:r>
            <a:br>
              <a:rPr sz="2400"/>
            </a:br>
            <a:r>
              <a:rPr b="1" i="1" lang="sk-SK" sz="24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vnútorné  - exspiračné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3" descr="lungs"/>
          <p:cNvPicPr/>
          <p:nvPr/>
        </p:nvPicPr>
        <p:blipFill>
          <a:blip r:embed="rId1"/>
          <a:stretch/>
        </p:blipFill>
        <p:spPr>
          <a:xfrm>
            <a:off x="1042920" y="1700280"/>
            <a:ext cx="2819520" cy="350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4052880" cy="33544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5"/>
          <p:cNvSpPr/>
          <p:nvPr/>
        </p:nvSpPr>
        <p:spPr>
          <a:xfrm>
            <a:off x="7667640" y="1052640"/>
            <a:ext cx="217440" cy="360360"/>
          </a:xfrm>
          <a:prstGeom prst="downArrow">
            <a:avLst>
              <a:gd name="adj1" fmla="val 50000"/>
              <a:gd name="adj2" fmla="val 4143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867280" y="1341360"/>
            <a:ext cx="50508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7956720" y="98100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8893080" y="1484280"/>
            <a:ext cx="250920" cy="504720"/>
          </a:xfrm>
          <a:custGeom>
            <a:avLst/>
            <a:gdLst>
              <a:gd name="textAreaLeft" fmla="*/ 35640 w 250920"/>
              <a:gd name="textAreaRight" fmla="*/ 215280 w 250920"/>
              <a:gd name="textAreaTop" fmla="*/ 288360 h 504720"/>
              <a:gd name="textAreaBottom" fmla="*/ 432720 h 504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Bránica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lavný inspiračný sval,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odpovedá za 60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% zmeny objem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hrudníka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Počas pokojného dýchania klesá kaudálnym smerom asi o 1,5 cm, pri hlbokom nádychu však až o 7-13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cm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Mm.intercostales externi</a:t>
            </a:r>
            <a:r>
              <a:rPr b="1" i="1" lang="sk-SK" sz="3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i kontrakci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väčšenie predozadného 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priečn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 priemeru hrudní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vdych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m. intercostales interni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i kontrak-ci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okles rebier a zmenšenie priemeru hrudní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výdych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kojné 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nspírium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aktív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y dej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kojné e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xspírium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evažne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asív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y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Pokojný vý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spôsobený pasívnym vytláčaním bránice smerom nahor a retrakčnou silou hrudného koša a pľúc</a:t>
            </a:r>
            <a:br>
              <a:rPr sz="4000"/>
            </a:br>
            <a:br>
              <a:rPr sz="4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Úsilný v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kontrakcia bránice </a:t>
            </a:r>
            <a:br>
              <a:rPr sz="40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. Intercostales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ext. a prídatných inspiračných svalov (krku a hrudník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).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Úsilný vý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kontrakcia brušných svalov (brušný lis) a mm.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intercostales interni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Mechanizmus pľúcnej ventilácie: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KOJNÉ INSPÍRIUM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kontrakcia bránice a  vonkajších medzir. svalov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negativita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negativita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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vznik tlakového gradientu (zvonka-dovnútra)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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inspiračný prietok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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inspiračný pľúcny objem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KOJNÉ EXSPÍRIUM:</a:t>
            </a:r>
            <a:br>
              <a:rPr sz="3200"/>
            </a:br>
            <a:r>
              <a:rPr b="1" i="1" lang="sk-SK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asívny pohyb bránice nahor a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retrakčná sila pľúc a hrudníka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ľahko pozitívny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pri malej negativite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znik tlakového gradientu (zvnútra-navonok)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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exspiračný prietok vzduchu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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exspiračný pľúcny objem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ÚSILNÉ INSPÍRIUM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 (práca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cvičenie)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:</a:t>
            </a:r>
            <a:br>
              <a:rPr sz="32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osilnenie sťahu bránice spolu s kontrakciou tzv. auxiliárnych inspiračných svalov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äčšia negativita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,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výšenie inspiračného prietoku vzduchu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zvýšenie množstva vdýchnutého pľúcneho objemu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ÚSILNÉ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EXSPÍRIUM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kašeľ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Kontrakci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brušných svalov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nútorných medzir.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alov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ozitívne hodnoty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Abd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,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 ,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veľký exspiračný prietok vzduch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veľký exspirovaný objem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ázna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pleurálneho tlaku, intrapulmonálneho tlaku, prietoku vzduchu a dychového objemu počas pokojného inspíria (insp) a exspíria (exsp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528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úcne objemy</a:t>
            </a: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dychový objem (tidal volume V</a:t>
            </a:r>
            <a:r>
              <a:rPr b="1" i="1" lang="sk-SK" sz="28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T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= 0,5 l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inspira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ý rezervný objem (IRV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 = 2,5 l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exspira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ý rezervný objem (ERV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= 1,0 l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reziduálny objem (RV)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                 = 1,2 l</a:t>
            </a:r>
            <a:br>
              <a:rPr sz="3200"/>
            </a:b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cc"/>
                </a:solidFill>
                <a:latin typeface="Arial Narrow"/>
              </a:rPr>
              <a:t> (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kolapsový vzduch 0,4 l + minimálny vzduch 0,8 l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050920" y="3141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3348000" y="38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a4"/>
                </a:solidFill>
                <a:latin typeface="Times New Roman"/>
              </a:rPr>
              <a:t>IR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18" descr="Obrázok2"/>
          <p:cNvPicPr/>
          <p:nvPr/>
        </p:nvPicPr>
        <p:blipFill>
          <a:blip r:embed="rId1"/>
          <a:stretch/>
        </p:blipFill>
        <p:spPr>
          <a:xfrm>
            <a:off x="468360" y="2997360"/>
            <a:ext cx="7920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úcne  kapacity</a:t>
            </a:r>
            <a:br>
              <a:rPr sz="36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itálna kapacita p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úc (V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+ IRV + ERV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Inspir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ná kapacita (I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   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IRV 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Funk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ná reziduál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kapacita (FR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ER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RV 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elko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kapaci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pľúc (TL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vš. o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bjem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o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br>
              <a:rPr sz="3100"/>
            </a:br>
            <a:br>
              <a:rPr sz="31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887480" y="23990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6" descr="Obrázok2"/>
          <p:cNvPicPr/>
          <p:nvPr/>
        </p:nvPicPr>
        <p:blipFill>
          <a:blip r:embed="rId1"/>
          <a:stretch/>
        </p:blipFill>
        <p:spPr>
          <a:xfrm>
            <a:off x="539640" y="2781360"/>
            <a:ext cx="80647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oddajnosť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pľúc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 (compliance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- C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je 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zmena objemu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(v l) sp</a:t>
            </a:r>
            <a:r>
              <a:rPr b="1" i="1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ô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sobená  zmenou tlaku (v kPa)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</a:rPr>
              <a:t> :</a:t>
            </a:r>
            <a:br>
              <a:rPr sz="4000"/>
            </a:br>
            <a:br>
              <a:rPr sz="40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N = 2l /kP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dosp.človek</a:t>
            </a:r>
            <a:br>
              <a:rPr sz="2800"/>
            </a:br>
            <a:br>
              <a:rPr sz="28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Fibróza </a:t>
            </a: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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 </a:t>
            </a:r>
            <a:br>
              <a:rPr sz="2800"/>
            </a:br>
            <a:br>
              <a:rPr sz="28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Emfyzém</a:t>
            </a:r>
            <a:br>
              <a:rPr sz="28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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                       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u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a dynamickej poddajnosti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743200" y="2025720"/>
            <a:ext cx="5867280" cy="36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Slu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ka celkového prúdového odporu dýchacích ciest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(počítame ako pomer tlaku a prietoku)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(kPa .l .s</a:t>
            </a:r>
            <a:r>
              <a:rPr b="1" i="1" lang="sk-SK" sz="36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-1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astma bronchiale</a:t>
            </a: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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aw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rozšírenie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dýchacích ciest</a:t>
            </a: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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aw</a:t>
            </a: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41148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Fyziologia vonkajšieho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 vnútorného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dýchania</a:t>
            </a:r>
            <a:br>
              <a:rPr sz="4000"/>
            </a:br>
            <a:br>
              <a:rPr sz="4000"/>
            </a:br>
            <a:r>
              <a:rPr b="1" lang="sk-SK" sz="36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Definícia: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Dýchanie (respirácia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jedna z troch základných „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vitálnych“ funkcií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ivého organizmu. Je to pe-riodický a rytmický proces vdycho-vania vzduchu (inspírium) a jeho vy-dychovania (exspírium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z dýchacích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ciest a  z  p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úc, ktorý za 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dú minú-tu zabezpe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uje dospelému organiz-mu v kľude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rísun 250 ml 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 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odsun 200 ml C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, potrebných na pokrytie jeho metabolických p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iadaviek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6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entilácia pľúc a distribúcia vzduchu</a:t>
            </a:r>
            <a:br>
              <a:rPr sz="4000"/>
            </a:br>
            <a:br>
              <a:rPr sz="40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Minútová ventilácia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MV =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T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. f</a:t>
            </a:r>
            <a:br>
              <a:rPr sz="3100"/>
            </a:b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Alveolárna ventilácia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AV = M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 – (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. f)</a:t>
            </a: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= 150 ml – mŕtvy objem)</a:t>
            </a:r>
            <a:br>
              <a:rPr sz="3100"/>
            </a:b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U dosp. človeka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pri  dychovom  objeme (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T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 500 ml a  frekvencii  dýchania  (f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 12 dychov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redstavu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minútová ventilácia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6  l.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, z čoho n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lveolárnu ventiláciu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ripadá 4,2 l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Maximálna voluntárna ventilácia  (MMV )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je najväčší objem vzduchu preventilovaný pľú-cami za 1 minútu (120-170 l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.</a:t>
            </a: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5268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a -Placeov zákon a úloha surfaktantu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2" descr="F:\ OPAVA obr. Fyziol\aplikacia Laplaceovho zakona ....jpg"/>
          <p:cNvPicPr/>
          <p:nvPr/>
        </p:nvPicPr>
        <p:blipFill>
          <a:blip r:embed="rId1"/>
          <a:stretch/>
        </p:blipFill>
        <p:spPr>
          <a:xfrm>
            <a:off x="611280" y="2781360"/>
            <a:ext cx="8281800" cy="367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:\ OPAVA obr. Fyziol\Laplaceov zakon.jpg"/>
          <p:cNvPicPr/>
          <p:nvPr/>
        </p:nvPicPr>
        <p:blipFill>
          <a:blip r:embed="rId2"/>
          <a:stretch/>
        </p:blipFill>
        <p:spPr>
          <a:xfrm>
            <a:off x="2484360" y="1197000"/>
            <a:ext cx="41036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tmosferický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vzduch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=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zmes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O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20,93%), </a:t>
            </a: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CO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(0,03 %), N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78,06 %), He a i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stopov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ly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ov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0,92%) a vod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á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r. 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arciálch vne tlaky plynov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závisia od atmosférického tlaku (P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B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.Tento tlak klesá pri výstupe do výšok a s nim klesajú aj parciálne tlaky plynov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.</a:t>
            </a: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ri atmosferickom tlaku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101,3 kPa (760 torr ,1 atm,) a 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tlaku vodných pár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0,8 kPa (suchý vzduch)  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arciálny tlak  P0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21,06 kPa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</a:rPr>
              <a:t>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0,04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kPa</a:t>
            </a: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Daltonov zákon</a:t>
            </a:r>
            <a:br>
              <a:rPr sz="40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latí</a:t>
            </a:r>
            <a:r>
              <a:rPr b="1" lang="sk-S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re v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ýpočet parciálnych tlakov dýchacích plynov v zmesi plynov : „čím vyššia je koncentrácia  plynu v zmesi plynov, tým väčší je jeho parciálny tlak“</a:t>
            </a:r>
            <a:br>
              <a:rPr sz="3200"/>
            </a:br>
            <a:br>
              <a:rPr sz="3200"/>
            </a:b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= V% 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x ( P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B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- PH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) / 100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apr. PO</a:t>
            </a:r>
            <a:r>
              <a:rPr b="1" lang="sk-SK" sz="3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v atmosferickom vzduchu pri hladine mora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j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e :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= 20,93 x (101,3 – 0,8) / 100 = 21,06 (kP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Obdobne počítam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0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PC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,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N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aj v alve-olárnom príp. v exspirovanom vzduchu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Zastúpenie 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,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(v obj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%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a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ich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parc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tlaky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 kPa), spolu s parc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tlakom H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O, N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tm, v exspir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lveol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vzduchu, ako aj v artério-vej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 venóznej krvi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" y="1828800"/>
          <a:ext cx="8686800" cy="4883040"/>
        </p:xfrm>
        <a:graphic>
          <a:graphicData uri="http://schemas.openxmlformats.org/drawingml/2006/table">
            <a:tbl>
              <a:tblPr/>
              <a:tblGrid>
                <a:gridCol w="1514520"/>
                <a:gridCol w="1058760"/>
                <a:gridCol w="1060560"/>
                <a:gridCol w="1060560"/>
                <a:gridCol w="1058760"/>
                <a:gridCol w="1257120"/>
                <a:gridCol w="1676520"/>
              </a:tblGrid>
              <a:tr h="87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C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H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N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Pa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PC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mosf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(suchý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20,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0,03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0,8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9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,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2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,0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0,04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xspir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5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4,3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5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5,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5,7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lveolár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3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,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13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5,3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rtériov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9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0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Arial Narrow"/>
                          <a:ea typeface="Arial"/>
                        </a:rPr>
                        <a:t>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2,7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5,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Arial Narrow"/>
                          <a:ea typeface="Arial"/>
                        </a:rPr>
                        <a:t>0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enóz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4-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5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5,2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6,1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Line 199"/>
          <p:cNvSpPr/>
          <p:nvPr/>
        </p:nvSpPr>
        <p:spPr>
          <a:xfrm flipV="1">
            <a:off x="8317080" y="4581000"/>
            <a:ext cx="0" cy="205740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234"/>
          <p:cNvSpPr/>
          <p:nvPr/>
        </p:nvSpPr>
        <p:spPr>
          <a:xfrm>
            <a:off x="6300720" y="4581360"/>
            <a:ext cx="0" cy="190512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ýmena dýchacích plynov</a:t>
            </a:r>
            <a:r>
              <a:rPr b="1" i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cez alve-olokapilárnu membránu prebieha formou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difúzie,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ktorá závisí od parciálnych tlakov jednotlivých plynov (O</a:t>
            </a:r>
            <a:r>
              <a:rPr b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a CO</a:t>
            </a:r>
            <a:r>
              <a:rPr b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) v alveolárnom vzduchu a v kapilárnom pľúcnom riečišti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100"/>
            </a:br>
            <a:br>
              <a:rPr sz="31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Pri difúzii: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lakový gradient pre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= 13,4 – 5,2 =  8 (kPa)  t.j.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= 100 – 40 = 60 (torr)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lakový gradient 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pre C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=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6,13–5,33 = 0,8 (kPa)  t.j.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C0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= 46 - 40 = 6 (torr)</a:t>
            </a:r>
            <a:br>
              <a:rPr sz="36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fúzia plynov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v pľúcach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- morfológia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4" descr="fig15-3"/>
          <p:cNvPicPr/>
          <p:nvPr/>
        </p:nvPicPr>
        <p:blipFill>
          <a:blip r:embed="rId1"/>
          <a:stretch/>
        </p:blipFill>
        <p:spPr>
          <a:xfrm>
            <a:off x="304920" y="1143000"/>
            <a:ext cx="83818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fúzia plynov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cez alveolokapilárnu membránu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Picture 3" descr="diffusion"/>
          <p:cNvPicPr/>
          <p:nvPr/>
        </p:nvPicPr>
        <p:blipFill>
          <a:blip r:embed="rId1"/>
          <a:stretch/>
        </p:blipFill>
        <p:spPr>
          <a:xfrm>
            <a:off x="684360" y="1341360"/>
            <a:ext cx="815328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fúzi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a C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cez alveolokapilárnu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(AK)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embránu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a riadi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Fickov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y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zákon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o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 = 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(P</a:t>
            </a:r>
            <a:r>
              <a:rPr b="1" lang="sk-SK" sz="3600" spc="-1" strike="noStrike" u="sng" baseline="-30000">
                <a:solidFill>
                  <a:srgbClr val="ffff00"/>
                </a:solidFill>
                <a:uFillTx/>
                <a:latin typeface="Arial"/>
                <a:ea typeface="Arial"/>
              </a:rPr>
              <a:t>1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– P</a:t>
            </a:r>
            <a:r>
              <a:rPr b="1" lang="sk-SK" sz="3600" spc="-1" strike="noStrike" u="sng" baseline="-30000">
                <a:solidFill>
                  <a:srgbClr val="ffff00"/>
                </a:solidFill>
                <a:uFillTx/>
                <a:latin typeface="Arial"/>
                <a:ea typeface="Arial"/>
              </a:rPr>
              <a:t>2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) . 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</a:rPr>
              <a:t>A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. k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s</a:t>
            </a:r>
            <a:br>
              <a:rPr sz="36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kd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</a:t>
            </a:r>
            <a:r>
              <a:rPr b="1" i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a P</a:t>
            </a:r>
            <a:r>
              <a:rPr b="1" i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ú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parciál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tlak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y plynov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difúzna p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locha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(70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i="1" lang="sk-SK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 baseline="30000">
                <a:solidFill>
                  <a:srgbClr val="ffffff"/>
                </a:solidFill>
                <a:latin typeface="Arial"/>
              </a:rPr>
              <a:t>)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s 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hrúbka membrány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0,8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um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difúzna konštanta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Difúzna konštanta -k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závisí od zloženia mem-brány a druhu difundujúceho plynu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pr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je rýchlosť difúzie 20-krát väčšia ako pr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napr.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V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= 15 – 20 ml / min.</a:t>
            </a:r>
            <a:br>
              <a:rPr sz="36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a VCO2=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350 – 400 ml/ min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ynamika difúzie cez AK membránu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Picture 3" descr="alveoli"/>
          <p:cNvPicPr/>
          <p:nvPr/>
        </p:nvPicPr>
        <p:blipFill>
          <a:blip r:embed="rId1"/>
          <a:stretch/>
        </p:blipFill>
        <p:spPr>
          <a:xfrm>
            <a:off x="1066680" y="121932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"/>
          <p:cNvSpPr/>
          <p:nvPr/>
        </p:nvSpPr>
        <p:spPr>
          <a:xfrm>
            <a:off x="290520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natómia dýchacieho systému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476360" y="836640"/>
            <a:ext cx="6335640" cy="58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s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5" descr="Cardiorespiratory system"/>
          <p:cNvPicPr/>
          <p:nvPr/>
        </p:nvPicPr>
        <p:blipFill>
          <a:blip r:embed="rId1"/>
          <a:stretch/>
        </p:blipFill>
        <p:spPr>
          <a:xfrm>
            <a:off x="1619280" y="1125360"/>
            <a:ext cx="6048360" cy="50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-316440"/>
            <a:ext cx="8915400" cy="686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Rozpustnosť plynov v krvnej plazme</a:t>
            </a:r>
            <a:br>
              <a:rPr sz="36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Henryho záko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množstvo plynu fyzikálne rozpustného v kvapaline je úmerné parciál-nemu tlaku plynu nad kvapalinou a jeho koe-ficientu rozpustnosti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Množstv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rozpusten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é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v 1 l krvi: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P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1000 /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   = 3,0 ml/l krvi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Množstv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C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v 1l krvi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: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P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1000/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27ml/l krvi.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kde </a:t>
            </a:r>
            <a:r>
              <a:rPr b="1" i="1" lang="sk-SK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koeficient rozpustnosti,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parciálny  tlak  plynu  a  P</a:t>
            </a:r>
            <a:r>
              <a:rPr b="1" i="1" lang="sk-SK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celkový  barometrický  tlak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Koeficient rozpustnosti </a:t>
            </a:r>
            <a:r>
              <a:rPr b="1" lang="sk-SK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pre 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= 0,024 a 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pre 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= 0,57.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Rozpustnosť CO</a:t>
            </a:r>
            <a:r>
              <a:rPr b="1" i="1" lang="sk-SK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v krvi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cca 24x väčšia ako kyslíka.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ERFÚZIA - transport 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a 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krvou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i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fyzikálne rozpustený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v plazm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 che-micky viazaný na hemoglobín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3100"/>
            </a:br>
            <a:br>
              <a:rPr sz="28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1 l artériovej krvi  je  200 ml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, z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oho 3 ml pripadajú na fyzikálne rozpustený 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a 197 ml je chemicky viazané na hemoglobín. </a:t>
            </a: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Fyzikálne rozpustený O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 </a:t>
            </a:r>
            <a:r>
              <a:rPr b="1" i="1" lang="sk-SK" sz="40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→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parciálny tlak</a:t>
            </a:r>
            <a:br>
              <a:rPr sz="3100"/>
            </a:b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i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vystupuje ako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fyzikálne rozpustený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v plazme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a chemicky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viazaný vo forme bikar-bonátov 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karbamino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hemoglobín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V 1 l venóznej krvi je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ml fyzikálne rozpust. C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(v plazme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, zbytok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cc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520 ml je viazaný v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ostatných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dvoch formách. </a:t>
            </a: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26" descr="Malá Hora"/>
          <p:cNvPicPr/>
          <p:nvPr/>
        </p:nvPicPr>
        <p:blipFill>
          <a:blip r:embed="rId1"/>
          <a:srcRect l="0" t="0" r="42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 Black"/>
              </a:rPr>
              <a:t>Prajem Vám pekný deň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49040"/>
            <a:ext cx="8763120" cy="61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Hlavn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á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funkci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dýchania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4000"/>
            </a:br>
            <a:br>
              <a:rPr sz="4000"/>
            </a:b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roces výmeny plynov medzi bunkami a vonkaj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š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ím prostredím, t.j. transport kyslíka z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vonkajšieho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 vzduchu do buniek tela a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odvod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 oxidu uhli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itého z buniek do atmosféry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ýchanie  vonkajšie a vnútorné :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40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héma respirácie</a:t>
            </a: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58200" cy="39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3416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onkajšie dýchanie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zahrňuje 4 hlavné procesy:</a:t>
            </a:r>
            <a:br>
              <a:rPr sz="4000"/>
            </a:b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pľúcnu ventiláciu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distribúciu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 vzduchu(miešanie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difúziu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 plynov</a:t>
            </a:r>
            <a:br>
              <a:rPr sz="4000"/>
            </a:br>
            <a:r>
              <a:rPr b="0" lang="sk-SK" sz="40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erfúziu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pľúc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transport dýcha- </a:t>
            </a:r>
            <a:br>
              <a:rPr sz="4000"/>
            </a:b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                         cích plynov krvo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0480"/>
            <a:ext cx="8915400" cy="67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entilác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cyklick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ýme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zduchu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ľúcach počas vdych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inspíria) a výdych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exspíria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zabezpečená kontrakciou dýchacích svalov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istribúc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iešanie inspirovaného vzduchu so vzduchom, ktorý zostal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 dýchacích cestách a v pľúcach 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o výdych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150 ml = anatomický mŕtvy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iestor u dospelého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ifúz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estup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 C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 smere tlakového gradientu cez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alveo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lokapilárn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embrán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(Fickov zákon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erfúz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cirkuláci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krvi pľúcnym riečišťom –transport plynov krvou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nútorné dýchanie, resp. tkanivová respiráci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edstavuje difúzi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 C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 medzi krvou a tkanivami v smere gradientu parciálnych tlakov na urovni kapilár.</a:t>
            </a:r>
            <a:br>
              <a:rPr sz="3600"/>
            </a:br>
            <a:r>
              <a:rPr b="1" lang="sk-SK" sz="3600" spc="-1" strike="noStrike" u="sng">
                <a:solidFill>
                  <a:srgbClr val="ffffff"/>
                </a:solidFill>
                <a:uFillTx/>
                <a:latin typeface="Arial"/>
              </a:rPr>
              <a:t>Vonkajšie (pľúcne) a vnútorné (tkanivové)</a:t>
            </a:r>
            <a:r>
              <a:rPr b="1" lang="sk-SK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s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vyžadujú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normáln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funkciu kardiovaskulárn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(KV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aparát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entrál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nervov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é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systé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– CNS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mozog a miech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724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Mechanika dýchania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odnotí činnosť dých. svalov, hrudného koša a pľúc pre dýchaní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 u="sng">
                <a:solidFill>
                  <a:srgbClr val="ffffcc"/>
                </a:solidFill>
                <a:uFillTx/>
                <a:latin typeface="Arial"/>
              </a:rPr>
              <a:t>Pľúca nemajú svaly!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údeni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vzduch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v dýc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cestách je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odmienené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ový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rozdiel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o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medzi atmosférou a alveolami.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Inspírium -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 v alveolách pľúcnych je ni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í ako v atmosfére 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xspírium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 v alveolách pľúc prevy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uje atmosferický tlak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.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spontánne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je „podtlakové“.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Umelé 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je „pretlakové“.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dtlak a pretlak v hrudník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– sú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výsledkom kontrakcie dých. svalov : bránice (diaphragma) a svalov medzi-rebrových (vonkajších a vnútorných)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10Z</dcterms:modified>
  <cp:revision>334</cp:revision>
  <dc:subject/>
  <dc:title>Úvod</dc:title>
</cp:coreProperties>
</file>