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4130-1E57-4B1C-BFC1-42D4EA1F999B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060B-988E-474A-A208-9381B2B7FD1E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EA6C-7905-47C6-8605-44991120FC2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B17D-0B54-4222-9480-4B406A1D4D62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6CC2-BF24-4A1B-80CA-959CB2AF899E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6EA1-2B95-4D32-83B1-A0FAD6D3D482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E163-81AA-46B7-86FA-1C32F27A8C2B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8A49-0219-404E-872B-C2D677B71ACD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5EDD-79A6-467D-A385-FF8B0EBDA61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7FFF-19A3-4251-8FA1-35FEC1F1559E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14E2-DD3B-4532-B636-AF05D85A623E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001B-6B7D-479E-A831-68E0F2AF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C134-8F56-4E5B-AC72-B23753D0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751C-7B2E-4F3C-BF97-214A1FC8F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1670-80FC-4E72-8B61-CA320C65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E28E-81C0-4D0A-9B47-2DB45DEE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D54E-3474-49A4-84D5-155EE00D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D49C-173F-4CD5-AA33-C60F2518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BFB5-7F23-468F-BBCB-F7AF2061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31A2-3F59-46A8-B8BF-A7DC19A0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F862-6C28-4F7E-A5BB-523F20A6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1505-B1C2-411C-81E7-7E391807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4681-C403-4B85-A383-33ED0092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624E-996C-41A9-A4D7-C7D807AB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7363-AF9D-405E-90BB-68FEBD60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E4D0-DF0A-4CD2-BC3C-EE562D82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F02B-EB4C-4C10-BAD6-8ED88B85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9034-8468-407F-B858-A19AE428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47B9-64EF-4729-B8C7-8B5533F5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510A-6711-48D2-B361-7A90B470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4D2A-C533-4681-A1F8-C609ECDB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4403-31E2-4B7C-9D33-A309AD5A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6B25-3534-4F58-B91C-0029CDB8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DC31-7CF7-497F-982F-F63FE283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CE73-115B-4E28-A771-7DE8EC1B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0099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506E-D0BC-4CA8-ACDA-00472C858E09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0099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AC4A-C592-4CD9-952D-997AB3F431A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483920"/>
            <a:ext cx="7696080" cy="30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 sluchu</a:t>
            </a:r>
            <a:r>
              <a:rPr b="1" lang="sk-SK" sz="44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  </a:t>
            </a:r>
            <a:br>
              <a:rPr sz="7200"/>
            </a:br>
            <a:br>
              <a:rPr sz="72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r>
              <a:rPr b="1" lang="sk-SK" sz="72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 </a:t>
            </a:r>
            <a:endParaRPr b="0" lang="en-US" sz="72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6360" cy="724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renos zvuku vnútorným uchom</a:t>
            </a:r>
            <a:br>
              <a:rPr sz="36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vuk prichádza d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imáka - Cochle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- cez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válne okienko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imák je rozdelený na 3 časti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: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VESTIBULI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plnená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perilymfou 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torá obsahuj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ššiu koncentráciu Na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  Cl 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–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ónov  a viac  proteíno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,  </a:t>
            </a:r>
            <a:br>
              <a:rPr sz="2800"/>
            </a:b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MEDI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plnená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ndolymfou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torá obsahuje vyššiu konc.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katiónov a menej  Na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nd Cl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óno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Na bazilárnej membráne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Cortiho orgán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s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nútornými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onkaj-šími vláskovými bunkam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.Obe majú na povrchu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tereocílie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nútorné vláskové bunk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s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lastné receptory zvuku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v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nkajš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e 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sobia ak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zosiľňovač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br>
              <a:rPr sz="2800"/>
            </a:b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TYMPANI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vyplnená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perilymfo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600" spc="-1" strike="noStrike">
                <a:solidFill>
                  <a:srgbClr val="ffffff"/>
                </a:solidFill>
                <a:latin typeface="Arial"/>
                <a:ea typeface="Arial"/>
              </a:rPr>
              <a:t>Rozdielne zloženie tekutín umožňuje vznik elektrických zmien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GPs a APs, tiež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endokochleárneho potenciálu v Scala media (+80mV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, kochleárneho mikrofonického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potenciálu ( na celom slimaku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a negat. sumačného potenciálu na vnútorných vlaskových bunkách</a:t>
            </a:r>
            <a:r>
              <a:rPr b="0" lang="sk-SK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2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 vstupe do Vnútorného ucha  zvuk (akustický tla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rozvlní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erilymfu a endolymf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ndolymf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rozkmitá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bazilárnu membrán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a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tereocíl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vláskových buniek.</a:t>
            </a:r>
            <a:br>
              <a:rPr sz="32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tereocílie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sa pohybom endolymfy ohýbajú raz doprav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(hyperpolarizác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raz doľava (depolarizá-ci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Generátorový potenciál (GP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a vytvára z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mikro-fonických potenciálov slimáka a negatívnych sumačných potenciálov  vnútorných vláskových buniek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po vstupe K+  z endolymfy  do vnútorných buniek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!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kčný potenciál (AP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vzniká po sumácii GPs na axónoch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sluchového nerv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s  sú prenášané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uchovým nervo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do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Tempo-rálneho lalok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sluchového kortexu, kde sú spraco-vávané a tu si uvedomujem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kvalitu, silu, farbu a význam zvuku (reč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72" name="Picture 4" descr="Gray756"/>
          <p:cNvPicPr/>
          <p:nvPr/>
        </p:nvPicPr>
        <p:blipFill>
          <a:blip r:embed="rId1"/>
          <a:stretch/>
        </p:blipFill>
        <p:spPr>
          <a:xfrm>
            <a:off x="900000" y="1773360"/>
            <a:ext cx="7345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odľa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BEKESYHO teórie počuti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(1964):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azilárna membrána slúži ak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rekvenčný analyzátor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Vysoké frekvenc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ju rozochvievej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na báze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, blízko Oválneho okienka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de je najužšia</a:t>
            </a:r>
            <a:r>
              <a:rPr b="0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Nízke frekvenc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ju rozochvievajú naj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pri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rchole slimáka – pri helikotrem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kde je membrána najširšia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3600"/>
            </a:b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Slimák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ostenný</a:t>
            </a: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byrint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74" name="Picture 3" descr="250px-Gray923"/>
          <p:cNvPicPr/>
          <p:nvPr/>
        </p:nvPicPr>
        <p:blipFill>
          <a:blip r:embed="rId1">
            <a:grayscl/>
          </a:blip>
          <a:stretch/>
        </p:blipFill>
        <p:spPr>
          <a:xfrm>
            <a:off x="3419640" y="2708280"/>
            <a:ext cx="57243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ucho"/>
          <p:cNvPicPr/>
          <p:nvPr/>
        </p:nvPicPr>
        <p:blipFill>
          <a:blip r:embed="rId1"/>
          <a:stretch/>
        </p:blipFill>
        <p:spPr>
          <a:xfrm>
            <a:off x="900000" y="260280"/>
            <a:ext cx="7417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400" spc="-1" strike="noStrike">
                <a:solidFill>
                  <a:srgbClr val="ffff00"/>
                </a:solidFill>
                <a:latin typeface="Arial"/>
              </a:rPr>
              <a:t>Poruchy sluchu  (hluchota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3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9424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AUDIOMETRIA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umožňuje zistiť 3 druhy porúch sluch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1. Poruchu prevodovú (periférna) –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stihnutý je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 bubienok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/aleb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sluchové kostičky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tredného ucha –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acient nepočuje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hlboké zvuky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nízke frekvenci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2. Poruchu percepčnú (centrálna) –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stihuje buď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ortiho orgán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 v ňom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vláskové bunky, príp. sluchový nerv, alebo sluchový kortex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. Pacient nepoču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ysoké tóny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(s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yššou frekvenciou kmitani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3. Poruchu zmiešan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hrnutie - animáci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4402080" y="3571920"/>
          <a:ext cx="130824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2080" y="3571920"/>
                    <a:ext cx="13082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699320" cy="2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Ďakujem Vám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a pozornosť  ! </a:t>
            </a:r>
            <a:br>
              <a:rPr sz="3600"/>
            </a:b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84" name="Picture 3" descr="Winter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89308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luc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je veĺmi citlivý ľudský zmysel, ktorým vnímame zvuk (reč, hudbu, hluk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  Je to druh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mechanickej energie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(akustický tlak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Arial"/>
              </a:rPr>
              <a:t>, ktorý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vzniká v 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Arial"/>
              </a:rPr>
              <a:t>sledku kmitania molekúl vzduchu, ich zhusťova-nia a zrieďovania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Vo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váku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a zvuk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nešíri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lebo nie sú tam molekuly vzduchu, ktoré by sa rozkmitali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3000"/>
            </a:b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Akustický tlak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– jednotka je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N/m</a:t>
            </a:r>
            <a:r>
              <a:rPr b="0" lang="sk-SK" sz="3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( Pa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Sluchový prah je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2.10</a:t>
            </a:r>
            <a:r>
              <a:rPr b="0" lang="sk-SK" sz="3000" spc="-1" strike="noStrike" baseline="30000">
                <a:solidFill>
                  <a:srgbClr val="ffff00"/>
                </a:solidFill>
                <a:latin typeface="Arial"/>
              </a:rPr>
              <a:t>-5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Pa. (0 d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Rýchlosť zvuku vo vzduch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je cca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330 m/ s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a šíri sa v nom </a:t>
            </a:r>
            <a:r>
              <a:rPr b="0" i="1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pozdĺžnym vlnením,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rovnako aj  v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kvapalinách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kde je však rýchlosť zvuku až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x vyššia.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V pevných látkach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je rýchlosť zvuk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ž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20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x vyššia, šíri sa </a:t>
            </a:r>
            <a:r>
              <a:rPr b="0" i="1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pozdĺžnym aj priečnym vlnením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jeho intenzita  je však nižšia.  </a:t>
            </a:r>
            <a:br>
              <a:rPr sz="3000"/>
            </a:br>
            <a:endParaRPr b="0" lang="en-US" sz="30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61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vuk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: pravidelné (harmonick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- tón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 a nepravi-delné (neharmonick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- hluk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uchom vnímame zvuk v rozsahu od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16 Hz do 20 kH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Najčastejšie vnímame frekvencie od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1500- 4000 Hz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Netopiere, psi, delfíni sú citliví n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ultraz-vu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(f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20 kH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Kmitani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16 Hz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Infrazvuk 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Frekvencia vlnenia udáv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ýšk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tónu, amplitúda vlnenia udáv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hlasitosť. (subjektivne vnímané parametre: výška, hlasitosť zafarbenie zvuku...)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ntenzit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bjektívne vytváraného  zvuku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hladina sily zvuk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sa udáv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v jednotkách B resp. v dB .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ntenzit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ubjektívne vnímaného zvuku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hladina hlasitosti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a udáva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vo fónoch (P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be stupnice- v dB a vo Ph, sa zhodujú len pri frekvencii 1 kHz, kedy je ucho najcitlivejši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í.</a:t>
            </a: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3757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Ucho- schém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8" descr="scan0010"/>
          <p:cNvPicPr/>
          <p:nvPr/>
        </p:nvPicPr>
        <p:blipFill>
          <a:blip r:embed="rId1"/>
          <a:stretch/>
        </p:blipFill>
        <p:spPr>
          <a:xfrm>
            <a:off x="395280" y="692280"/>
            <a:ext cx="845964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372960"/>
            <a:ext cx="9144000" cy="586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</a:t>
            </a: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TÓMIA UCHA </a:t>
            </a:r>
            <a:br>
              <a:rPr sz="3200"/>
            </a:br>
            <a:br>
              <a:rPr sz="32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loženie: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. Vonk.ucho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ušnic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(auricul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)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ucho-vý kanál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vyplnený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mazom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(cerum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chĺpkami.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I. Stredné uc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bubienok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mbran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ympani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 3 kostičky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Maleus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ladivk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ncus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ná-kovka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tapes</a:t>
            </a:r>
            <a:r>
              <a:rPr b="0" lang="sk-SK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strmienok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 okienko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krúhle okienko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2 svaly (m. stapedius  a m. tensor tympani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ustachova trubica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3.5 cm dlhá spája stredné ucho s  faryngom (vyrovnávanie tla-k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možná cesta prenosu infekcie naj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 detí.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II. Vnút. uc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- slimák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chle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or-tiho orgánom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renos zvuku Vonkajším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a  Stredným uchom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onkajšie uch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: sluchová energia je zachytávaná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ušnico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a zvuk sa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šíri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i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vzduchom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až na pevnú membrán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- bubienok-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bí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jeho rozochven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tredné uch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 Zvuk sa prenáša cez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sluchové kostičky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šírenie kosťou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 okienk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ž na tekutinu vnútorného uch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- perilymf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rozochveje drobné blanky tak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ho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ko aj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Okrúhleho okienka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v strednom uch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ýznam Stredného ucha  - zabezpečuje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mpedanč-né prisp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oben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prenosu zvuku medzi vzduchom vonk. ucha a kvapalinou vnút. ucha. Ak by  nebolo stredné ucho s kostičkami - až viac ako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99 %  zvuku by sa odrazil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z perilymfy vnútorného uch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ť do ucha vonkajšie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OUND PERCEPTION</a:t>
            </a: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4084560" y="3619440"/>
          <a:ext cx="19432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4560" y="3619440"/>
                    <a:ext cx="19432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8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 </a:t>
            </a:r>
            <a:br>
              <a:rPr sz="3600"/>
            </a:b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Zloženie vnútorného uch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66" name="Picture 5" descr="scan0035"/>
          <p:cNvPicPr/>
          <p:nvPr/>
        </p:nvPicPr>
        <p:blipFill>
          <a:blip r:embed="rId1"/>
          <a:stretch/>
        </p:blipFill>
        <p:spPr>
          <a:xfrm>
            <a:off x="684360" y="765000"/>
            <a:ext cx="7704000" cy="770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Cortiho orgán - zloženie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68" name="Picture 4" descr="300px-Cochlea-crosssection"/>
          <p:cNvPicPr/>
          <p:nvPr/>
        </p:nvPicPr>
        <p:blipFill>
          <a:blip r:embed="rId2">
            <a:lum contrast="50000"/>
          </a:blip>
          <a:stretch/>
        </p:blipFill>
        <p:spPr>
          <a:xfrm>
            <a:off x="684360" y="1268280"/>
            <a:ext cx="8459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29Z</dcterms:modified>
  <cp:revision>385</cp:revision>
  <dc:subject/>
  <dc:title>Úvod</dc:title>
</cp:coreProperties>
</file>