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C97EE-928C-4DFF-A3BD-A2283123CF41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08F10-1860-4CD1-8485-0D319B320B9C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34967-6CD8-46E8-A08D-0265D59CF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7290A-3CB5-41A9-865C-4D79A6972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05DAD-8D35-4C75-A22B-3B2A2E6EC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1D70D-76AB-41E9-B149-094657B9E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AB0A9-C311-4671-ACC4-BDA9A3EC0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C524B-04F8-467E-A70C-64BD1E766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C2781-D21D-45EE-AE0C-F9D6689F0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65E5F-FD08-4BD8-BF17-9B18A9D6F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76113-F5A2-46DA-A1A1-15A1A0EA0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B9FB0-83E0-4230-BA66-E35981B3A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71F24-BA91-4DDC-BD41-64C085084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327B9-E2EE-48E6-BCCA-938663FF9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F12A2-7EAE-4D1B-9B95-6546FF92D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C7CB9-F93E-4A66-959D-8A44D695B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649C9-1B09-494D-AD1B-322982DE4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269A6-39B8-44C6-BA5C-BBB2F794D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CB5DA-40D0-45FA-86E5-1229D4051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B2852-7F4B-4441-8E9A-774F8B25D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F6665-F42E-41CF-ABCE-669D3E3EE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3429F-5C0E-4757-BA9B-685B74CC6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7E326-423D-4F25-92AB-A5EFF9FAC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3FD9C-7599-4935-A21B-466B63690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15F55-03B9-4F65-AFAD-FB4F03571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6BAEA-B2F9-45A1-A404-0A1E11154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4A630-1C2A-4051-93D5-EE65A0F986DE}" type="slidenum">
              <a:rPr b="0" lang="sk-SK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1" lang="en-US" sz="1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B397E-BA16-4314-8960-6009718861DE}" type="slidenum">
              <a:rPr b="0" lang="sk-SK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1" lang="en-US" sz="1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1844640"/>
            <a:ext cx="9144000" cy="345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Funkcie gastrointestinálneho traktu</a:t>
            </a:r>
            <a:br>
              <a:rPr sz="2800"/>
            </a:br>
            <a:br>
              <a:rPr sz="2800"/>
            </a:br>
            <a:r>
              <a:rPr b="1" lang="sk-SK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Ján Jakuš</a:t>
            </a:r>
            <a:br>
              <a:rPr sz="3600"/>
            </a:br>
            <a:br>
              <a:rPr sz="2800"/>
            </a:br>
            <a:br>
              <a:rPr sz="2800"/>
            </a:b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15640" y="333000"/>
            <a:ext cx="7543800" cy="35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Tráviaci trakt morfológia a funkcie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24000" y="836640"/>
            <a:ext cx="882000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ff00"/>
                </a:solidFill>
                <a:latin typeface="Arial"/>
              </a:rPr>
              <a:t>Tráviaca trubica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: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Dutina ústna,Hltan, Jazyk, Zuby,Jícen, Žalúdok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Dvanástnik,Tenké črevo, Hrubé črevo, rektum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ff00"/>
                </a:solidFill>
                <a:latin typeface="Arial"/>
              </a:rPr>
              <a:t>Prídatné orgány trávenia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: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slinné žlazy(3 páry), játra, žlčník,slinivka brušná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ff00"/>
                </a:solidFill>
                <a:latin typeface="Arial"/>
              </a:rPr>
              <a:t>Stavba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: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sliznica, podslizničná vrstva,hladká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svalovina, pobrušnica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svalovina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(vid obr.s.91 Michalský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ff00"/>
                </a:solidFill>
                <a:latin typeface="Arial"/>
              </a:rPr>
              <a:t>Funkcie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Príjem potrav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Spracovanie potrav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Vstrebávanie živín z potrav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Premena vstrebaných živí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Skladovanie metabolitov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Vylučovanie odpadových látok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9" name="Picture 4" descr="F:\ OPAVA obr. Fyziol\transport potravy v gastrointestinalnom systeme.jpg"/>
          <p:cNvPicPr/>
          <p:nvPr/>
        </p:nvPicPr>
        <p:blipFill>
          <a:blip r:embed="rId1"/>
          <a:stretch/>
        </p:blipFill>
        <p:spPr>
          <a:xfrm>
            <a:off x="5940360" y="2637000"/>
            <a:ext cx="324000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867564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000" spc="-1" strike="noStrike">
                <a:solidFill>
                  <a:srgbClr val="eaeaea"/>
                </a:solidFill>
                <a:latin typeface="Tahoma"/>
              </a:rPr>
              <a:t>     </a:t>
            </a:r>
            <a:br>
              <a:rPr sz="4000"/>
            </a:br>
            <a:r>
              <a:rPr b="1" lang="sk-SK" sz="20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Dutina ústna-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Arial"/>
              </a:rPr>
              <a:t>umožňuje  príjem potravy, jej odhryznutie a rozdrobenie pomocou zubov, premiešavanie jazykom so slinami (hlen-mucín), chemické  trávenie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škrobu: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slinnou alfa – amylázou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Arial"/>
              </a:rPr>
              <a:t> a kontrolu fyzikálnych a chemických vlastností ( chuťové receptory jazyka)  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Množstvo slín: 2l/deň , pH= 6-7    </a:t>
            </a:r>
            <a:endParaRPr b="1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37760" y="1700280"/>
            <a:ext cx="867564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Polykací reflex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: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Arial"/>
              </a:rPr>
              <a:t>podráždením korena jazyka je sústo potravy  zatlačené do jícnu a pohybom priecnej aj pozdĺžnej svaloviny jícnu sa dostane do žalúdka.Centrum reflexu-predlžená miecha, n. IX a X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(Žvýkací reflex, sací reflex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A.Žalúdok</a:t>
            </a:r>
            <a:r>
              <a:rPr b="1" lang="sk-SK" sz="20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–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Arial"/>
              </a:rPr>
              <a:t>obsah 1,5-2 l ,časti :kardia, fundus , pylorus - skladovanie, peristaltické pohyby, mechanické premiešavanie a chemické trávenie potravy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žal. šťavou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Arial"/>
              </a:rPr>
              <a:t>(2-3l/deň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Funkcie žal.šťavy: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HCl, denaturuje bielkoviny,ničí baktéri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mení Fe </a:t>
            </a:r>
            <a:r>
              <a:rPr b="1" lang="sk-SK" sz="2000" spc="-1" strike="noStrike" baseline="30000">
                <a:solidFill>
                  <a:srgbClr val="ffff00"/>
                </a:solidFill>
                <a:latin typeface="Arial"/>
                <a:ea typeface="Arial"/>
              </a:rPr>
              <a:t>3+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na Fe</a:t>
            </a:r>
            <a:r>
              <a:rPr b="1" lang="sk-SK" sz="2000" spc="-1" strike="noStrike" baseline="30000">
                <a:solidFill>
                  <a:srgbClr val="ffff00"/>
                </a:solidFill>
                <a:latin typeface="Arial"/>
                <a:ea typeface="Arial"/>
              </a:rPr>
              <a:t>2+ 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 viaže Ca</a:t>
            </a:r>
            <a:r>
              <a:rPr b="1" lang="sk-SK" sz="2000" spc="-1" strike="noStrike" baseline="30000">
                <a:solidFill>
                  <a:srgbClr val="ffff00"/>
                </a:solidFill>
                <a:latin typeface="Arial"/>
                <a:ea typeface="Arial"/>
              </a:rPr>
              <a:t>2+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ako CaCl</a:t>
            </a:r>
            <a:r>
              <a:rPr b="1" lang="sk-SK" sz="2000" spc="-1" strike="noStrike" baseline="-25000">
                <a:solidFill>
                  <a:srgbClr val="ffff00"/>
                </a:solidFill>
                <a:latin typeface="Arial"/>
                <a:ea typeface="Arial"/>
              </a:rPr>
              <a:t>2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 ,aktivuje Pepsino-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gen na Pepsín ( tento rozkladá  biekoviny na peptidy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Vyprázdňovanie žalúdka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–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Arial"/>
              </a:rPr>
              <a:t>tzv.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Pylorickou pumpou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Arial"/>
              </a:rPr>
              <a:t>, vylučovanie natráveniny ( chymusu) do dvanástnika </a:t>
            </a:r>
            <a:r>
              <a:rPr b="1" lang="sk-SK" sz="20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Enterogastrickým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reflexom </a:t>
            </a:r>
            <a:r>
              <a:rPr b="1" lang="sk-SK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(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Arial"/>
              </a:rPr>
              <a:t>pylorus sa nakrátko uzavrie ,ked sa chymus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Arial"/>
              </a:rPr>
              <a:t>dostane do dvanástnika a posunie do jejuna.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2" name="Picture 5" descr="F:\ OPAVA obr. Fyziol\absorpcia zeleza prijateho v potrave.jpg"/>
          <p:cNvPicPr/>
          <p:nvPr/>
        </p:nvPicPr>
        <p:blipFill>
          <a:blip r:embed="rId1"/>
          <a:stretch/>
        </p:blipFill>
        <p:spPr>
          <a:xfrm>
            <a:off x="7524720" y="3716280"/>
            <a:ext cx="170676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404640"/>
            <a:ext cx="9144000" cy="60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     </a:t>
            </a:r>
            <a:br>
              <a:rPr sz="3600"/>
            </a:br>
            <a:br>
              <a:rPr sz="2400"/>
            </a:br>
            <a:r>
              <a:rPr b="1" lang="sk-SK" sz="24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1" lang="sk-SK" sz="2400" spc="-1" strike="noStrike" u="sng">
                <a:solidFill>
                  <a:srgbClr val="ffff00"/>
                </a:solidFill>
                <a:uFillTx/>
                <a:latin typeface="Arial"/>
              </a:rPr>
              <a:t>Duodenum (dvanástnik)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-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je na začiatku tenkého čreva,pokračzje 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jejunom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 a konči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ileom.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Do duodena v mieste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Vaterskej papily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( 4) sa vlieva žlč cez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ductus choledochus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(5) a pankreatická štava  cez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ductus pancrea-</a:t>
            </a:r>
            <a:br>
              <a:rPr sz="2000"/>
            </a:b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ticus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 (6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). </a:t>
            </a:r>
            <a:r>
              <a:rPr b="1" lang="sk-SK" sz="2000" spc="-1" strike="noStrike" u="sng">
                <a:solidFill>
                  <a:srgbClr val="ffff00"/>
                </a:solidFill>
                <a:uFillTx/>
                <a:latin typeface="Arial"/>
              </a:rPr>
              <a:t> I.  Žlč</a:t>
            </a:r>
            <a:r>
              <a:rPr b="1" lang="sk-SK" sz="2000" spc="-1" strike="noStrike" u="sng">
                <a:solidFill>
                  <a:srgbClr val="ffffff"/>
                </a:solidFill>
                <a:uFillTx/>
                <a:latin typeface="Arial"/>
              </a:rPr>
              <a:t>-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tvori sa v  jatrech  0.8-1 l/den, žlutohnedej farby  usklad-ňuje v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žlčníku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 (7), obsahuje: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žlčové kyseliny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 (cholová, deoxycholová), vyzrážajú tuky v (emulgácia).</a:t>
            </a:r>
            <a:br>
              <a:rPr sz="2000"/>
            </a:br>
            <a:endParaRPr b="1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-324360" y="1773000"/>
            <a:ext cx="9450360" cy="52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ahoma"/>
              </a:rPr>
              <a:t>                                            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Tahoma"/>
              </a:rPr>
              <a:t>2) Bilirubín </a:t>
            </a:r>
            <a:r>
              <a:rPr b="0" lang="sk-SK" sz="2000" spc="-1" strike="noStrike">
                <a:solidFill>
                  <a:srgbClr val="ffffff"/>
                </a:solidFill>
                <a:latin typeface="Arial"/>
                <a:ea typeface="Tahoma"/>
              </a:rPr>
              <a:t>(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Tahoma"/>
              </a:rPr>
              <a:t>produkt žltej farby  z rozpadu Hemoglobínu) ak sa dostane do krvi vzniká</a:t>
            </a:r>
            <a:r>
              <a:rPr b="0" lang="sk-SK" sz="2000" spc="-1" strike="noStrike">
                <a:solidFill>
                  <a:srgbClr val="ffffff"/>
                </a:solidFill>
                <a:latin typeface="Arial"/>
                <a:ea typeface="Tahoma"/>
              </a:rPr>
              <a:t>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Tahoma"/>
              </a:rPr>
              <a:t>Icteru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Tahoma"/>
              </a:rPr>
              <a:t>                                                     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Tahoma"/>
              </a:rPr>
              <a:t>3) Bikarbonát, voda, ióny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Tahoma"/>
              </a:rPr>
              <a:t>(pH=8,5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Tahoma"/>
              </a:rPr>
              <a:t>                     </a:t>
            </a:r>
            <a:r>
              <a:rPr b="1" lang="sk-SK" sz="2000" spc="-1" strike="noStrike" u="sng">
                <a:solidFill>
                  <a:srgbClr val="ffff00"/>
                </a:solidFill>
                <a:uFillTx/>
                <a:latin typeface="Arial"/>
                <a:ea typeface="Tahoma"/>
              </a:rPr>
              <a:t>II. Pankreatická štava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Tahoma"/>
              </a:rPr>
              <a:t>: 1-2 l/den, bezfarebná,pH =8,2), obsahuje: </a:t>
            </a:r>
            <a:r>
              <a:rPr b="1" lang="sk-SK" sz="2000" spc="-1" strike="noStrike" u="sng">
                <a:solidFill>
                  <a:srgbClr val="ffff00"/>
                </a:solidFill>
                <a:uFillTx/>
                <a:latin typeface="Arial"/>
                <a:ea typeface="Tahoma"/>
              </a:rPr>
              <a:t>I.Proteolytické enzýmy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Tahoma"/>
              </a:rPr>
              <a:t>( trypsinogén→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Tahoma"/>
              </a:rPr>
              <a:t>trypsín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Tahoma"/>
              </a:rPr>
              <a:t>, chymotrypsinogén→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Tahoma"/>
              </a:rPr>
              <a:t>chy-motrypsin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Tahoma"/>
              </a:rPr>
              <a:t>),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Tahoma"/>
              </a:rPr>
              <a:t>karboxipeptidáz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Tahoma"/>
              </a:rPr>
              <a:t>a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Tahoma"/>
              </a:rPr>
              <a:t>    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Tahoma"/>
              </a:rPr>
              <a:t>elastáza-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Tahoma"/>
              </a:rPr>
              <a:t>všetky štiepia bielkoviny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Tahoma"/>
              </a:rPr>
              <a:t>    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Tahoma"/>
              </a:rPr>
              <a:t>a peptidy na aminokyselin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Tahoma"/>
              </a:rPr>
              <a:t>    </a:t>
            </a:r>
            <a:r>
              <a:rPr b="1" lang="sk-SK" sz="2000" spc="-1" strike="noStrike" u="sng">
                <a:solidFill>
                  <a:srgbClr val="ffff00"/>
                </a:solidFill>
                <a:uFillTx/>
                <a:latin typeface="Arial"/>
                <a:ea typeface="Tahoma"/>
              </a:rPr>
              <a:t>II</a:t>
            </a:r>
            <a:r>
              <a:rPr b="1" lang="sk-SK" sz="2000" spc="-1" strike="noStrike" u="sng">
                <a:solidFill>
                  <a:srgbClr val="ffffff"/>
                </a:solidFill>
                <a:uFillTx/>
                <a:latin typeface="Arial"/>
                <a:ea typeface="Tahoma"/>
              </a:rPr>
              <a:t>.</a:t>
            </a:r>
            <a:r>
              <a:rPr b="1" lang="sk-SK" sz="2000" spc="-1" strike="noStrike" u="sng">
                <a:solidFill>
                  <a:srgbClr val="ffff00"/>
                </a:solidFill>
                <a:uFillTx/>
                <a:latin typeface="Arial"/>
                <a:ea typeface="Tahoma"/>
              </a:rPr>
              <a:t>Alfa amyláza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Tahoma"/>
              </a:rPr>
              <a:t>-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Tahoma"/>
              </a:rPr>
              <a:t>štiepi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Tahoma"/>
              </a:rPr>
              <a:t>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Tahoma"/>
              </a:rPr>
              <a:t>škrob n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Tahoma"/>
              </a:rPr>
              <a:t>   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Tahoma"/>
              </a:rPr>
              <a:t>glykogé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Tahoma"/>
              </a:rPr>
              <a:t>   </a:t>
            </a:r>
            <a:r>
              <a:rPr b="1" lang="sk-SK" sz="2000" spc="-1" strike="noStrike" u="sng">
                <a:solidFill>
                  <a:srgbClr val="ffff00"/>
                </a:solidFill>
                <a:uFillTx/>
                <a:latin typeface="Arial"/>
                <a:ea typeface="Tahoma"/>
              </a:rPr>
              <a:t> </a:t>
            </a:r>
            <a:r>
              <a:rPr b="1" lang="sk-SK" sz="2000" spc="-1" strike="noStrike" u="sng">
                <a:solidFill>
                  <a:srgbClr val="ffff00"/>
                </a:solidFill>
                <a:uFillTx/>
                <a:latin typeface="Arial"/>
                <a:ea typeface="Tahoma"/>
              </a:rPr>
              <a:t>III. Pankreatická lipáza-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Tahoma"/>
              </a:rPr>
              <a:t>štiepi tuky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Tahoma"/>
              </a:rPr>
              <a:t>    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Tahoma"/>
              </a:rPr>
              <a:t>na glycerol + Mastné kyseli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Tahoma"/>
              </a:rPr>
              <a:t>   </a:t>
            </a:r>
            <a:r>
              <a:rPr b="1" lang="sk-SK" sz="2000" spc="-1" strike="noStrike" u="sng">
                <a:solidFill>
                  <a:srgbClr val="ffff00"/>
                </a:solidFill>
                <a:uFillTx/>
                <a:latin typeface="Arial"/>
                <a:ea typeface="Tahoma"/>
              </a:rPr>
              <a:t>IV. DNK-áza a RNA-áza 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Tahoma"/>
              </a:rPr>
              <a:t>-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Tahoma"/>
              </a:rPr>
              <a:t>štiepia NK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Tahoma"/>
              </a:rPr>
              <a:t>   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Tahoma"/>
              </a:rPr>
              <a:t>+ hlien, alkalická fosfatáza, bikarbo-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Tahoma"/>
              </a:rPr>
              <a:t>   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Tahoma"/>
              </a:rPr>
              <a:t>nát etc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5" name="Picture 4" descr="F:\ OPAVA obr. Fyziol\pankreas, duodenum a zlcove cesty.jpg"/>
          <p:cNvPicPr/>
          <p:nvPr/>
        </p:nvPicPr>
        <p:blipFill>
          <a:blip r:embed="rId1"/>
          <a:stretch/>
        </p:blipFill>
        <p:spPr>
          <a:xfrm>
            <a:off x="4356000" y="3357720"/>
            <a:ext cx="478800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964720" cy="102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sk-SK" sz="2400" spc="-1" strike="noStrike" u="sng">
                <a:solidFill>
                  <a:srgbClr val="ffff00"/>
                </a:solidFill>
                <a:uFillTx/>
                <a:latin typeface="Arial"/>
              </a:rPr>
              <a:t>C.</a:t>
            </a:r>
            <a:r>
              <a:rPr b="1" lang="sk-SK" sz="2400" spc="-1" strike="noStrike" u="sng">
                <a:solidFill>
                  <a:srgbClr val="ffff00"/>
                </a:solidFill>
                <a:uFillTx/>
                <a:latin typeface="Arial"/>
              </a:rPr>
              <a:t>Tenké črevo (duodenum,jejunum,ileum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) - klky obsahujú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črevné bunky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(enterocyty), ktoré tvoria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črevnú šťavu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(3l/den, pH =8) s obsahom enzýmov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: peptidázy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(štiepia peptidy na AK) ,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sacharázy, maltázy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 (štiepia oligo- na monosacharidy),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črevnú lipázu. </a:t>
            </a:r>
            <a:br>
              <a:rPr sz="2000"/>
            </a:b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Rezorbcia: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cukrov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,( v duodene a jejune),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 tukov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(v jejune),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bielkovín , AK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vody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( v ileu a v hrubom čreve) , minerálov a vitamínov.- rezorbované látky  idú do jater na resyntézu  a vznik stavebných látok)</a:t>
            </a:r>
            <a:br>
              <a:rPr sz="2000"/>
            </a:b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Pohyby čreva: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premiešavajú  a posúvajú tekutý chýmus . Sú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miestne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 (tam a spat) a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peristaltické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 pohyby ( asi 12/min dopredu ku hrubému črevu) .</a:t>
            </a:r>
            <a:br>
              <a:rPr sz="2000"/>
            </a:b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k-SK" sz="2000" spc="-1" strike="noStrike" u="sng">
                <a:solidFill>
                  <a:srgbClr val="ffff00"/>
                </a:solidFill>
                <a:uFillTx/>
                <a:latin typeface="Arial"/>
              </a:rPr>
              <a:t>Aktivácia sympatikovej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časti vegetatívneho NS ( a podanie mediátorov 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adrenalínu a noradrenalínu) </a:t>
            </a:r>
            <a:r>
              <a:rPr b="1" i="1" lang="sk-SK" sz="2000" spc="-1" strike="noStrike">
                <a:solidFill>
                  <a:srgbClr val="ffffff"/>
                </a:solidFill>
                <a:latin typeface="Arial"/>
              </a:rPr>
              <a:t>spomaľujú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 pohyby čreva . </a:t>
            </a:r>
            <a:r>
              <a:rPr b="1" lang="sk-SK" sz="2000" spc="-1" strike="noStrike" u="sng">
                <a:solidFill>
                  <a:srgbClr val="ffff00"/>
                </a:solidFill>
                <a:uFillTx/>
                <a:latin typeface="Arial"/>
              </a:rPr>
              <a:t>Aktivácia parasympatikovej čast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i VNS, </a:t>
            </a:r>
            <a:br>
              <a:rPr sz="2000"/>
            </a:b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a podanie mediátora Acetylcholínu) </a:t>
            </a:r>
            <a:br>
              <a:rPr sz="2000"/>
            </a:br>
            <a:r>
              <a:rPr b="1" i="1" lang="sk-SK" sz="2000" spc="-1" strike="noStrike">
                <a:solidFill>
                  <a:srgbClr val="ffffff"/>
                </a:solidFill>
                <a:latin typeface="Arial"/>
              </a:rPr>
              <a:t>zrýchľujú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pohyby čreva.</a:t>
            </a:r>
            <a:br>
              <a:rPr sz="2000"/>
            </a:br>
            <a:r>
              <a:rPr b="1" lang="sk-SK" sz="2200" spc="-1" strike="noStrike" u="sng">
                <a:solidFill>
                  <a:srgbClr val="ffff00"/>
                </a:solidFill>
                <a:uFillTx/>
                <a:latin typeface="Arial"/>
              </a:rPr>
              <a:t>D. Hrubé črevo ( colon</a:t>
            </a:r>
            <a:br>
              <a:rPr sz="2200"/>
            </a:br>
            <a:r>
              <a:rPr b="1" lang="sk-SK" sz="22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reservoar stolice</a:t>
            </a:r>
            <a:br>
              <a:rPr sz="2000"/>
            </a:b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- rezorbcia </a:t>
            </a:r>
            <a:r>
              <a:rPr b="1" lang="sk-SK" sz="2200" spc="-1" strike="noStrike">
                <a:solidFill>
                  <a:srgbClr val="ffffff"/>
                </a:solidFill>
                <a:latin typeface="Arial"/>
              </a:rPr>
              <a:t>vody</a:t>
            </a:r>
            <a:br>
              <a:rPr sz="2200"/>
            </a:br>
            <a:r>
              <a:rPr b="1" lang="sk-SK" sz="2200" spc="-1" strike="noStrike">
                <a:solidFill>
                  <a:srgbClr val="ffff00"/>
                </a:solidFill>
                <a:latin typeface="Arial"/>
              </a:rPr>
              <a:t>E. Rektum- </a:t>
            </a:r>
            <a:r>
              <a:rPr b="1" i="1" lang="sk-SK" sz="2200" spc="-1" strike="noStrike">
                <a:solidFill>
                  <a:srgbClr val="ffffff"/>
                </a:solidFill>
                <a:latin typeface="Arial"/>
              </a:rPr>
              <a:t>defekačný reflex</a:t>
            </a:r>
            <a:br>
              <a:rPr sz="2200"/>
            </a:br>
            <a:r>
              <a:rPr b="1" lang="sk-SK" sz="2200" spc="-1" strike="noStrike">
                <a:solidFill>
                  <a:srgbClr val="ffff00"/>
                </a:solidFill>
                <a:latin typeface="Arial"/>
              </a:rPr>
              <a:t>Funkce jater- </a:t>
            </a:r>
            <a:r>
              <a:rPr b="1" i="1" lang="sk-SK" sz="2200" spc="-1" strike="noStrike">
                <a:solidFill>
                  <a:srgbClr val="ffffff"/>
                </a:solidFill>
                <a:latin typeface="Arial"/>
              </a:rPr>
              <a:t>pozri Michalský </a:t>
            </a:r>
            <a:br>
              <a:rPr sz="2200"/>
            </a:br>
            <a:r>
              <a:rPr b="1" i="1" lang="sk-SK" sz="2200" spc="-1" strike="noStrike">
                <a:solidFill>
                  <a:srgbClr val="ffffff"/>
                </a:solidFill>
                <a:latin typeface="Arial"/>
              </a:rPr>
              <a:t>s. 97.</a:t>
            </a:r>
            <a:endParaRPr b="1" lang="en-US" sz="22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27" name="Picture 4" descr="F:\ OPAVA obr. Fyziol\crevny klk - funkcna organizacia.jpg"/>
          <p:cNvPicPr/>
          <p:nvPr/>
        </p:nvPicPr>
        <p:blipFill>
          <a:blip r:embed="rId1"/>
          <a:stretch/>
        </p:blipFill>
        <p:spPr>
          <a:xfrm>
            <a:off x="4529160" y="3789360"/>
            <a:ext cx="4595760" cy="28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1066320" y="475920"/>
            <a:ext cx="7543800" cy="12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8000"/>
          </a:bodyPr>
          <a:p>
            <a:pPr marL="1645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900" spc="-1" strike="noStrike">
                <a:solidFill>
                  <a:srgbClr val="ffff00"/>
                </a:solidFill>
                <a:latin typeface="Verdana"/>
              </a:rPr>
              <a:t>                </a:t>
            </a: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marL="164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900" spc="-1" strike="noStrike">
                <a:solidFill>
                  <a:srgbClr val="ffff00"/>
                </a:solidFill>
                <a:latin typeface="Verdana"/>
              </a:rPr>
              <a:t>                                      </a:t>
            </a:r>
            <a:r>
              <a:rPr b="1" lang="sk-SK" sz="3200" spc="-1" strike="noStrike">
                <a:solidFill>
                  <a:srgbClr val="ffff00"/>
                </a:solidFill>
                <a:latin typeface="Arial Black"/>
              </a:rPr>
              <a:t>Prajem Vám  pekný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164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00"/>
                </a:solidFill>
                <a:latin typeface="Arial Black"/>
              </a:rPr>
              <a:t>             </a:t>
            </a:r>
            <a:r>
              <a:rPr b="1" lang="sk-SK" sz="3200" spc="-1" strike="noStrike">
                <a:solidFill>
                  <a:srgbClr val="ffff00"/>
                </a:solidFill>
                <a:latin typeface="Arial Black"/>
              </a:rPr>
              <a:t>a  úspešný  deň 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164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64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64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1645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1645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800" spc="-1" strike="noStrike">
                <a:solidFill>
                  <a:srgbClr val="ffff00"/>
                </a:solidFill>
                <a:latin typeface="Rockwell Extra Bold"/>
              </a:rPr>
              <a:t>          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0T11:04:02Z</dcterms:created>
  <dc:creator>Jakus</dc:creator>
  <dc:description/>
  <dc:language>en-US</dc:language>
  <cp:lastModifiedBy>Veronika Slováček Hagenová</cp:lastModifiedBy>
  <dcterms:modified xsi:type="dcterms:W3CDTF">2021-03-04T08:44:42Z</dcterms:modified>
  <cp:revision>703</cp:revision>
  <dc:subject/>
  <dc:title>Úvod</dc:title>
</cp:coreProperties>
</file>