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28.jpeg" ContentType="image/jpeg"/>
  <Override PartName="/ppt/media/image7.jpeg" ContentType="image/jpeg"/>
  <Override PartName="/ppt/media/image8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33.png" ContentType="image/png"/>
  <Override PartName="/ppt/media/image34.jpeg" ContentType="image/jpeg"/>
  <Override PartName="/ppt/media/image37.png" ContentType="image/png"/>
  <Override PartName="/ppt/media/image38.gif" ContentType="image/gif"/>
  <Override PartName="/ppt/media/image15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10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483A-AE7C-48E8-BC8D-3EA3057F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8516-A738-4BE7-B9C5-6A7EA898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76C6-C8EE-4F2C-AD68-5FBCB5940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AD88-0C32-4905-85B6-05550692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A754-D3AF-4E91-A8FB-A2E1D08C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FFE9-15F4-4950-A004-C07C9A58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6BE4-2202-4F58-9B7A-2DEEB906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B511-5C9E-49B9-9E7C-C4F3A90B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3A50-34CB-4F4A-9230-28C6DF5E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0BD9-A834-44D0-9AB7-29311D02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2497-FD21-4C3E-8F1F-998F6C0B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EA70-1EBF-40AE-8CC5-41C4CBFC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0477-FB95-47F5-ADF6-822B63CBAE2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13012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333399"/>
                </a:solidFill>
                <a:latin typeface="Berlin Sans FB Demi"/>
              </a:rPr>
              <a:t>Hybnosť </a:t>
            </a:r>
            <a:r>
              <a:rPr b="1" lang="sk-SK" sz="3600" spc="-1" strike="noStrike">
                <a:solidFill>
                  <a:srgbClr val="333399"/>
                </a:solidFill>
                <a:latin typeface="Berlin Sans FB Demi"/>
              </a:rPr>
              <a:t>č</a:t>
            </a:r>
            <a:r>
              <a:rPr b="1" lang="sk-SK" sz="4400" spc="-1" strike="noStrike">
                <a:solidFill>
                  <a:srgbClr val="333399"/>
                </a:solidFill>
                <a:latin typeface="Berlin Sans FB Demi"/>
              </a:rPr>
              <a:t>loveka, </a:t>
            </a:r>
            <a:br>
              <a:rPr sz="4400"/>
            </a:br>
            <a:r>
              <a:rPr b="1" lang="sk-SK" sz="4400" spc="-1" strike="noStrike">
                <a:solidFill>
                  <a:srgbClr val="333399"/>
                </a:solidFill>
                <a:latin typeface="Berlin Sans FB Demi"/>
              </a:rPr>
              <a:t>svalová kontrak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Ján Jaku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6788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c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fotograf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sch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 sarkomé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Sarcomere"/>
          <p:cNvPicPr/>
          <p:nvPr/>
        </p:nvPicPr>
        <p:blipFill>
          <a:blip r:embed="rId1"/>
          <a:stretch/>
        </p:blipFill>
        <p:spPr>
          <a:xfrm>
            <a:off x="179280" y="907920"/>
            <a:ext cx="8964720" cy="5905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1979640" y="3597120"/>
            <a:ext cx="1224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-doš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5580000" y="3597120"/>
            <a:ext cx="1297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-doš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763640" y="6308640"/>
            <a:ext cx="115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5940360" y="6308640"/>
            <a:ext cx="115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3708360" y="6405480"/>
            <a:ext cx="1440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179280" y="4653000"/>
            <a:ext cx="216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Tenké vlák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6300720" y="4149720"/>
            <a:ext cx="237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rubé vlák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 flipV="1">
            <a:off x="1979640" y="4581360"/>
            <a:ext cx="71280" cy="21600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1908000" y="4941720"/>
            <a:ext cx="287640" cy="71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c49x38motor-unit"/>
          <p:cNvPicPr/>
          <p:nvPr/>
        </p:nvPicPr>
        <p:blipFill>
          <a:blip r:embed="rId1"/>
          <a:stretch/>
        </p:blipFill>
        <p:spPr>
          <a:xfrm>
            <a:off x="4143240" y="0"/>
            <a:ext cx="5000760" cy="67118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290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ick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jednot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920" y="981000"/>
            <a:ext cx="410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ové bunky sú izolované spojivovým tkaniv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ažd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us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y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imu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ón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neu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ó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ická jednot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še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ové bun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erv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ý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stý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toneu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ntrahujú sa nara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äčšinou je v sv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m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ckých jednotiek rozličnej veľk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eľké jedno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1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i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jmä pomal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u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jedno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kol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i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re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ro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rýchly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al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pr. okohybný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356000" y="476280"/>
            <a:ext cx="115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ie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067280" y="2708280"/>
            <a:ext cx="2160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telo motoneuró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3924360" y="3213000"/>
            <a:ext cx="2160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xón motoneuró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6983280" y="68400"/>
            <a:ext cx="2160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Nervo-svalová platn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6877080" y="5661000"/>
            <a:ext cx="1440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Svalové vlákna (bunk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figure0815"/>
          <p:cNvPicPr/>
          <p:nvPr/>
        </p:nvPicPr>
        <p:blipFill>
          <a:blip r:embed="rId1"/>
          <a:stretch/>
        </p:blipFill>
        <p:spPr>
          <a:xfrm>
            <a:off x="1258920" y="765000"/>
            <a:ext cx="7921440" cy="59421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5607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itment 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(nábor) mot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ickýc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jednoti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08000" y="1484280"/>
            <a:ext cx="2035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vyšujúca s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moto-neu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v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v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i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stupn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iv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otorických jednot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 vyšším prah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340000" y="3860640"/>
            <a:ext cx="216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ie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843280" y="5445000"/>
            <a:ext cx="5761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otorická jednotka 1- nízkoprahová (aktivuje sa skô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2843280" y="5756400"/>
            <a:ext cx="2665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otorická jednotka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2843280" y="6116760"/>
            <a:ext cx="619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otorická jednotka 3- vysokoprahová (aktivuje sa neskô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protox_10_botox_alternative_info_clip_image001"/>
          <p:cNvPicPr/>
          <p:nvPr/>
        </p:nvPicPr>
        <p:blipFill>
          <a:blip r:embed="rId1"/>
          <a:stretch/>
        </p:blipFill>
        <p:spPr>
          <a:xfrm>
            <a:off x="108000" y="1125360"/>
            <a:ext cx="6408720" cy="56152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6084720" y="1052640"/>
            <a:ext cx="305928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kčný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ciá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pre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synaptickej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membr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aktivuje napätím riadené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kanály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nflux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– ve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kuly 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neuro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ransmite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etylcho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 (AC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výlučný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transmiter nervo-svalovej platničky – uvolni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 synaptic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kej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štrbin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79280" y="18900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torické vlák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axó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toneu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v) v motorickom nerve ved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čn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iá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-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valovej platnič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Image:Acethylcholine receptor.png"/>
          <p:cNvPicPr/>
          <p:nvPr/>
        </p:nvPicPr>
        <p:blipFill>
          <a:blip r:embed="rId1"/>
          <a:stretch/>
        </p:blipFill>
        <p:spPr>
          <a:xfrm>
            <a:off x="6496200" y="115920"/>
            <a:ext cx="2468520" cy="6021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File:ACh-stick.png"/>
          <p:cNvPicPr/>
          <p:nvPr/>
        </p:nvPicPr>
        <p:blipFill>
          <a:blip r:embed="rId2"/>
          <a:stretch/>
        </p:blipFill>
        <p:spPr>
          <a:xfrm>
            <a:off x="169920" y="1407960"/>
            <a:ext cx="4546440" cy="44690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8920" y="2133360"/>
            <a:ext cx="298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acetylchol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File:Acetylcholine.svg"/>
          <p:cNvPicPr/>
          <p:nvPr/>
        </p:nvPicPr>
        <p:blipFill>
          <a:blip r:embed="rId3"/>
          <a:stretch/>
        </p:blipFill>
        <p:spPr>
          <a:xfrm>
            <a:off x="324000" y="4883040"/>
            <a:ext cx="4248000" cy="17146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4929120" y="5746680"/>
            <a:ext cx="37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i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ov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 re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4920" y="11592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sa viaže 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ikotínové recepto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stsynaptickej membrán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ervo-svalovej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ičk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valovej bunky – 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v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kanálov – depolariz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jednotkový platničkov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tenciál - 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50560" y="38844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j be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imul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ácie môže náhod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e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ikulus uvolni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h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ynaptic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ej štrbiny, čo vyvol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niatúrny EPS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iniat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úrn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at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čkov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iá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kčn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iá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akonče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volá úplný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ničkov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otential (PP)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tor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ždy dosiahn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ing level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prahovú úroveň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vol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čn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iál na svalovej bun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kčný potenciá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 rozšíri pozdĺ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lem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 cez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T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tubulárny systé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alovej bunk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ar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ic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lum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95280" y="5516640"/>
            <a:ext cx="8569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tylchol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í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imin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ovaný (zo synaptickej štrbiny) rozklad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etylchol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er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áz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action%20potential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3059280" y="2492280"/>
            <a:ext cx="1152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pr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7667640" y="2492280"/>
            <a:ext cx="1152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pr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1763640" y="3284640"/>
            <a:ext cx="158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depolar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5651640" y="3716280"/>
            <a:ext cx="158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depolar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5506920" y="608040"/>
            <a:ext cx="1513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depolarizačná fá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7380360" y="1398600"/>
            <a:ext cx="15127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repolarizačná fá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395280" y="4508640"/>
            <a:ext cx="41767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epolarizácia je zmena membránového potenciálu na plazmatickej membráne bunky, kedy sa stáva vnútro bunky menej negatívne (vonkajšok bunky menej pozitívne) nabit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5148360" y="4489560"/>
            <a:ext cx="399564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očas depolarizačnej fázy AP sa MP zmení z približne -85 m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na asi +20 mV. Počas fázy repolarizácie dochádza k postupnému návratu na hodnotu kľudového membránového potenciálu asi -85 m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6227640" y="4149720"/>
            <a:ext cx="1513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čas 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1619280" y="4149720"/>
            <a:ext cx="151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čas 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berger8"/>
          <p:cNvPicPr/>
          <p:nvPr/>
        </p:nvPicPr>
        <p:blipFill>
          <a:blip r:embed="rId1"/>
          <a:stretch/>
        </p:blipFill>
        <p:spPr>
          <a:xfrm>
            <a:off x="71280" y="1177920"/>
            <a:ext cx="6301080" cy="56358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8000" y="142920"/>
            <a:ext cx="896472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Sarkoplazmatické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ti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lum 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obklopuj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myofibril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 obsahuje zásob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ónov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Priečny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 – tubul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árny systém je cestou pre akčn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potenciál, aby sa tento dostal n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ar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atick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lu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6084720" y="1413000"/>
            <a:ext cx="3059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čný potenc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tubuloch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a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o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tivuj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apätím riade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Ca kaná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ýchto štruktúra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uvolnenie (prienik) – influx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Ca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2+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 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 intracelul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á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neho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priestoru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valového vlák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Ca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2+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 – j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i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ciá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valovej kontrak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611280" y="1844640"/>
            <a:ext cx="129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arkol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0" y="2924280"/>
            <a:ext cx="2050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terminálne cister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79280" y="3213000"/>
            <a:ext cx="1728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T - tubu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0" y="4076640"/>
            <a:ext cx="1979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arkoplazmatické retikul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395280" y="5229360"/>
            <a:ext cx="151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5292720" y="2205000"/>
            <a:ext cx="1224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yofibr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5364000" y="3213000"/>
            <a:ext cx="100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5364000" y="3860640"/>
            <a:ext cx="107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5364000" y="4797360"/>
            <a:ext cx="1154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 lí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5365800" y="5589720"/>
            <a:ext cx="1150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jad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picrend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4"/>
          <p:cNvSpPr/>
          <p:nvPr/>
        </p:nvSpPr>
        <p:spPr>
          <a:xfrm>
            <a:off x="0" y="4292640"/>
            <a:ext cx="104292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Membrána T-tub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5516640"/>
            <a:ext cx="104292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Membrána sarkoplaz. retik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66560" y="6323040"/>
            <a:ext cx="1729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Uvolnenie Ca ión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2484360" y="4869000"/>
            <a:ext cx="10429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Akčný potenciá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539640" y="3946680"/>
            <a:ext cx="2376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Proteín citlivý na potenciá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3132000" y="3946680"/>
            <a:ext cx="2951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Depolarizovaná membrána T-tub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4788000" y="0"/>
            <a:ext cx="1224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Membrá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4932360" y="476280"/>
            <a:ext cx="934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Myofibri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5003640" y="1052640"/>
            <a:ext cx="935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Ca kaná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4788000" y="1844640"/>
            <a:ext cx="129672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T-tubuly zformované z prliačenia plazmatickej membrá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4716360" y="2924280"/>
            <a:ext cx="1511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Sarkoplazmatické retikul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Image:SlidingMyofibril.svg"/>
          <p:cNvPicPr/>
          <p:nvPr/>
        </p:nvPicPr>
        <p:blipFill>
          <a:blip r:embed="rId1"/>
          <a:stretch/>
        </p:blipFill>
        <p:spPr>
          <a:xfrm>
            <a:off x="142920" y="79200"/>
            <a:ext cx="8858160" cy="66628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179280" y="3429000"/>
            <a:ext cx="608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ál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tra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c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ar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é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e okol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30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348000" y="3141720"/>
            <a:ext cx="1152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relaxov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203640" y="3933720"/>
            <a:ext cx="1368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kontrahov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LASTNOSTI SVA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85480" y="981000"/>
            <a:ext cx="86439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ntraktivi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men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che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j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ener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mechanickú prácu - pohy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dpove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ového tkaniva 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imu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áciu 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cia (skráten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citabilit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chopnosť odpoveda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ové tkanivo môže byť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van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yzikálnym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lebo chemickými podnet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sticit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lebo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ružnos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y obsahuj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astic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y, ktoré zabezpečujú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ch pružnosť (návrat do pôvodnej dĺžk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Roztiahnuteľnos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 je možné natiahnuť 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lhší, než je jeho kľudová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ĺž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valy môžu len ťaha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nie tlači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File:Myofilament.svg"/>
          <p:cNvPicPr/>
          <p:nvPr/>
        </p:nvPicPr>
        <p:blipFill>
          <a:blip r:embed="rId1"/>
          <a:stretch/>
        </p:blipFill>
        <p:spPr>
          <a:xfrm>
            <a:off x="108000" y="2565360"/>
            <a:ext cx="8893080" cy="41036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324000" y="26028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valová kontrakcia sa de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er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cio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ÍN-ový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(tenké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-ových (hrubé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láki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opomyozí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 kľu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ekrý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äzobné mies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ín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3635280" y="2486160"/>
            <a:ext cx="25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enký fil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6227640" y="2630520"/>
            <a:ext cx="251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ropomyoz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2916360" y="4070520"/>
            <a:ext cx="136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ropon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796000" y="4508640"/>
            <a:ext cx="3168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yozín hrubého filamen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ScanImage95"/>
          <p:cNvPicPr/>
          <p:nvPr/>
        </p:nvPicPr>
        <p:blipFill>
          <a:blip r:embed="rId1"/>
          <a:stretch/>
        </p:blipFill>
        <p:spPr>
          <a:xfrm>
            <a:off x="0" y="2575080"/>
            <a:ext cx="9144000" cy="38782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179280" y="333360"/>
            <a:ext cx="842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sa viaže n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po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í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ení sa tv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for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po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u, ktor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dkryje väzobné mi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ktíne aktínového vlák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valová kontrakcia vyžaduje aj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5690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 uvolnenie ohnutý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ových hláv z väzby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 aktínu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 ich vyrovnanie je potrebn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yozín hydrolyzu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ATP (rozkladá ho na ADP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á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čim získa energi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Cycle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71280" y="71280"/>
            <a:ext cx="889344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ým 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ATP p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ítomn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l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äzba s aktín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hnut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uvolnen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yrovnan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ový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lá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kraču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je neustá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mp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vané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C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umpou – ATP-ázou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zad do 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matickéh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 (a T-tubulov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nt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 udržuje vysoká jeho uvolňovaním z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matickéh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u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ďalšími akčnými potenciálm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Be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 tropomyozín vráti do tvar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for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c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orý bloku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äzbové miesta aktínového vlákna – zastavenie kontrak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eďže 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TP nevyhnutné na uvolnen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äz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ínu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u – be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P : RIGOR MOR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MuscleTimeGraph"/>
          <p:cNvPicPr/>
          <p:nvPr/>
        </p:nvPicPr>
        <p:blipFill>
          <a:blip r:embed="rId1"/>
          <a:stretch/>
        </p:blipFill>
        <p:spPr>
          <a:xfrm>
            <a:off x="0" y="-27000"/>
            <a:ext cx="6732720" cy="5410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64000" y="115920"/>
            <a:ext cx="3600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zvýšen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ntracel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na koncentráci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(Ca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uvolnené zo 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oplazmatického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ti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a T – tub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trvá dlhši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než akčný potenciá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št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dlhšie trvá jednotkové svalové trhnut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95280" y="4508640"/>
            <a:ext cx="842472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eďže má kostrový sval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rátku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refra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tórnu periódu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 a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čný potenciál na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lem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a rozšíri z 1 nervo-svalovej platničky pozdĺž celej membrány,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T – tub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zmatického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ti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SUM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ČASOV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 to na úrovni uvolňovani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a superpozície svalových trhnut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3059280" y="620640"/>
            <a:ext cx="2736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414141"/>
                </a:solidFill>
                <a:latin typeface="Arial"/>
              </a:rPr>
              <a:t>Svalové trhnu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489564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valové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rhnuti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vlnitý </a:t>
            </a:r>
            <a:br>
              <a:rPr sz="3000"/>
            </a:b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úplný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tetan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tetanus.gif"/>
          <p:cNvPicPr/>
          <p:nvPr/>
        </p:nvPicPr>
        <p:blipFill>
          <a:blip r:embed="rId1"/>
          <a:stretch/>
        </p:blipFill>
        <p:spPr>
          <a:xfrm>
            <a:off x="216000" y="4000680"/>
            <a:ext cx="8748720" cy="2741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twitch_mc.gif"/>
          <p:cNvPicPr/>
          <p:nvPr/>
        </p:nvPicPr>
        <p:blipFill>
          <a:blip r:embed="rId2"/>
          <a:stretch/>
        </p:blipFill>
        <p:spPr>
          <a:xfrm>
            <a:off x="5153040" y="260280"/>
            <a:ext cx="3859200" cy="388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536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Tetanická kontrakcia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 – motorická jednotka je stimulovaná vysokou frekvenciou akčných potenciálov z príslušného motoneurón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Čas medzi stimulmi je kratší než svalové trhnutie – málo času na relaxáci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Sila kontrakcie sa zvyšuje – pridáva sa k predchádzajúcim trhnutiam - maximálna 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kontrakci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6838920" y="765000"/>
            <a:ext cx="219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kčný potenci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7596360" y="2276640"/>
            <a:ext cx="1547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zometrické trhnu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6946920" y="3789360"/>
            <a:ext cx="180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čas (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5003640" y="189000"/>
            <a:ext cx="79236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(m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5292720" y="1916280"/>
            <a:ext cx="64764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3203640" y="6345360"/>
            <a:ext cx="1801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čas (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AABKEOFa"/>
          <p:cNvPicPr/>
          <p:nvPr/>
        </p:nvPicPr>
        <p:blipFill>
          <a:blip r:embed="rId1"/>
          <a:stretch/>
        </p:blipFill>
        <p:spPr>
          <a:xfrm>
            <a:off x="179280" y="189000"/>
            <a:ext cx="3672000" cy="3398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AABKEOFb"/>
          <p:cNvPicPr/>
          <p:nvPr/>
        </p:nvPicPr>
        <p:blipFill>
          <a:blip r:embed="rId2"/>
          <a:stretch/>
        </p:blipFill>
        <p:spPr>
          <a:xfrm>
            <a:off x="5148360" y="1692360"/>
            <a:ext cx="3456000" cy="3176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AABKEOFc"/>
          <p:cNvPicPr/>
          <p:nvPr/>
        </p:nvPicPr>
        <p:blipFill>
          <a:blip r:embed="rId3"/>
          <a:stretch/>
        </p:blipFill>
        <p:spPr>
          <a:xfrm>
            <a:off x="179280" y="3649680"/>
            <a:ext cx="3600720" cy="30448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0"/>
          <p:cNvSpPr/>
          <p:nvPr/>
        </p:nvSpPr>
        <p:spPr>
          <a:xfrm>
            <a:off x="3995640" y="357120"/>
            <a:ext cx="49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sokofrekvenčné stimu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kčné potenciá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volajú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p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íci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ový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hnut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časov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áci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r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5724360" y="4941720"/>
            <a:ext cx="295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ekompletn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lnit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ta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3924360" y="595008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mple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ý (hladký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eta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Image331"/>
          <p:cNvPicPr/>
          <p:nvPr/>
        </p:nvPicPr>
        <p:blipFill>
          <a:blip r:embed="rId1"/>
          <a:stretch/>
        </p:blipFill>
        <p:spPr>
          <a:xfrm>
            <a:off x="0" y="0"/>
            <a:ext cx="7812000" cy="68468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12000" y="115920"/>
            <a:ext cx="3132000" cy="1512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Zhrnuti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svalovej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kc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533520" y="180720"/>
            <a:ext cx="8142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Porovnanie vlastností kostrového, srdcového a hladkého sval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039680"/>
          <a:ext cx="9144000" cy="5747040"/>
        </p:xfrm>
        <a:graphic>
          <a:graphicData uri="http://schemas.openxmlformats.org/drawingml/2006/table">
            <a:tbl>
              <a:tblPr/>
              <a:tblGrid>
                <a:gridCol w="2560680"/>
                <a:gridCol w="2011320"/>
                <a:gridCol w="2286000"/>
                <a:gridCol w="228600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Vlastnos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ostrový s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rdcový s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Hladký s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Priečna pruhovanosť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Relatívna rýchlosť 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ontrak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rých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tredná rýchlos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pomal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Voluntárna kontrola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Refraktórna perióda membrá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rát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dlh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jadier v bun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veľ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jed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jed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ontrola kontrakc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er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pontánna,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ervovo modulovan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ervy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hormóny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atiahnu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Bunky prepojené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interkalárnymi diskami alebo Gap Junctions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ladk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ý s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1123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Hladký sval (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ce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l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o vnútorných orgánoch a ciev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ne priečne pruh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rstvy pod sliznicami v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čn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trávia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yst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é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uhové vrstvy v stenách ciev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ktery (zvierač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alové vlákna hladkých svalo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retenovitý tvar (fuziformn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irší v strede a tenší na konco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- 20-500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ĺž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mer aktínu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í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 6 : 1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kostrovom sv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~ 4 : 1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srdcovom sva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~ 16.5 : 1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hladkom sv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yššia elasticita a schopnosť sa natiahnuť pričom si stále zachovať kontraktilitu v porovnaní s priečne pruhovanými sval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</a:t>
            </a: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S</a:t>
            </a: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VA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677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ostrový sv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priečne pruhované svalové tkaniv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pod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kontrolo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omatic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kého nervového systému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(voluntárna kontrol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Srdcový sv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špeciálne priečne pruhované svalové tkanivo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pracujúce automatick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 pod moduláciou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autonómnym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rvo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vý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yst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ladký sv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tkanivo bez priečneho pruhovan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stimulované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on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ómnym nervovým systém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hormn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áln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alebo jednoducho natiahnutí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179280" y="192240"/>
            <a:ext cx="7488360" cy="64864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15280" y="188640"/>
            <a:ext cx="262872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Hladký sval čre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2124000" y="189000"/>
            <a:ext cx="374328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ruhové vrstvy okolo čreva vykonávajú kontrakciou segmentác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2340000" y="6039000"/>
            <a:ext cx="540072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Longitudinálne vrstvy pozdĺž čreva vykonávajú vlnité kontrak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2268360" y="981000"/>
            <a:ext cx="3589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5651640" y="620640"/>
            <a:ext cx="3585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2195640" y="5805360"/>
            <a:ext cx="302400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6659640" y="5805360"/>
            <a:ext cx="183672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65167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38"/>
              </a:spcBef>
              <a:spcAft>
                <a:spcPts val="2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ntrakcia a relaxác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s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ínový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tínový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ilamen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rm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ón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neurotransmiter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liek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Jednotkový hladký s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– tkanivo je spojené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yt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auto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óm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rv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inerv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u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jed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u vo vrstve či zväz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čný potenc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šíri c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ojenia ty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 junction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 sused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vše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kontrahuj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oloč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ladký sval sa môže kontrahova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pon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á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y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gén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v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ďaka dynamike iónový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anál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eb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emak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ým bunká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pr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t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ciál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ja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o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astrointesti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eho trakt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Glatte_Muskelzellen"/>
          <p:cNvPicPr/>
          <p:nvPr/>
        </p:nvPicPr>
        <p:blipFill>
          <a:blip r:embed="rId1"/>
          <a:stretch/>
        </p:blipFill>
        <p:spPr>
          <a:xfrm>
            <a:off x="6516720" y="836640"/>
            <a:ext cx="2376360" cy="23446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ontrakcia hladkého sv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peristalsis"/>
          <p:cNvPicPr/>
          <p:nvPr/>
        </p:nvPicPr>
        <p:blipFill>
          <a:blip r:embed="rId2"/>
          <a:stretch/>
        </p:blipFill>
        <p:spPr>
          <a:xfrm>
            <a:off x="6249960" y="3573360"/>
            <a:ext cx="2760840" cy="3024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File:Gap cell junction en.svg"/>
          <p:cNvPicPr/>
          <p:nvPr/>
        </p:nvPicPr>
        <p:blipFill>
          <a:blip r:embed="rId3"/>
          <a:stretch/>
        </p:blipFill>
        <p:spPr>
          <a:xfrm>
            <a:off x="2268360" y="2592360"/>
            <a:ext cx="3959280" cy="27813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8"/>
          <p:cNvSpPr/>
          <p:nvPr/>
        </p:nvSpPr>
        <p:spPr>
          <a:xfrm>
            <a:off x="6300720" y="400536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potr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6300720" y="430704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ezifá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6300720" y="4594320"/>
            <a:ext cx="13669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Cirkulárne svaly kontrak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6300720" y="5084640"/>
            <a:ext cx="1511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Potrava pehltnutá predtý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6300720" y="5516640"/>
            <a:ext cx="1440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Cirkulárne svaly relaxovan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3"/>
          <p:cNvSpPr/>
          <p:nvPr/>
        </p:nvSpPr>
        <p:spPr>
          <a:xfrm>
            <a:off x="6300720" y="595008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Sfink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4"/>
          <p:cNvSpPr/>
          <p:nvPr/>
        </p:nvSpPr>
        <p:spPr>
          <a:xfrm>
            <a:off x="6300720" y="616572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Žalúd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7020000" y="3429000"/>
            <a:ext cx="143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eristal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ontrakcia hladkého sv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7" descr="BP026_smooth_muscle_contraction"/>
          <p:cNvPicPr/>
          <p:nvPr/>
        </p:nvPicPr>
        <p:blipFill>
          <a:blip r:embed="rId1"/>
          <a:stretch/>
        </p:blipFill>
        <p:spPr>
          <a:xfrm>
            <a:off x="3209760" y="2708280"/>
            <a:ext cx="5754960" cy="398448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0"/>
          <p:cNvSpPr/>
          <p:nvPr/>
        </p:nvSpPr>
        <p:spPr>
          <a:xfrm>
            <a:off x="179280" y="892080"/>
            <a:ext cx="8713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iacjednotkový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ladký s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utonómnym nervovým systémom sú inervované jednotlivé bunk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jemná kontro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gradu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á odpoveď podobne ako pri skeletálnom sv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- trachea, elastic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ér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ris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Žiadn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po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e namiesto neho 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modu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gul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čný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ín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 hladkom sv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aktiež tropomyozín nemá regulačnú funkciu, ako v priečne pruhovaných svalo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začí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-regu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o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y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ácio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í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-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tivovaný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po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ínový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ém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enké filame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ladkého sval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sahuj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jmä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tí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pomy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í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desm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MuscleCardiacCells"/>
          <p:cNvPicPr/>
          <p:nvPr/>
        </p:nvPicPr>
        <p:blipFill>
          <a:blip r:embed="rId1"/>
          <a:stretch/>
        </p:blipFill>
        <p:spPr>
          <a:xfrm>
            <a:off x="0" y="512640"/>
            <a:ext cx="6095880" cy="50770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3394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Srdcový s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292720" y="189000"/>
            <a:ext cx="36720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rdcov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eľa kratšie bunky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e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strový s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 srdcového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u sa vetvia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ájajú spojeniam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ctions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lárnym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m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chemic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u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chádzaj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 vše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poje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čná sie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yt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acujú ako cel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395280" y="514188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ier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riečne pruhovan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dob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e nie totožné usporiadanie myofilamentov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 má kostrový s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ohé bunky srdcového svalu s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g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én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impu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znikajú vo svale, neprichádzajú z nervového systém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rdcový rytm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08000" y="1268280"/>
            <a:ext cx="216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kalárne di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2268360" y="1268280"/>
            <a:ext cx="2305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riečne pruhov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4572000" y="134136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yocy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3635280" y="1700280"/>
            <a:ext cx="936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d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82090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Schém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ter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alárneh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is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srdcového sva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611280" y="1130400"/>
            <a:ext cx="7273800" cy="30700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0" y="2171880"/>
            <a:ext cx="1835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p junctions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ytváraj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ytopl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ostí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7814160" y="1346040"/>
            <a:ext cx="891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to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7812000" y="1851120"/>
            <a:ext cx="1258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x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prot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7451640" y="3003480"/>
            <a:ext cx="169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edzibunkov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i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7740720" y="3795840"/>
            <a:ext cx="1403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bunkov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mbr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á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395280" y="472428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myocytoch srdcového sval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flux Na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pust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indu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van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a uvolnen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lux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ez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pätí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iaden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aná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sarkoleme, čo vedie k uvolneni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matickéh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634544_x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1476360" y="260280"/>
            <a:ext cx="662472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Monofázický akčný potenciál (srdcový sv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142920" y="3233880"/>
            <a:ext cx="1908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0 depolarizácia - Na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o bun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716360" y="1844640"/>
            <a:ext cx="295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2 Ca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o bunky inicializácia kontrak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6372360" y="3500280"/>
            <a:ext cx="1871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von z bunky repolarizá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7236000" y="4732200"/>
            <a:ext cx="1728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ľudový potenci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179280" y="5726160"/>
            <a:ext cx="216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epolarizá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3780000" y="5726160"/>
            <a:ext cx="158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repolarizá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File:Pacemaker potential annotated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4"/>
          <p:cNvSpPr/>
          <p:nvPr/>
        </p:nvSpPr>
        <p:spPr>
          <a:xfrm>
            <a:off x="324000" y="119700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2484360" y="4508640"/>
            <a:ext cx="1582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repotenci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3059280" y="1052640"/>
            <a:ext cx="4537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ace-makerový“ akčný potenc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4859280" y="458136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7164360" y="464652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0" descr="634540_x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76000" y="1123560"/>
            <a:ext cx="6264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b66"/>
                </a:solidFill>
                <a:latin typeface="Arial"/>
              </a:rPr>
              <a:t>and its relation to the ECG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1"/>
          <p:cNvSpPr/>
          <p:nvPr/>
        </p:nvSpPr>
        <p:spPr>
          <a:xfrm>
            <a:off x="0" y="5950080"/>
            <a:ext cx="91440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lhotrvajúci akčný potenciál – dlhá refraktórna perió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žiadna časová sumácia - žiadna tetanická kontrak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476360" y="115920"/>
            <a:ext cx="6696000" cy="16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Monofázický akčný potenciál (srdcový sv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a jeho vzťah k EKG kriv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971640" y="3017880"/>
            <a:ext cx="1728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0 depolarizácia - Na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5940360" y="3357720"/>
            <a:ext cx="1727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3 repolarizácia K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e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3059280" y="184464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4284720" y="206064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7" descr="waves"/>
          <p:cNvPicPr/>
          <p:nvPr/>
        </p:nvPicPr>
        <p:blipFill>
          <a:blip r:embed="rId1"/>
          <a:stretch/>
        </p:blipFill>
        <p:spPr>
          <a:xfrm>
            <a:off x="0" y="843120"/>
            <a:ext cx="9144000" cy="60148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zťa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le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trický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 mechanic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ý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hara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ist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í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srdcovej ak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6156360" y="1773360"/>
            <a:ext cx="180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lak v a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4859280" y="2852640"/>
            <a:ext cx="280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lak v ľavej ko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5221440" y="3500280"/>
            <a:ext cx="2879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kčný potenciál ľavej ko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4572000" y="5149800"/>
            <a:ext cx="280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E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3995640" y="6375240"/>
            <a:ext cx="180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čas 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Image:ECG Principle fast.gif"/>
          <p:cNvPicPr/>
          <p:nvPr/>
        </p:nvPicPr>
        <p:blipFill>
          <a:blip r:embed="rId1"/>
          <a:stretch/>
        </p:blipFill>
        <p:spPr>
          <a:xfrm>
            <a:off x="-36360" y="0"/>
            <a:ext cx="600048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5580000" y="333360"/>
            <a:ext cx="338472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Šírenie s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ic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ej ak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čnéh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ciálu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z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noatri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neh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uzl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 t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aniv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srdcovýc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predsiení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trioventri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neh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uzl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pot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tkaniva srdcových komô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so záznamom príslušného EKG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000000"/>
                </a:solidFill>
                <a:latin typeface="Arial"/>
              </a:rPr>
              <a:t>Kostrový sv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upevnený ku kostiam šľach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iekoľko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p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láki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ýchlos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ýdrž, úna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ila, veľkosť motorickej jednotk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štruktú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bunk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dlh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iacjadrov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ylind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ick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dĺžka niekoľk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m (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bunka ľudského kostrového sval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iem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00 - 150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cytoskelet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odporuje tvar bun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ZHRNU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1280" y="909360"/>
            <a:ext cx="8893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ákladné vlastnosti svalov a svalového tkan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ostrový, srdcový, hladký sval a rozdiely medzi ni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Štruktúra svalu a svalovej bunky (myofibrila, sarkomera, aktín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ín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ická jednotk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ne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-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valová platničk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cetylcho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latničkový potenc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bu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sa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matick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um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čný potenciál svalového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lák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ontrakcia svalu, jej kontro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tropomy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)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úloh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ón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alové trhnut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uperpozícia, sumácia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tanus (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lnit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hladk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go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Jednotkový a viacjednotkový hladký sval, spojenie 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p junction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yt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Štruktúra tkaniva srdcového sval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nte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lár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s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yvolané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uvolneni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čný potenciál srdcového sval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jeh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rvan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c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1551960" y="6237360"/>
            <a:ext cx="63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ntochem.tamu.edu/MuscleStrucContractswf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280" y="11592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oti sebe pôsobiace svaly s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onis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agonis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p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x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kťa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ceps brach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oni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riceps brach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agoni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uscles-voluntary1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5180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5214960" y="5083200"/>
            <a:ext cx="3929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agoni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nie 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kdy úpl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x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ro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miernen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hybu udržovaní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us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goni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ic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ý pohy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muscle_structure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030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360" y="216000"/>
            <a:ext cx="2951280" cy="40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klopuje každý zväz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8317080" y="2492280"/>
            <a:ext cx="57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5508720" y="5157720"/>
            <a:ext cx="136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klo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ažd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2627280" y="5157720"/>
            <a:ext cx="2736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as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stáva svalový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alom, ktor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chádza do šľa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755640" y="5157720"/>
            <a:ext cx="201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Šľacha - zväz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lagénových vlák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70920" y="-360"/>
            <a:ext cx="4357800" cy="66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Štruktúra kostrového sva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24000" y="765000"/>
            <a:ext cx="792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s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380360" y="620640"/>
            <a:ext cx="1584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Ci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7236000" y="1844640"/>
            <a:ext cx="19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ové vlák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8172360" y="2492280"/>
            <a:ext cx="971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7451640" y="4653000"/>
            <a:ext cx="122400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väz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svalov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nop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image001"/>
          <p:cNvPicPr/>
          <p:nvPr/>
        </p:nvPicPr>
        <p:blipFill>
          <a:blip r:embed="rId1"/>
          <a:stretch/>
        </p:blipFill>
        <p:spPr>
          <a:xfrm>
            <a:off x="142920" y="11160"/>
            <a:ext cx="8893080" cy="68468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6165360"/>
            <a:ext cx="914400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Hlboká štruktúra kostrového sv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4356000" y="5013360"/>
            <a:ext cx="324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Jednotlivé svalové vlák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780000" y="5445000"/>
            <a:ext cx="863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Jad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79280" y="3573360"/>
            <a:ext cx="180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arkoplaz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0" y="4076640"/>
            <a:ext cx="1258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yofibr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1763640" y="3068640"/>
            <a:ext cx="180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arko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2556000" y="2421000"/>
            <a:ext cx="180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edzi vlákn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Svalov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vlákn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s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valová bun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memb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ovej bun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k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strovéh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rdcového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hladkého sval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edie signá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kutočná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l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tick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mb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onkajší ob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tenká vrst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lysacharid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v s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ag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énovými vláknam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, ktorý prechádza do vlákien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ľa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rkoplaz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ytopl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 organel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ofibril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ylindric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gane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tiln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y (myofilamenty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ínov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ov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ák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pecifická    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nštantn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ĺž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iekoľký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)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ované do opakujúcich sa podjednotiek pozdĺ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ofibri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rkomé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l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-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bul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rnym systém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nútorný vodivý systé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587640" y="484200"/>
            <a:ext cx="23050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alov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bun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Muscle fibres"/>
          <p:cNvPicPr/>
          <p:nvPr/>
        </p:nvPicPr>
        <p:blipFill>
          <a:blip r:embed="rId1"/>
          <a:stretch/>
        </p:blipFill>
        <p:spPr>
          <a:xfrm>
            <a:off x="0" y="0"/>
            <a:ext cx="6804000" cy="569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File:Myofibril.svg"/>
          <p:cNvPicPr/>
          <p:nvPr/>
        </p:nvPicPr>
        <p:blipFill>
          <a:blip r:embed="rId2"/>
          <a:stretch/>
        </p:blipFill>
        <p:spPr>
          <a:xfrm>
            <a:off x="2411280" y="4941720"/>
            <a:ext cx="6301080" cy="18529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3780000" y="511200"/>
            <a:ext cx="23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valové vlák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108000" y="871560"/>
            <a:ext cx="266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arkoplazmat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95280" y="1268280"/>
            <a:ext cx="1655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retik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0" y="2168640"/>
            <a:ext cx="176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yofibr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5364000" y="2492280"/>
            <a:ext cx="1872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yoz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684360" y="4581360"/>
            <a:ext cx="23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arkomé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4788000" y="4437000"/>
            <a:ext cx="1008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t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2843280" y="5013360"/>
            <a:ext cx="1368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arkomé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5292720" y="4797360"/>
            <a:ext cx="647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6300720" y="4797360"/>
            <a:ext cx="647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3276720" y="6093000"/>
            <a:ext cx="647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7"/>
          <p:cNvSpPr/>
          <p:nvPr/>
        </p:nvSpPr>
        <p:spPr>
          <a:xfrm>
            <a:off x="2124000" y="6237360"/>
            <a:ext cx="1079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doš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4140360" y="6232680"/>
            <a:ext cx="1079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doš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9"/>
          <p:cNvSpPr/>
          <p:nvPr/>
        </p:nvSpPr>
        <p:spPr>
          <a:xfrm>
            <a:off x="5219640" y="6237360"/>
            <a:ext cx="792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či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9:11:00Z</dcterms:created>
  <dc:creator>Ivan Poliacek</dc:creator>
  <dc:description/>
  <dc:language>en-US</dc:language>
  <cp:lastModifiedBy>Veronika Slováček Hagenová</cp:lastModifiedBy>
  <dcterms:modified xsi:type="dcterms:W3CDTF">2021-03-04T08:45:03Z</dcterms:modified>
  <cp:revision>264</cp:revision>
  <dc:subject/>
  <dc:title>Snímka 1</dc:title>
</cp:coreProperties>
</file>