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9AC2-D7B6-4FFC-9690-76AB4631F83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C7C2-31EF-45A6-A10E-4139F0FA739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Zástupný symbol čísla snímky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FA9B-E9C0-4558-9836-399E51EF145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21F-5F1F-45E1-852D-AD589008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76E-26D0-40F7-83BD-44D010F3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76D-0956-45E7-910E-9B8E1E90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B0E-D7E9-4249-94FB-05ED0379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A1FE-9B6A-4BC3-999C-7D5774D0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1A40-84CF-4B9D-BF67-B253CCEB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68A9-8C97-4621-AA6B-6C5688E4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3E32-02ED-4B9A-9981-5969BD87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6D79-3019-4C94-A49C-A9FF515E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8C78-84FF-4FA6-A42C-290AC4AB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3982-6E21-4333-8208-C0BEA2F9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2E3-05B6-4CBD-9485-F715491D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4D6F-115E-4A34-9A68-45A32415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2CD9-41B0-400A-A6ED-E2ECB648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4E8B-B61B-4AE7-9DBF-4A90917A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47F1-31F8-4932-9F0D-A0BC0BB6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2229-8783-4092-8828-285E274D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58D-E375-49C9-AD6B-697BDC8C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EA9-0DB4-46EC-B01B-97D98A6D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721-AA96-4B52-A121-7BB7D55E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E09-3C67-418B-B7F4-2AB576F9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5AF-858D-4B1C-A710-48EA0D1C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9E3E-DECD-4CDC-9423-29418313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86C-21DC-457A-AF68-5A5F6C66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DB35-4E55-4091-9E3A-79BF71449D0C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12B0-609E-48DC-B777-034B0160DDBF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Exkrečné funkcie organizmu- fyziologie ledvin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7543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edvin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árový orgá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brušnej dutiny, 12x9,5 cm, dobre zásobované artériou a venou s prietokom krvi cca 1250 ml/sec. (cca 23% MV srd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Zákl. funkčná jednotka je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Nefron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kôra a  dreň 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.Kôr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OMERUL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 1,5 mil) s filtračnou plochou cca 1,2 m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priemerom 300 um</a:t>
            </a:r>
            <a:r>
              <a:rPr b="1" lang="sk-SK" sz="2000" spc="-1" strike="noStrike" u="sng" baseline="30000">
                <a:solidFill>
                  <a:srgbClr val="ffff00"/>
                </a:solidFill>
                <a:uFillTx/>
                <a:latin typeface="Arial"/>
              </a:rPr>
              <a:t>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2. Dreň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ubuly</a:t>
            </a:r>
            <a:r>
              <a:rPr b="1" lang="sk-SK" sz="2000" spc="-1" strike="noStrike">
                <a:solidFill>
                  <a:srgbClr val="b8b8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Proximálny, Henleho klučku a Distáln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innosť ledvin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iltrácia krvi a tvorba primárneho moča  v glomeruloch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 vody, solí a látok v tubulo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ktívna sekrécia láto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vid obr.s.107-110 Michalsk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F:\ OPAVA obr. Fyziol\schema lokalizacie nadobliciek.jpg"/>
          <p:cNvPicPr/>
          <p:nvPr/>
        </p:nvPicPr>
        <p:blipFill>
          <a:blip r:embed="rId1"/>
          <a:stretch/>
        </p:blipFill>
        <p:spPr>
          <a:xfrm>
            <a:off x="5219640" y="4008600"/>
            <a:ext cx="363852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F:\ OPAVA obr. Fyziol\nefron.jpg"/>
          <p:cNvPicPr/>
          <p:nvPr/>
        </p:nvPicPr>
        <p:blipFill>
          <a:blip r:embed="rId2"/>
          <a:stretch/>
        </p:blipFill>
        <p:spPr>
          <a:xfrm>
            <a:off x="936720" y="4005360"/>
            <a:ext cx="39020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</a:t>
            </a:r>
            <a:br>
              <a:rPr sz="24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Tvorba moča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1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lomerul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br>
              <a:rPr sz="24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č primárn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orí sa ultrafiltráciou (rýchlosť GF= 120 ml/min.)  z krvi glomerulárnych kapilár do Bowmanovho puzdra, 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80 l /24 hod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. (Efektívny filtračný tlak= 11 torr,  Stredný artériový tlak= 50 torr.)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bsahuje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, Tkan.mok, Glukózu, AK, Kreatinin, Močovinu (bez bielkovín, a krvných bunie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9265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2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rimárny tubulus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Pasívna rezorbcia (až 75% z ultrafiltátu):  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+ Na,+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Močovina, Bikarbonáty,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fosfáty. Do zost. časti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3.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nleho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lučky (HK)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prichádza izotonická tekutina, tu sa rezorbuje daľšia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.Vo vzost .časti Henle-ho klučky sa rezorbujú 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oč je izotonická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edze HK a Zberné kanaliky sú v DRENI, ktor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je hypertonická pracuje tu tzv.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rotiprúdov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ltiplikačný systém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úcinkom ktorého sa dalej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zahusťuj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Distálny tubulus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plyvom hormónov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eron a Antidiuretického hormonu (AD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dochádza k sekrécii Kys. močovej, H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do tubulu a k 5% rezorbcii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 Zberné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kanáliky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vstrebávanie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definitívn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je sterilný a izotonick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F:\ OPAVA obr. Fyziol\schema tubulov - zmeny osmolality mocu ....jpg"/>
          <p:cNvPicPr/>
          <p:nvPr/>
        </p:nvPicPr>
        <p:blipFill>
          <a:blip r:embed="rId1"/>
          <a:stretch/>
        </p:blipFill>
        <p:spPr>
          <a:xfrm>
            <a:off x="5580000" y="3254400"/>
            <a:ext cx="36352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56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Definitívny moč </a:t>
            </a:r>
            <a:r>
              <a:rPr b="1" lang="sk-SK" sz="2000" spc="-1" strike="noStrike">
                <a:solidFill>
                  <a:srgbClr val="eaeaea"/>
                </a:solidFill>
                <a:latin typeface="Arial"/>
                <a:ea typeface="Arial"/>
              </a:rPr>
              <a:t>- 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,5-2,0 l/ 24 hod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. nazltlej farby (urobilinogén) s ph 5,5,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ledvinných panvicek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s objemom 5ml, ktoré smerujú moč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odu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( ureter). Uretery sú svalové trubice s dlžkou  35 cm a priemerom cca 7 mm, Transport moča je aktívny dej s rýchlisťou 1-6 cm/sec,  a moč v podobe „močového vretienka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ého mechúra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a z neho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. cestami (uretra -  cm u ženy a 15 cm u muža) von z tela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ý mechúr-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tvorený zo zvazkov hladkej svaloviny so zvieracmi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844640"/>
            <a:ext cx="9036000" cy="50133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unkcie ledvin: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ylucovanie kyslých katabolitov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objemu ECT vody v tele, (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. ADH, Angiotenzin II,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AB rovnováh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Regulácia tvorby moč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oly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nad 2l/den,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lig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200-600 ml/den,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an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0-200ml/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glomer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Angiotenzín II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znika z Reninu tvoreného v oblasti glomerula ledvin) nasledkom je vasokonstrikcia co vedie ku zvýšeniu filtračného tlaku v glomerule ( norma je 55 mmHg) a ku zvýšeniu G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tub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 Aldosteron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ineralkortikoid z kory nadobličiek, vedie ku rezorbcii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sekrécii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DH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asopresin, Antidiuretický hormon)-  hormon neurohypofýzy, zvyšuje rezorbciu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  v dist tubuloch a zberných kanalikoc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NP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 Atriálny nátriuretický peptid)-vzniká v predsienach srd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edie ku vylucovaniu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a ku poklesu T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ndoteliny a Kalikrein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– vyzokonstrikcia a vazodilatacia arteriol glomerulov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6756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arathormón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hormón z prištítnych telies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k štítnej žlazy Udrzuje hladin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na 2,25-2,75 mmol/l, robí zpatnu rezorbci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v ledvinách a zvysuje vylučovanie fosfátov</a:t>
            </a:r>
            <a:br>
              <a:rPr sz="1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rostaglandín PGl2 –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vaz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dilatacia ciev a prekrvenie ledvin</a:t>
            </a:r>
            <a:br>
              <a:rPr sz="1800"/>
            </a:br>
            <a:br>
              <a:rPr sz="18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 pozri aj Michalský s. 106-11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06720" y="1628640"/>
            <a:ext cx="9450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22Z</dcterms:modified>
  <cp:revision>727</cp:revision>
  <dc:subject/>
  <dc:title>Úvod</dc:title>
</cp:coreProperties>
</file>