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5766-315D-4E05-8084-3E06017C5A82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1F8A-A55C-4F3E-B554-7ACC6F4CAAC8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2A26-8FD2-4C64-A31C-71B5E451C3D6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B89E-02BD-4826-B85E-E5BBE8684D88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8441-EBA2-4EEE-B99D-0AA215DF261D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6A45-5864-4E75-B5DB-4C91B1FE05CB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73C1-B614-4796-9EA2-31EBD0B4C829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1040-A716-4CC6-A3F9-136C4E9E2A53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504E-D79A-4A2C-8500-209083988A8B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6251-6A84-4568-BBBF-E250994148AE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2401-3735-406C-857D-31BDBBB81B9A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5257-2452-4510-8E16-6CCB5915415C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F9CA-25AF-4D32-9B9B-1C5C5961A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0EFB-5960-4C0F-BD40-9885746C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5399-F7D0-486C-AEF2-ED77E60F7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50FF-FA87-4833-B959-07411DF0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23AB-5773-43E0-9CCC-A7FA6F87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AF38-AEA5-48C5-B7B9-52C28971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0932-7C3F-44CB-9EBF-C6463B6F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B292-5561-483F-9352-8B86FEA7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19FA-EE79-4C47-8D27-F91F2294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1AEF-99F7-497D-8C02-D3F7C6F9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643E-213E-40A5-BD73-5F2D479D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7A31-1AC4-4E86-BD05-FEA5EF7D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5F10-235B-4CC6-AE31-433EB967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CC43-CEF6-426D-AFD1-5AA8A9DF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B0F1-14C7-403D-AA54-0C77CB1B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56D8-E8F0-48DA-BE7B-A94904189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B0FF-3050-4F5E-9A90-E6A25ADE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A4CD-7D6D-4EA7-9A91-CBB91812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A7F7-9315-4AC0-8936-8A6D3F1F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B1DA-74F8-4408-BC9E-F876BD44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0F15-DDFE-44A9-A846-E9075330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212B-A3CE-49B8-90B0-3993684B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BD38-5FD3-48E9-BC5F-D262C3ED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E514-D5F3-4DA7-B6D6-14B1BCC2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8290-399E-4672-9473-306935939A7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C5DB-CE69-4BE6-BD2C-370C47B5DD68}" type="slidenum">
              <a:rPr b="0" lang="sk-SK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1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Fyziológia tekutín tela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a  krvi</a:t>
            </a:r>
            <a:br>
              <a:rPr sz="4000"/>
            </a:br>
            <a:br>
              <a:rPr sz="4000"/>
            </a:br>
            <a:r>
              <a:rPr b="1" i="1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r>
              <a:rPr b="1" i="1" lang="sk-SK" sz="48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Ján Jakuš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cs-CZ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9" name="Picture 3" descr="F:\ OPAVA obr. Fyziol\vyvojove rady krvnych elementov.jpg"/>
          <p:cNvPicPr/>
          <p:nvPr/>
        </p:nvPicPr>
        <p:blipFill>
          <a:blip r:embed="rId1"/>
          <a:stretch/>
        </p:blipFill>
        <p:spPr>
          <a:xfrm>
            <a:off x="1936800" y="77760"/>
            <a:ext cx="5270400" cy="670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Krvné skupiny- 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odla prítomnosti glykoproteinov( aglutinogénov))  na povrchu ERYS sa delia na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A, B, 0, AB a Rh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javitelia: Landsteiner z Viedne a Janský z Prahy (1907). Výskyt: A= 41%, 0 =38%, B=14% AB= 7%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 skupin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sahuj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glutinogén A  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rotilátky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( aglutiníny)  anti B, 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B skupin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sahuje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aglutinogén B a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protilátky  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nti A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0 skupina 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je bez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glutinogénov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,ale má protilátky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nti -A a anti -B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B skupin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má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aglutinogény A,B ale je bez protilátok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Protilátky sa vyskytujú pravidelne) 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Vseobecný darca: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Skupina 0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, všeobecný príjemca :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skupina AB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Rh +(pozitívna)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sahuj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glutinogén  H (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rotilátky sa vyskytuju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epravidelne)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Rh- (negatívna matka) je bez aglutinogénu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le po imunizácii krvou skupiny Rh+(plodu)  matka vytvar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otilátku anti D ( vzniká hemolýza obycajne pocas 2. tehotenstva , uvolni sa bilirubín ktorý sa ukladá v mozgu , vzniká tzv.jadrový ikterus  co vedie k vážnemu poskodeniu CNS plodu)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eto sa Rh- dievcatam nesmie podavat Rh+ krv, v pripade ze sa to stalo podava sa im po porode (potrate )  anti D serum,(znici Erys plodu)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i transfúzii inkompatibilnej krvi v systéme ABO  dochádza k rýchlej a masivnej hemolýze co ohrozuje život pacienta.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ed podaním krvnej transfúzie sa musí  urobit </a:t>
            </a:r>
            <a:r>
              <a:rPr b="1" lang="cs-CZ" sz="2000" spc="-1" strike="noStrike" u="sng">
                <a:solidFill>
                  <a:srgbClr val="ffff00"/>
                </a:solidFill>
                <a:uFillTx/>
                <a:latin typeface="Arial"/>
              </a:rPr>
              <a:t>Skúska kompatibility-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a sklicku, v skumavke , zistuje sa  aglutinacia –používaju sa testovacie sera anti A, anti B, anti AB,, anti D,  pred vlastnou transfuziou sa robi križová skuska a biologický pokus.</a:t>
            </a:r>
            <a:br>
              <a:rPr sz="20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2" name="Picture 4" descr="F:\ OPAVA obr. Fyziol\krvne skupiny.jpg"/>
          <p:cNvPicPr/>
          <p:nvPr/>
        </p:nvPicPr>
        <p:blipFill>
          <a:blip r:embed="rId1"/>
          <a:stretch/>
        </p:blipFill>
        <p:spPr>
          <a:xfrm>
            <a:off x="2050920" y="260280"/>
            <a:ext cx="4969080" cy="54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26" descr="Malá Hora"/>
          <p:cNvPicPr/>
          <p:nvPr/>
        </p:nvPicPr>
        <p:blipFill>
          <a:blip r:embed="rId1"/>
          <a:srcRect l="0" t="0" r="421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6095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 Black"/>
              </a:rPr>
              <a:t>Prajem Vám pekný deň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149040"/>
            <a:ext cx="8713800" cy="61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m a rozdelenie telových tekutín</a:t>
            </a:r>
            <a:br>
              <a:rPr sz="2800"/>
            </a:br>
            <a:br>
              <a:rPr sz="28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elková  telová vod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MUŽ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CTV = 42l (60%),      35l (50%)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ŽENA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 toho: A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ntracelulárna tekutina: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CT  = 28l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B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xtracelulárna tekutin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  ECT  =14 l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ntravaskulárna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krvná plazma v cievach): IVT = 3,5l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xtravaskulárna (intersticiálna) 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tkanivový mok):              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EVT= 10,5l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aracelulárna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iež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ranscelulárna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 liquor, 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vnútroočná tekutina,tráviace štavy...) do CTV sa nepočíta</a:t>
            </a:r>
            <a:br>
              <a:rPr sz="2000"/>
            </a:b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ZLOŽENIE: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xtracelulárn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je viac Na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(145 mmol/l), Ca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2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2), Cl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-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(120 ) 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Intracelulárn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je viac   K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 (155 mmol/l), fosfátov a menej              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                                                                      Cl-        </a:t>
            </a:r>
            <a:br>
              <a:rPr sz="2000"/>
            </a:b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H ICT= 6,8-7,4 ( kyslé metabolity obsahujú H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ión ),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H ECT =pH krvi = 7,4  (-log H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)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ozsah hodnôt pH krvi zlučitelných so životom je  od 7,0-7,8 (-log H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)</a:t>
            </a:r>
            <a:br>
              <a:rPr sz="2000"/>
            </a:br>
            <a:br>
              <a:rPr sz="2000"/>
            </a:b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9325080" cy="824040"/>
          </a:xfrm>
          <a:prstGeom prst="rect">
            <a:avLst/>
          </a:prstGeom>
          <a:solidFill>
            <a:srgbClr val="1626c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Krv</a:t>
            </a:r>
            <a:r>
              <a:rPr b="0" lang="sk-SK" sz="2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b7e7ff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uspenzia červených krviniek, bielych krviniek a krvných doštičiek v krvnej plazme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6640" y="1052280"/>
            <a:ext cx="9325080" cy="5830920"/>
          </a:xfrm>
          <a:prstGeom prst="rect">
            <a:avLst/>
          </a:prstGeom>
          <a:solidFill>
            <a:srgbClr val="1626c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</a:rPr>
              <a:t>Množstvo krvi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4,5 - 6l  (7% hmotnosti tela)  Normovolémia, Hypo- a hyper-volém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</a:rPr>
              <a:t>Hematokrit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pomer objemu krviniek a plazmy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Muž: 44%, Žena: 39%( v centrifúg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</a:rPr>
              <a:t>Sedimentácia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FW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(závisi od pomeru bilekovín plazmy):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Norma 2-5mm/1 hod (M)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(z citrátovej krvi)                                                                               3-8 mm/1 hod (Ž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Pri zápale, anémii, v tehotenstve a počas menštruácie  sa FW zrýchľu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C:\Users\JJ\AppData\Local\Microsoft\Windows\Temporary Internet Files\Content.IE5\YDJWFUW8\erytrocyt, trombocyt, leukocyt.jpg"/>
          <p:cNvPicPr/>
          <p:nvPr/>
        </p:nvPicPr>
        <p:blipFill>
          <a:blip r:embed="rId1"/>
          <a:stretch/>
        </p:blipFill>
        <p:spPr>
          <a:xfrm>
            <a:off x="54000" y="3279600"/>
            <a:ext cx="5546880" cy="3571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F:\ OPAVA obr. Fyziol\vzhlad vzorky krvi v kapilare po centrifugacii.jpg"/>
          <p:cNvPicPr/>
          <p:nvPr/>
        </p:nvPicPr>
        <p:blipFill>
          <a:blip r:embed="rId2"/>
          <a:stretch/>
        </p:blipFill>
        <p:spPr>
          <a:xfrm>
            <a:off x="6227640" y="3279600"/>
            <a:ext cx="2600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Počet ERYS-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MUŽ : 4,3-5,3 x10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</a:rPr>
              <a:t>12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v litri. (- </a:t>
            </a:r>
            <a:r>
              <a:rPr b="1" lang="sk-SK" sz="14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0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 6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v mm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) ŽENA: 3,8-4,8 </a:t>
            </a:r>
            <a:r>
              <a:rPr b="1" lang="sk-SK" sz="14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012 v l krvi. 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Tvar bikonkávne disky  s d=7,4 um, Tvoria sa v kostnej dreni kostí, Životnost 90-120 dní, rozpadajú sa hemolýzou  v slezine, sú bez jadra a organel. Hemoglobín : MUŽ 135-170 g/l, ŽENA: 120-158 g/l. ( syntéza : z vit . C, B6, B12, Fe , AK)</a:t>
            </a:r>
            <a:br>
              <a:rPr sz="18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Význam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: prenos O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a CO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naviazaných na Hemoglobín</a:t>
            </a:r>
            <a:br>
              <a:rPr sz="18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Počet LEU-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UŽ aj ŽENA : 4 -11 </a:t>
            </a:r>
            <a:r>
              <a:rPr b="1" lang="sk-SK" sz="14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0 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3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l krvi ( lymfy) (nie sú pohlavné rozdiely)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Význam-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Imunita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obrana organizmu pred virusmi , baktériami a inými cudzorodými látkami najmä formou </a:t>
            </a:r>
            <a:r>
              <a:rPr b="1" lang="sk-SK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agocytózy</a:t>
            </a:r>
            <a:br>
              <a:rPr sz="18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Druhy LEU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A. </a:t>
            </a: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Granulocyty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N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eutrofilné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kútny zápal , počet 50-70% 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Eozinofilné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ergické a parazitárne ochorenia, 1-3%, 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Bázofilné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0,5-1%,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ergické reakcie, tvorba histamínu a heparínu –vazodilatácia ciev</a:t>
            </a:r>
            <a:br>
              <a:rPr sz="1800"/>
            </a:br>
            <a:br>
              <a:rPr sz="1800"/>
            </a:br>
            <a:br>
              <a:rPr sz="3600"/>
            </a:br>
            <a:br>
              <a:rPr sz="3600"/>
            </a:br>
            <a:br>
              <a:rPr sz="40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sk-SK" sz="4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6" name="Picture 4" descr="C:\Users\JJ\AppData\Local\Microsoft\Windows\Temporary Internet Files\Content.IE5\M3PWZNLY\formovane elementy v natere z perifernej krvi.jpg"/>
          <p:cNvPicPr/>
          <p:nvPr/>
        </p:nvPicPr>
        <p:blipFill>
          <a:blip r:embed="rId1"/>
          <a:stretch/>
        </p:blipFill>
        <p:spPr>
          <a:xfrm>
            <a:off x="0" y="3975120"/>
            <a:ext cx="3780000" cy="2882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D:\Pictures\typy bielych krviniek.jpg"/>
          <p:cNvPicPr/>
          <p:nvPr/>
        </p:nvPicPr>
        <p:blipFill>
          <a:blip r:embed="rId2"/>
          <a:stretch/>
        </p:blipFill>
        <p:spPr>
          <a:xfrm>
            <a:off x="4067280" y="3975120"/>
            <a:ext cx="4260600" cy="28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53416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B.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granulocyty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Lymfocyty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čet 25-40 %, zodpovedné za tvorbu Imunoglobulínov .( IMUNITA: humorálna-l ymfocyty B )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(IMUNITA bunková- lymfocyty T, Killer a dalsie)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                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onocyty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čet 3-8%, objavujú sa pri chronickom zápale spolu s lymfocytmi, výrazne fagocytujú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br>
              <a:rPr sz="2000"/>
            </a:br>
            <a:r>
              <a:rPr b="1" lang="sk-SK" sz="2200" spc="-1" strike="noStrike" u="sng">
                <a:solidFill>
                  <a:srgbClr val="ffff00"/>
                </a:solidFill>
                <a:uFillTx/>
                <a:latin typeface="Arial"/>
              </a:rPr>
              <a:t>Trombocyty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krvné doštičky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nepravidelný tvar s d = 2-4 um, bezjaderné bunky ,počet 150-400 x 10 3 /l , zivotnost cca 10 dní,  sú hlavne v krvi, ale aj v slezine. Granulá trombocytov obsahuju :Serotonin, ATP ,faktor zrážania č. IV, fibrinogén, faktor V - všetky potrebné pre zrážanie krvi.</a:t>
            </a:r>
            <a:br>
              <a:rPr sz="2000"/>
            </a:br>
            <a:br>
              <a:rPr sz="2000"/>
            </a:b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KRVNÁ PLAZM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tekutá zložka krvi, množstvo asi 3,5l, Zloženie:90% vody a 10% látok ( bielkoviny+ iné organické látky+ plazmatické faktory zrážania krvi+ anorganické soli)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 Bielkovi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60-80g/l) 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albumíny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43 g/l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alfa1, alfa2, beta1, beta2, ,Gama globulí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16g/l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), Fibrinogé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4g/l)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Osmolarita plazm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290 mosm/l</a:t>
            </a:r>
            <a:br>
              <a:rPr sz="2000"/>
            </a:b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Iné organické látky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glukóza 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glykémia nalačno=3,5-6,4 mmol/l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), lipidy 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lipémia= 5,7-8,2g/l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cholesterol  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celkový do 5,2 mmol/l),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nebielkovinný dusí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azotémia- močovina(urea), kreatín, kreatinín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0240" y="128520"/>
            <a:ext cx="8915400" cy="551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ffcc"/>
                </a:solidFill>
                <a:latin typeface="Arial"/>
              </a:rPr>
              <a:t>                                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0" name="Picture 3" descr="F:\ OPAVA obr. Fyziol\koncentracia anorganickych sucasti plazmy.jpg"/>
          <p:cNvPicPr/>
          <p:nvPr/>
        </p:nvPicPr>
        <p:blipFill>
          <a:blip r:embed="rId1"/>
          <a:stretch/>
        </p:blipFill>
        <p:spPr>
          <a:xfrm>
            <a:off x="108000" y="117360"/>
            <a:ext cx="4140000" cy="5473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F:\ OPAVA obr. Fyziol\koncentracia organickych sucasti plazmy.jpg"/>
          <p:cNvPicPr/>
          <p:nvPr/>
        </p:nvPicPr>
        <p:blipFill>
          <a:blip r:embed="rId2"/>
          <a:stretch/>
        </p:blipFill>
        <p:spPr>
          <a:xfrm>
            <a:off x="4238640" y="130320"/>
            <a:ext cx="4896000" cy="5473440"/>
          </a:xfrm>
          <a:prstGeom prst="rect">
            <a:avLst/>
          </a:prstGeom>
          <a:ln w="0">
            <a:noFill/>
          </a:ln>
        </p:spPr>
      </p:pic>
      <p:sp>
        <p:nvSpPr>
          <p:cNvPr id="102" name="Obdĺžnik 1"/>
          <p:cNvSpPr/>
          <p:nvPr/>
        </p:nvSpPr>
        <p:spPr>
          <a:xfrm>
            <a:off x="2465280" y="5877000"/>
            <a:ext cx="455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bdĺžnik 2"/>
          <p:cNvSpPr/>
          <p:nvPr/>
        </p:nvSpPr>
        <p:spPr>
          <a:xfrm>
            <a:off x="1351080" y="5614920"/>
            <a:ext cx="6507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702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Hemostáza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(zastavenie krvácania):  do 3-4 min. ,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zostáva zo stiahnutia ciev, nahromadenia trombocytov, vznikom  bielej, provizórnej hemostatickej zátky.</a:t>
            </a:r>
            <a:br>
              <a:rPr sz="2000"/>
            </a:b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emokoaguláci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(zrážanie krvi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) :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do 10 minút </a:t>
            </a:r>
            <a:r>
              <a:rPr b="1" i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in </a:t>
            </a:r>
            <a:r>
              <a:rPr b="1" i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vitro </a:t>
            </a:r>
            <a:r>
              <a:rPr b="1" i="1" lang="sk-SK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je súbor reakcií,ktoré vedú ku premene rozpustného proteínu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plazmy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fibrinogén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(faktor č. I) na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nerozpustný fibrí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viď. schéma zrážania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krvi  a fibrinolýza 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Michalský s. 62)</a:t>
            </a:r>
            <a:br>
              <a:rPr sz="20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Plazmatické faktory zrážania krvi</a:t>
            </a:r>
            <a:r>
              <a:rPr b="1" i="1" lang="sk-SK" sz="2400" spc="-1" strike="noStrike">
                <a:solidFill>
                  <a:srgbClr val="ffffcc"/>
                </a:solidFill>
                <a:latin typeface="Arial"/>
                <a:ea typeface="Arial"/>
              </a:rPr>
              <a:t>-</a:t>
            </a:r>
            <a:r>
              <a:rPr b="1" i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vznik v játrech 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. 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fibrinogé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Protromb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II. 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Tkanivový tromboplastín  ( jediný nie je z plazmy ,ale z poranených tkanív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V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Ca </a:t>
            </a:r>
            <a:r>
              <a:rPr b="1" lang="sk-SK" sz="20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2+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proakceler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Akceler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I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Prokon-vert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II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Antihemifilický globulín ( ked chýba vznikne hemofí-lia  A ).I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.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Christmas faktor (PTC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X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Stuart-Prowerovej faktor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I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Rosenthalov faktor (PTA- ked chýba vzniká hemofíla B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II.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Hagemanov faktor-povrchový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III.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Fibrín-stabiiizujúci faktor.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Zrážanie krvi-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ONKAJŠÍ systém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kaskády: aktivuje sa pri poranení tkanív -sled reakcií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Ca 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+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a f.III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zahajujú zrážanie, výsledkom je premen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f.II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 n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(f IIa) Trombín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a tento zmeni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f .I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na Fibrínové vlákn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, ktoré spevnia  bielu provizórnu  hemostatickú zátku a vzniká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sekundárna zátka (červená)</a:t>
            </a:r>
            <a:br>
              <a:rPr sz="36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1760" y="115560"/>
            <a:ext cx="8915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cs-CZ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VNÚTORNÝ systém kaskády: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 XII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a aktivuje stykom s kolagénom poškodených ciev, postupne sa aktivujú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 XI,IX, VIII, X za vzniku tzv. Aktivátoru protrombínu,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ktorý spolu s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a </a:t>
            </a:r>
            <a:r>
              <a:rPr b="1" lang="cs-CZ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2+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eni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II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rombin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 f.IIa)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tento zmeni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ibrinogén)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a Fibrín ( fibrinové vlákna) . Tieto su stabilizované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 XII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rážanie krvi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koagulácia) 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rozpúštanie zrazeniny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 fibrinolýza) ,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omocou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lazmínu ,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musia byť v rovnováhe.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rotizrážavé látky: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itrát sodný, štavelan, heparín, kumarín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6" name="Picture 3" descr="F:\ OPAVA obr. Fyziol\schema koagulacie.jpg"/>
          <p:cNvPicPr/>
          <p:nvPr/>
        </p:nvPicPr>
        <p:blipFill>
          <a:blip r:embed="rId1"/>
          <a:stretch/>
        </p:blipFill>
        <p:spPr>
          <a:xfrm>
            <a:off x="449280" y="2320920"/>
            <a:ext cx="856944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Hematopoéza</a:t>
            </a:r>
            <a:r>
              <a:rPr b="1" lang="sk-SK" sz="2400" spc="-1" strike="noStrike">
                <a:solidFill>
                  <a:srgbClr val="ffffcc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</a:rPr>
              <a:t>krv sa tvorí v kostnej dreni dlhých kosti ( novorode-.nec, dieta) a v plochých kostiach lebky a v stavcoch ( v dospelosti).</a:t>
            </a:r>
            <a:br>
              <a:rPr sz="2000"/>
            </a:br>
            <a:r>
              <a:rPr b="1" lang="sk-SK" sz="2000" spc="-1" strike="noStrike">
                <a:solidFill>
                  <a:srgbClr val="ffffcc"/>
                </a:solidFill>
                <a:latin typeface="Arial"/>
              </a:rPr>
              <a:t>Všetky bukové elementy krvi ( erytrocyty, leukocyty a trombocyty) vznikajú zo spoločnej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otipontentnej kmeňovej bunky.Z nej vznikajú unipotentné bunk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z nich postupne vyzrievaju 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Erytrocyty- erytropoé-za, leukocyty- leukopoéza, tronbocyty-trombopoéza.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tavebné prvky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Erytropoézy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Fe 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2+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 Fe 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potrebné na syntézu krvného farbiva-hemoglobínu, Aminokyseliny, Cu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2+,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Kobalt ,Vitamin B12 ( kya-nokobalamin), kyselina listová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Nedostato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Anémia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Nadbyto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Polycytémia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Leukopoéza :,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myeloblasty: granulocyty a agranulocyty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Lymfocyty B- dozrievaju v kostnej dreni, reagujú s antigenmi za vzniku plazmatických buniek produkujúcich  špecifické protilátky ( imunoglo-bulíny).  Lymfocyty T v tymuse, su v lymf. uzlinách a v slezine.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Trombopoéz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trombocyty z megakaryoblastu a megakaryocytu.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Regulácia krvotvorby 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hormón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Erytropoetí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z glomerula obliciek,-zvýšenie tvorby ERYS v kostnej dreni a vyplavenie do krvi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. Hormóny nadobličiek, štítnej žlazy, rastový hormón –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zvýšenie tvorby.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estosteró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zvýšenie tvorby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,  estrogé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–pokles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Granulopoetí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zvýšenie tvorby leukocytov ....a ďalsie početné látky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3:12Z</dcterms:modified>
  <cp:revision>372</cp:revision>
  <dc:subject/>
  <dc:title>Úvod</dc:title>
</cp:coreProperties>
</file>