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wmf" ContentType="image/x-wmf"/>
  <Override PartName="/ppt/media/image1.jpeg" ContentType="image/jpeg"/>
  <Override PartName="/ppt/media/image18.jpeg" ContentType="image/jpeg"/>
  <Override PartName="/ppt/media/image17.jpeg" ContentType="image/jpeg"/>
  <Override PartName="/ppt/media/image14.wmf" ContentType="image/x-wmf"/>
  <Override PartName="/ppt/media/image2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41AE-30A3-4C74-8E0C-A48219762777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5D4D-4E17-49EB-BCCE-645FFFA43BFF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68B7-2AB8-4427-ADE0-D5B81FBE9D6C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9676-3993-41EA-9316-4B999944D1F5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9B14-B20D-421B-82AF-3CE4A81E6B3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2A2E-B5EE-407B-AAAD-5D1D346B4D9B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B8AB-9DF3-42E0-8B7F-4E4DBC63E803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FBDF-EC1F-403E-BE93-CECE27236BA1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2A13-9602-4B58-8F32-BC8AFD7205B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572B-F58A-4CB5-89E2-9FF442E750B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EDF2-DB4D-4EF9-B88B-0DC4BBECFB71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D60A-9526-436B-B683-B221190B643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0632-10C9-42E0-9BBF-AFAF7B596057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D985-8505-4CBE-BCA0-630A1C2470A7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4597-A973-4AFB-BE7C-C323C80ACF83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1A91-2718-47B3-B5D1-885073EB4073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BC90-E917-45C0-A7A3-37D38E63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73FA-9D60-4B53-8AC3-39EAE9A4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7238-5787-4B2D-BD8D-7B686D94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376D-6FD9-4428-81AA-65FD91CB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C783-C21E-44D5-8AC0-4930225A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968F-F89F-4DE3-AD8E-AF9EC30A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EBEE-4092-4F71-B484-A1E765B7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5F40-C2E9-426F-A4C4-B1713399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6E77-6CB3-4D56-86A6-163F8662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9EEF-3DCF-40EF-A1F7-ADC8EABF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AB63-EF94-4CBB-8058-0121911E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8EC2-587F-47B7-A2BB-2E71A99F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E3CE-BB7F-4C0B-A309-DF5B3034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33EE-64B5-4587-9AD6-6FE329CD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A6F0-B8FA-4EB2-B9AE-4C0056E6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43A5-1997-4339-9E32-55CE1B47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D508-63D7-400D-B019-FCAB28D4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837-88AA-4C30-8BAC-AFC3B7F1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E137-AF51-42C2-B99B-16708096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0C1F-DF31-47C6-BDB4-D651B13E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2A88-E067-49B3-AD47-22FCD899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FBF9-1B0F-41E7-B308-5D5EF812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35EF-DE4A-4E0C-A501-51AB2375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A5E6-AB24-468C-A0C0-0724A26B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4076-A127-4A63-AFFA-0F34A51E5F38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7AE0-175B-40C9-BEF3-932A55C7C47F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Fyziologia zraku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027" descr="lens"/>
          <p:cNvPicPr/>
          <p:nvPr/>
        </p:nvPicPr>
        <p:blipFill>
          <a:blip r:embed="rId1"/>
          <a:stretch/>
        </p:blipFill>
        <p:spPr>
          <a:xfrm>
            <a:off x="3780000" y="0"/>
            <a:ext cx="2592360" cy="22766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029"/>
          <p:cNvSpPr/>
          <p:nvPr/>
        </p:nvSpPr>
        <p:spPr>
          <a:xfrm>
            <a:off x="3773520" y="3612240"/>
            <a:ext cx="6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r>
              <a:rPr b="1" lang="sk-SK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Lens</a:t>
            </a:r>
            <a:r>
              <a:rPr b="1" lang="sk-SK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Rectangle 1030"/>
          <p:cNvSpPr/>
          <p:nvPr/>
        </p:nvSpPr>
        <p:spPr>
          <a:xfrm>
            <a:off x="3740040" y="3613320"/>
            <a:ext cx="339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00000" y="0"/>
          <a:ext cx="8244000" cy="1401840"/>
        </p:xfrm>
        <a:graphic>
          <a:graphicData uri="http://schemas.openxmlformats.org/drawingml/2006/table">
            <a:tbl>
              <a:tblPr/>
              <a:tblGrid>
                <a:gridCol w="824400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ošovka</a:t>
                      </a:r>
                      <a:endParaRPr b="1" lang="en-US" sz="3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1043"/>
          <p:cNvSpPr/>
          <p:nvPr/>
        </p:nvSpPr>
        <p:spPr>
          <a:xfrm>
            <a:off x="0" y="2558520"/>
            <a:ext cx="9144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ŠOŠOVKA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LENS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je priehľadná a uložená za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úhovkou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- IRIS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á úlohu ohýbať svetelné lúče do jedného miesta na sietnici 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 ochorení oka s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-sobených teplom alebo UV žiarením, vzniká  ZÁKAL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Šošovky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tar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t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0" name="Picture 1054" descr="NoCataractPhoto"/>
          <p:cNvPicPr/>
          <p:nvPr/>
        </p:nvPicPr>
        <p:blipFill>
          <a:blip r:embed="rId2"/>
          <a:stretch/>
        </p:blipFill>
        <p:spPr>
          <a:xfrm>
            <a:off x="395280" y="5157720"/>
            <a:ext cx="1873080" cy="1700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55" descr="CataractPhoto"/>
          <p:cNvPicPr/>
          <p:nvPr/>
        </p:nvPicPr>
        <p:blipFill>
          <a:blip r:embed="rId3"/>
          <a:stretch/>
        </p:blipFill>
        <p:spPr>
          <a:xfrm>
            <a:off x="3132000" y="5084640"/>
            <a:ext cx="1800360" cy="1773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56" descr="cats"/>
          <p:cNvPicPr/>
          <p:nvPr/>
        </p:nvPicPr>
        <p:blipFill>
          <a:blip r:embed="rId4"/>
          <a:stretch/>
        </p:blipFill>
        <p:spPr>
          <a:xfrm>
            <a:off x="5580000" y="5013360"/>
            <a:ext cx="27338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276120"/>
            <a:ext cx="8244000" cy="635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Dúhovka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Dúhovka 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RIS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obsahuje dva svaly- zvierač a dilatátor, reagujúce na osvit: silné svetlo vedie ku zmenšovaniu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zrenice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1" lang="sk-SK" sz="3000" spc="-1" strike="noStrike">
                <a:solidFill>
                  <a:srgbClr val="ffffff"/>
                </a:solidFill>
                <a:latin typeface="Arial"/>
              </a:rPr>
              <a:t>pupily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( mió-za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  <a:ea typeface="Arial"/>
              </a:rPr>
              <a:t>,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slabé svetlo ku jej rozširovaniu (mydri-áza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. Tento tzv.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pupilárny reflex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sa využíva v anesteziológii a v neurológii na zisťovanie hĺbky anestézie a stavu bdelosti. Dúhovka obsahuje aj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cievy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a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pigment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, ktorý podmie-ňuje farbu očí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Veľa pigmentu = tmavohnedé oči, žiadny pigment = modré oči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4" name="Picture 3" descr="http://www.stlukeseye.com/images/illustrations/EyeExternal.jpg"/>
          <p:cNvPicPr/>
          <p:nvPr/>
        </p:nvPicPr>
        <p:blipFill>
          <a:blip r:embed="rId1"/>
          <a:stretch/>
        </p:blipFill>
        <p:spPr>
          <a:xfrm>
            <a:off x="3238560" y="0"/>
            <a:ext cx="59054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4"/>
          <p:cNvGrpSpPr/>
          <p:nvPr/>
        </p:nvGrpSpPr>
        <p:grpSpPr>
          <a:xfrm>
            <a:off x="0" y="171360"/>
            <a:ext cx="704880" cy="1266840"/>
            <a:chOff x="0" y="171360"/>
            <a:chExt cx="704880" cy="1266840"/>
          </a:xfrm>
        </p:grpSpPr>
        <p:sp>
          <p:nvSpPr>
            <p:cNvPr id="166" name="Rectangle 7"/>
            <p:cNvSpPr/>
            <p:nvPr/>
          </p:nvSpPr>
          <p:spPr>
            <a:xfrm>
              <a:off x="0" y="1266840"/>
              <a:ext cx="7048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85680" y="742680"/>
              <a:ext cx="6001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8" name="Rectangle 5"/>
            <p:cNvSpPr/>
            <p:nvPr/>
          </p:nvSpPr>
          <p:spPr>
            <a:xfrm>
              <a:off x="304920" y="171360"/>
              <a:ext cx="3808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6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9261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Sklovec          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1" name="Picture 4" descr="Vitreous illustration"/>
          <p:cNvPicPr/>
          <p:nvPr/>
        </p:nvPicPr>
        <p:blipFill>
          <a:blip r:embed="rId1"/>
          <a:stretch/>
        </p:blipFill>
        <p:spPr>
          <a:xfrm>
            <a:off x="3419640" y="333360"/>
            <a:ext cx="4176720" cy="28083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900000" y="3431160"/>
            <a:ext cx="82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Sklovec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- Corpus vitreum -  je uložený za šošovkou v zadnej očnej komore. Je tvorený priehľadnou huspeninovo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sklovcovou tekuti-no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- humor vitreus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ktorá má viskózno-elastic-ké vlastnosti a podmieňuje okrúhly tvar a elas-ticitu očnej gule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SIETNIC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TINA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bsahuje 2 druhy fotore-ceptotorov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TYČINK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(120 milli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ónov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/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k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 a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ČAPÍK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 6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l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/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k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),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a po dve vrstv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IPO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R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NYC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 GANGLIONAR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NYC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buniek.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Tyčinky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sú citlivejšie na svetlo než Čapíky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 u="sng">
                <a:solidFill>
                  <a:srgbClr val="ffff00"/>
                </a:solidFill>
                <a:uFillTx/>
                <a:latin typeface="Arial"/>
              </a:rPr>
              <a:t>Tyčinky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sú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zodpovedné za nočné a čiernobiele videni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kotopick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).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 u="sng">
                <a:solidFill>
                  <a:srgbClr val="ffff00"/>
                </a:solidFill>
                <a:uFillTx/>
                <a:latin typeface="Arial"/>
              </a:rPr>
              <a:t>Čapíky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a videnie farebné a videnie počas dň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Fotopické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Žltá škrvna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 - Macula lutea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je miesto najostrejšieho videnia s obsahom len čapíkov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Slepá škrvna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ptický disk- - tu vychádza z očnej gule optický  nerv a vstupu-jú a vystupujú cievy. Nie sú tu žiadne receptory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4" name="Picture 1028" descr="http://www.stlukeseye.com/images/illustrations/retina.jpg"/>
          <p:cNvPicPr/>
          <p:nvPr/>
        </p:nvPicPr>
        <p:blipFill>
          <a:blip r:embed="rId1"/>
          <a:stretch/>
        </p:blipFill>
        <p:spPr>
          <a:xfrm>
            <a:off x="3276720" y="0"/>
            <a:ext cx="2590560" cy="191628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1029"/>
          <p:cNvGrpSpPr/>
          <p:nvPr/>
        </p:nvGrpSpPr>
        <p:grpSpPr>
          <a:xfrm>
            <a:off x="266760" y="685800"/>
            <a:ext cx="1539360" cy="1533600"/>
            <a:chOff x="266760" y="685800"/>
            <a:chExt cx="1539360" cy="1533600"/>
          </a:xfrm>
        </p:grpSpPr>
        <p:sp>
          <p:nvSpPr>
            <p:cNvPr id="176" name="Rectangle 1033"/>
            <p:cNvSpPr/>
            <p:nvPr/>
          </p:nvSpPr>
          <p:spPr>
            <a:xfrm>
              <a:off x="1436400" y="1631880"/>
              <a:ext cx="36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7" name="Rectangle 1032"/>
            <p:cNvSpPr/>
            <p:nvPr/>
          </p:nvSpPr>
          <p:spPr>
            <a:xfrm>
              <a:off x="266760" y="1244520"/>
              <a:ext cx="500040" cy="1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8" name="Rectangle 1031"/>
            <p:cNvSpPr/>
            <p:nvPr/>
          </p:nvSpPr>
          <p:spPr>
            <a:xfrm>
              <a:off x="820440" y="2119680"/>
              <a:ext cx="959040" cy="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9" name="Rectangle 1030"/>
            <p:cNvSpPr/>
            <p:nvPr/>
          </p:nvSpPr>
          <p:spPr>
            <a:xfrm>
              <a:off x="458640" y="685800"/>
              <a:ext cx="4507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80" name="Rectangle 1034"/>
          <p:cNvSpPr/>
          <p:nvPr/>
        </p:nvSpPr>
        <p:spPr>
          <a:xfrm>
            <a:off x="0" y="20736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ietnic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600" spc="-1" strike="noStrike">
              <a:solidFill>
                <a:srgbClr val="ffff00"/>
              </a:solidFill>
              <a:latin typeface="Arial"/>
              <a:ea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0" y="0"/>
            <a:ext cx="86756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Očné pozadie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zisťované oftalmoskopicky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3" name="Picture 4" descr="scan0007"/>
          <p:cNvPicPr/>
          <p:nvPr/>
        </p:nvPicPr>
        <p:blipFill>
          <a:blip r:embed="rId1"/>
          <a:stretch/>
        </p:blipFill>
        <p:spPr>
          <a:xfrm>
            <a:off x="395280" y="1413000"/>
            <a:ext cx="8497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Pri prechode lúčov okom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tieto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na  sietnici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pre-chádzajú najs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r cez vrstvy ganglionárnych a bipo-lárnych buniek a až nakoniec  sa dostávajú k tyčin-kám a k čapík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Fotopigmenty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uložené v tyčinkách a v čapíkoch  podliehajú vplyvom svetla 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chemickému rozpadu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pri ktorom sa uvoľňujú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elektróny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Tieto elektróny sú zodpovedné za vznik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GP vo vnútri Ganglionárnych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buniek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AP na  axónoch opúšťajúcich Ganglionárne bunky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Teda GP a AP nevznikajú v tyčinkách a v ča-píkoch (tieto sú hyperpolarizované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2700360" y="0"/>
            <a:ext cx="1260144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           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Rozpad fotopigmentov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Tyčinky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obsahujú fotopigment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odopsin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( 11 cis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tinal-opsine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purpurovej farby.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Svetlo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ho rozkladá n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Ops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í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 ( all-trans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tinal opsine) +  1 ele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r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ó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, a pigment bledne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V  noci alebo pri zavretých očiach, sa 11 cis forma pigmentu obnovuje za katalytického účinku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itam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TA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Í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je potrebný pre resyntézu rodopsínu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k Vit. A chýba v potrave vzniká Šerosleposť 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MERALOP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I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Tri druhy Čapíkov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obsahujú fotopigmenty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: Erytrolab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 červená farb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Chlorolab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zelená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Cyanolab</a:t>
            </a:r>
            <a:r>
              <a:rPr b="1" lang="sk-SK" sz="3200" spc="-1" strike="noStrike">
                <a:solidFill>
                  <a:srgbClr val="993300"/>
                </a:solidFill>
                <a:latin typeface="Arial"/>
              </a:rPr>
              <a:t>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modrá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Farebné videnie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(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LMHOLTZ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OVA-YAUNGOV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EÓR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32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Ľudi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ercipujú 3 základné farby (zelenú, červenú, modrú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a množstvo farebných odtieňov. Je to preto, lebo sietnica obsahuje 3 druhy čapíkov s 3 druhmi fotoreceptorov. Normálne farebné videnie nazývame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ICHR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ÁZIA a ľudí TRICHROMATI.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800"/>
            </a:b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Ak chýba jeden z 3 čapíkov, hovoríme o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CHR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ÁZII a Dichromatoch.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ýchto delíme n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deuteroanopov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lná strata citlivosti na zelenú farb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protanopov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(strata červenej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tritanopov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strata modrej  a žltej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, alebo anomálov 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(čiastočná strata citlivosti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.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Ak 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chýbajú všetky čapíky  hovoríme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NOCHR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ÁZII. Farbosleposť je dedičné ochorenie -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matky ho pren-šajú na svojich synov, dcéry sú zdravé. Najčastejšie - až v 8% sa v populácii stretáme s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deuteranopiou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63080"/>
            <a:ext cx="9144000" cy="646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komodác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–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je proces zaostrenia oka na blízke predmety.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komodácia umožňuje zaostriť pohľad z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zdialeného bodu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( nad 6 m od oka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 d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Blízkeho bodu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(do vzdialenosti niekoľkých cm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, tak aby sme videli predmet ostro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očas akomodácie,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sťah m. ciliáris vedie k relaxácii ligament , ktoré držia šošovku. Šošovka sa tak vlastnou elasticitou akoby “ pohne do strán“, zhrubne a nadobud-ne okrúhly tvar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Čím bližšie je predmet pri oku, tým 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čšia musí byť akomodácia.   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Tzv.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refrakčná sil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ok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(lomivosť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sa meria v jednotkách :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DIOPTRI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                                </a:t>
            </a:r>
            <a:br>
              <a:rPr sz="2800"/>
            </a:b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D= 1 / f (m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efrakčná sil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celého oka je cc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59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z toho na rohovku pripadá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3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na šošovku asi 16-2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!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KOMODÁCIA 1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4600440" y="3795840"/>
          <a:ext cx="4762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0440" y="3795840"/>
                    <a:ext cx="4762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Zrak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- je najd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ô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ležitejší ľudský zmysel, ktorý zabezpečuje príjem viac než 80% informácií z okolia.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Adekvátny zrakový podnet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 je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ele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romag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netic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ké vlnenie fotónov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(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pr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iditeĺné svetlo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je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λ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= 380 – 780 nm).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Pr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ltr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afialové svetlo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λ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je pod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380 nm,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pr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f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ačerven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svetlo je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λ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viac než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780 nm.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ýchlosť svetla vo vákuu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je cca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300 000 km/s.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186 000 m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íl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/s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KOMODÁCIA</a:t>
            </a:r>
            <a:r>
              <a:rPr b="1" lang="sk-SK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4400640" y="3795840"/>
          <a:ext cx="87624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0640" y="3795840"/>
                    <a:ext cx="876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efrakčné chyby: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metropie sférické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OPIA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YPER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METR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PIA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,  PRESBYOP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Ametropie asféric-ké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(ASTIGMATIZMU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rmálne oko j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EMETROPIC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KÉ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s priemero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 = 2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c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Svetelné lúče sú ohýbané rohovkou a šošovkou a fokusované do žltej škrvny na sietnici. Tam sa vytvár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skutočný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, zmenšený  a obrátený obraz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predmet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4" descr="eye_emmetrop"/>
          <p:cNvPicPr/>
          <p:nvPr/>
        </p:nvPicPr>
        <p:blipFill>
          <a:blip r:embed="rId1"/>
          <a:stretch/>
        </p:blipFill>
        <p:spPr>
          <a:xfrm>
            <a:off x="2124000" y="3716280"/>
            <a:ext cx="5256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MYOPIA  -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Krátkozrakosť</a:t>
            </a: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íčiny: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riemer oka j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&gt;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2,5 cm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 aleb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lomivosť  oka (rohovky a/alebo šošovk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je v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čši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e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sa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obraz predmetu vytvár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red sietnicou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Obraz je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rozmazaný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človek ma problém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idieť ostr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zdia-ené predmet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. Postihnutí sa snažia korigovať chybu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rižmúrením viečok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. Plná korekcia je možná použitím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šošoviek-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ozptyliek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ktoré usmernia svetelné lúče do žltej škrvny na sietnici, alebo laserovou operáciou. S pribúdajúcim vekom sa myopia 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že upraviť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4" descr="Myopia - Nearsightedness"/>
          <p:cNvPicPr/>
          <p:nvPr/>
        </p:nvPicPr>
        <p:blipFill>
          <a:blip r:embed="rId1"/>
          <a:stretch/>
        </p:blipFill>
        <p:spPr>
          <a:xfrm>
            <a:off x="4464000" y="4581360"/>
            <a:ext cx="4680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Hypermetropia - ďalekozrakosť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íčiny: buď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2.5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 alebo lomivosť rohov-ky a /šošovky je malá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eto s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obraz predmetu vytvára za sietnicou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Človek má problém vidieť ostr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blízke predmety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Často sa počas čítania vys-kytuje aj únava očí a bolesti hlavy v záhlaví. Korekcia chyby sa robí nasadením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SPOJNÝCH ŠOŠOVIEK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 ktoré usmernia svetelné lúče do žltej škvrny sietni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4" descr="Fasighted eye - Hyperopia"/>
          <p:cNvPicPr/>
          <p:nvPr/>
        </p:nvPicPr>
        <p:blipFill>
          <a:blip r:embed="rId1"/>
          <a:stretch/>
        </p:blipFill>
        <p:spPr>
          <a:xfrm>
            <a:off x="3995640" y="4005360"/>
            <a:ext cx="38880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2640" y="352080"/>
            <a:ext cx="8001000" cy="608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RESBYOPIA- Starecké videnie –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je druhom ďalekozrakosti - hypermetropi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Je tiež známa ako Syndróm“ krátkych rúk“.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Podstatou chyby je, ž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elasticita Šošovky s vekom postupne  klesá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. Preto u ľudí nad 45 rokov, klesá akomodačná sila oka, z dôvodu poklesu  eleasticity šošovky. Takto sa pos-tupn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Blízky bod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vzďaľuje viac a viac od oka a dosiahne hodnoty 45 - 100 - 400 cm. (viď praktiká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Chyba sa koriguj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spojnými šošov-kami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stigmatizmu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1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atrí medzi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Asférické ametropie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ríčinou 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nerovný povrch rohovky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, kto-rá nie je dokonale hladká, ale „hrboľa-tá“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Človek buď nevidí ostro d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diaľky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alebo na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blízk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Chyba sa korigu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cylindrickými šošov-kami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alebo operačn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excimerovým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laser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696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Refrakčné sférické chyby oka 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8" name="Picture 3" descr="scan0008"/>
          <p:cNvPicPr/>
          <p:nvPr/>
        </p:nvPicPr>
        <p:blipFill>
          <a:blip r:embed="rId1"/>
          <a:stretch/>
        </p:blipFill>
        <p:spPr>
          <a:xfrm>
            <a:off x="755640" y="907920"/>
            <a:ext cx="80643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1027"/>
          <p:cNvGraphicFramePr/>
          <p:nvPr/>
        </p:nvGraphicFramePr>
        <p:xfrm>
          <a:off x="4281480" y="3186000"/>
          <a:ext cx="58104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1480" y="3186000"/>
                    <a:ext cx="58104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066320" y="475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Prajem Vám  pekn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a  úspešný  deň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ffff00"/>
                </a:solidFill>
                <a:latin typeface="Rockwell Extra Bold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6" descr="Winter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     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natómia oka zvonka: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dúhovka, zrenica, bielko, spojivk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Schopnosť vidieť zabezpečuje systém tzv.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Optického analyzátor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, ktorý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ozostáva z 3 častí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3200" spc="-1" strike="noStrike">
                <a:solidFill>
                  <a:srgbClr val="cc9900"/>
                </a:solidFill>
                <a:latin typeface="Arial"/>
              </a:rPr>
              <a:t>Očná guľa, Optické nervy (a nervové dráhy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  <a:ea typeface="Arial"/>
              </a:rPr>
              <a:t>)</a:t>
            </a:r>
            <a:r>
              <a:rPr b="1" lang="sk-SK" sz="4000" spc="-1" strike="noStrike">
                <a:solidFill>
                  <a:srgbClr val="cc9900"/>
                </a:solidFill>
                <a:latin typeface="Arial"/>
              </a:rPr>
              <a:t>, </a:t>
            </a:r>
            <a:r>
              <a:rPr b="1" lang="sk-SK" sz="3200" spc="-1" strike="noStrike">
                <a:solidFill>
                  <a:srgbClr val="cc9900"/>
                </a:solidFill>
                <a:latin typeface="Arial"/>
              </a:rPr>
              <a:t>zrakový kortex v záhlavovom laloku mozg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http://www.stlukeseye.com/images/illustrations/EyeExternal.jpg"/>
          <p:cNvPicPr/>
          <p:nvPr/>
        </p:nvPicPr>
        <p:blipFill>
          <a:blip r:embed="rId1"/>
          <a:stretch/>
        </p:blipFill>
        <p:spPr>
          <a:xfrm>
            <a:off x="684360" y="1052640"/>
            <a:ext cx="4176720" cy="273672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0" y="171360"/>
            <a:ext cx="704880" cy="1266840"/>
            <a:chOff x="0" y="171360"/>
            <a:chExt cx="704880" cy="1266840"/>
          </a:xfrm>
        </p:grpSpPr>
        <p:sp>
          <p:nvSpPr>
            <p:cNvPr id="122" name="Rectangle 8"/>
            <p:cNvSpPr/>
            <p:nvPr/>
          </p:nvSpPr>
          <p:spPr>
            <a:xfrm>
              <a:off x="0" y="1266840"/>
              <a:ext cx="7048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85680" y="742680"/>
              <a:ext cx="6001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4" name="Rectangle 6"/>
            <p:cNvSpPr/>
            <p:nvPr/>
          </p:nvSpPr>
          <p:spPr>
            <a:xfrm>
              <a:off x="304920" y="171360"/>
              <a:ext cx="3808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2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6" name="Group 11"/>
          <p:cNvGrpSpPr/>
          <p:nvPr/>
        </p:nvGrpSpPr>
        <p:grpSpPr>
          <a:xfrm>
            <a:off x="0" y="85680"/>
            <a:ext cx="3762360" cy="1647720"/>
            <a:chOff x="0" y="85680"/>
            <a:chExt cx="3762360" cy="1647720"/>
          </a:xfrm>
        </p:grpSpPr>
        <p:sp>
          <p:nvSpPr>
            <p:cNvPr id="127" name="Rectangle 22"/>
            <p:cNvSpPr/>
            <p:nvPr/>
          </p:nvSpPr>
          <p:spPr>
            <a:xfrm>
              <a:off x="3171960" y="1457280"/>
              <a:ext cx="3808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8" name="Rectangle 21"/>
            <p:cNvSpPr/>
            <p:nvPr/>
          </p:nvSpPr>
          <p:spPr>
            <a:xfrm>
              <a:off x="3162240" y="1162080"/>
              <a:ext cx="4474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3171960" y="866520"/>
              <a:ext cx="59040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3171960" y="542880"/>
              <a:ext cx="43776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1" name="Rectangle 18"/>
            <p:cNvSpPr/>
            <p:nvPr/>
          </p:nvSpPr>
          <p:spPr>
            <a:xfrm>
              <a:off x="3171960" y="247680"/>
              <a:ext cx="45720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2" name="Rectangle 17"/>
            <p:cNvSpPr/>
            <p:nvPr/>
          </p:nvSpPr>
          <p:spPr>
            <a:xfrm>
              <a:off x="0" y="1600200"/>
              <a:ext cx="618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3" name="Rectangle 16"/>
            <p:cNvSpPr/>
            <p:nvPr/>
          </p:nvSpPr>
          <p:spPr>
            <a:xfrm>
              <a:off x="323640" y="1285920"/>
              <a:ext cx="27612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314280" y="990360"/>
              <a:ext cx="30456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5" name="Rectangle 14"/>
            <p:cNvSpPr/>
            <p:nvPr/>
          </p:nvSpPr>
          <p:spPr>
            <a:xfrm>
              <a:off x="199800" y="685800"/>
              <a:ext cx="428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6" name="Rectangle 13"/>
            <p:cNvSpPr/>
            <p:nvPr/>
          </p:nvSpPr>
          <p:spPr>
            <a:xfrm>
              <a:off x="428400" y="371520"/>
              <a:ext cx="218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7" name="Rectangle 12"/>
            <p:cNvSpPr/>
            <p:nvPr/>
          </p:nvSpPr>
          <p:spPr>
            <a:xfrm>
              <a:off x="257040" y="85680"/>
              <a:ext cx="3520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3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9" name="Picture 24" descr="Conjunctiva - eye anatomy"/>
          <p:cNvPicPr/>
          <p:nvPr/>
        </p:nvPicPr>
        <p:blipFill>
          <a:blip r:embed="rId2"/>
          <a:stretch/>
        </p:blipFill>
        <p:spPr>
          <a:xfrm>
            <a:off x="5219640" y="1052640"/>
            <a:ext cx="3527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Časti ok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41" name="Object 7"/>
          <p:cNvGraphicFramePr/>
          <p:nvPr/>
        </p:nvGraphicFramePr>
        <p:xfrm>
          <a:off x="4427640" y="3807000"/>
          <a:ext cx="7714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807000"/>
                    <a:ext cx="7714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304920"/>
            <a:ext cx="807084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STAVBA OKA- schém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6" descr="scan4"/>
          <p:cNvPicPr/>
          <p:nvPr/>
        </p:nvPicPr>
        <p:blipFill>
          <a:blip r:embed="rId1"/>
          <a:stretch/>
        </p:blipFill>
        <p:spPr>
          <a:xfrm>
            <a:off x="395280" y="981000"/>
            <a:ext cx="8532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193320"/>
            <a:ext cx="8077320" cy="63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Očná guľa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(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okrúhly tvar s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 = 2.5 cm)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i="1" lang="sk-SK" sz="3600" spc="-1" strike="noStrike">
                <a:solidFill>
                  <a:srgbClr val="eaeaea"/>
                </a:solidFill>
                <a:latin typeface="Arial"/>
              </a:rPr>
              <a:t>Pozostáva z 3 častí (zvonka dovnútra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i="1" lang="sk-SK" sz="3600" spc="-1" strike="noStrike">
                <a:solidFill>
                  <a:srgbClr val="eaeaea"/>
                </a:solidFill>
                <a:latin typeface="Arial"/>
                <a:ea typeface="Arial"/>
              </a:rPr>
              <a:t>: 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i="1" lang="sk-SK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bielko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cievovk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(chorioide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ietnic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(retin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eaeaea"/>
                </a:solidFill>
                <a:latin typeface="Arial"/>
              </a:rPr>
              <a:t>a z 2 druhov tekutín: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komorový mok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 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umor aquens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, vypľňuje prednú očnú komoru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  <a:ea typeface="Arial"/>
              </a:rPr>
              <a:t>sklovcová tekutina -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vitreus humor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, vyplňuje zadnú očnú komoru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8244000" cy="47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Bielk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kléra: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tenká v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ä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zivová vrstva, ktorá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vpredu prechádza v priehľadnú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Rohovku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NE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. Má najvyšiu schop-nosť ohýbať svetelné lúče-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optickú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lomi-vosť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, obsahuje receptory bolesti, neobsa-huje cievy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Za rohovkou 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Predná očná komora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vyplnená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vodnatým komorovým mokom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(humor aquen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. Tento vytvára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vnútroočný tlak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 hodnotou cca 2,66 kPa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8" name="Picture 1027" descr="http://www.stlukeseye.com/images/illustrations/EyeExternal.jpg"/>
          <p:cNvPicPr/>
          <p:nvPr/>
        </p:nvPicPr>
        <p:blipFill>
          <a:blip r:embed="rId1"/>
          <a:stretch/>
        </p:blipFill>
        <p:spPr>
          <a:xfrm>
            <a:off x="2124000" y="333360"/>
            <a:ext cx="4284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077320" cy="617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Cievovka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ievovk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- chorioide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je medzi sklérou a retinou.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Obsahuje početné cievy s fun-ciou vyživovacou. Vpredu prechádza cievovka d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ráskovcového telesa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Picture 1028" descr="Choroid illustration"/>
          <p:cNvPicPr/>
          <p:nvPr/>
        </p:nvPicPr>
        <p:blipFill>
          <a:blip r:embed="rId1"/>
          <a:stretch/>
        </p:blipFill>
        <p:spPr>
          <a:xfrm>
            <a:off x="3492360" y="0"/>
            <a:ext cx="38163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027" descr="CiliaryBody"/>
          <p:cNvPicPr/>
          <p:nvPr/>
        </p:nvPicPr>
        <p:blipFill>
          <a:blip r:embed="rId1"/>
          <a:stretch/>
        </p:blipFill>
        <p:spPr>
          <a:xfrm>
            <a:off x="539640" y="333360"/>
            <a:ext cx="7740720" cy="2852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030"/>
          <p:cNvSpPr/>
          <p:nvPr/>
        </p:nvSpPr>
        <p:spPr>
          <a:xfrm>
            <a:off x="765000" y="5838840"/>
            <a:ext cx="2857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3" name="Picture 1028" descr="CiliaryBody"/>
          <p:cNvPicPr/>
          <p:nvPr/>
        </p:nvPicPr>
        <p:blipFill>
          <a:blip r:embed="rId2"/>
          <a:stretch/>
        </p:blipFill>
        <p:spPr>
          <a:xfrm>
            <a:off x="-3571920" y="-382680"/>
            <a:ext cx="2228760" cy="132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0" y="3429000"/>
          <a:ext cx="9144000" cy="43592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078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áskovcové teleso-</a:t>
                      </a:r>
                      <a:r>
                        <a:rPr b="1" lang="sk-SK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rpus ciliare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a-huje akomodačný SVAL -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. ciliaris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sk-SK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podpor-né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GAMENT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Zonul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),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ktoré fixujú ŠOŠOV-KU -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NS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r>
                        <a:rPr b="0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e štruktúry su významné pre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AKOMODÁCIU oka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.j. schopnosť oka zaostriť na blízke predmety.</a:t>
                      </a:r>
                      <a:endParaRPr b="1" lang="en-US" sz="32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1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2:48Z</dcterms:modified>
  <cp:revision>609</cp:revision>
  <dc:subject/>
  <dc:title>Úvod</dc:title>
</cp:coreProperties>
</file>