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0292-BF9B-4D16-8704-93C77E0B91D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9A5A-EC4A-4361-8DDF-A4583C4E242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F427-3E85-4CA7-B1E4-EDF3921495A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378D-CF3C-451F-B831-C32F236738E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1F3B-D2F3-48CD-A540-FA909CC2244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564C-9391-4493-B02A-3DBA9F5DC59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4EE5-6BD2-4285-8622-A1108C6E016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48C0-645D-403B-9B46-8282A3B8D18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A93C-AFBC-4473-87D4-3E4355BE8FA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EBE5-03F2-488F-84A8-B09C898DC51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82C7-3D57-4444-B4AF-8EECD73E65B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D23-4CC3-47D2-A32E-29515E04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C89-5005-4233-80C7-3ABFFCB9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B4A-7050-4ECD-9155-96704EF4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C68-3845-4727-80F3-01A54DDD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C26C-0CF8-4996-A136-5CD134D7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EF73-8AAE-4AC1-9692-66FECCE5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071A-B829-4C7F-BB18-00881F14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9E54-E6E3-465D-A61D-B6476CDD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4FB7-8ABC-40DD-BA4B-322102BC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DB23-7390-4573-BD53-B13C987B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C02A-48DD-4144-ABA4-8657CC5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D86-7836-4C34-B094-4D3BCC2A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E5B1-2875-4A32-95B5-9DE5295F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96EC-3F63-4FE5-BC64-DDA72CE7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85F5-A791-4872-8B6E-D727EB67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7639-1A9F-4603-A61D-C72997B1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5622-AF74-4E2E-BD5C-79173975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1C2-9A6E-4686-B870-1A15FDC7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BCE-90D1-40A0-AB98-D1CA1485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961-5423-4A5E-959D-10F17FF1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7C8-616F-4D88-8CF9-0C64CCE7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A7D-FDA4-47FC-83D0-94447E11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D46-6CA6-4002-8B7F-C0DC96BF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2C6-0C31-4558-86FD-F4D3EFC4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9357-76BB-4938-9D5B-F03228B1F56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8583-F007-4A6E-92CB-4BDEA14F5F67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483920"/>
            <a:ext cx="76960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sluchu</a:t>
            </a:r>
            <a:r>
              <a:rPr b="1" lang="sk-SK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</a:t>
            </a:r>
            <a:br>
              <a:rPr sz="7200"/>
            </a:br>
            <a:br>
              <a:rPr sz="72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r>
              <a:rPr b="1" lang="sk-SK" sz="7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endParaRPr b="0" lang="en-US" sz="7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72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nos zvuku vnútorným uchom</a:t>
            </a:r>
            <a:br>
              <a:rPr sz="36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vuk prichádza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a - Cochle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cez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álne okienk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imák je rozdelený na 3 čast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VESTIBULI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perilymfou 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ššiu koncentráciu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 Cl 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  a viac  proteín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,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MED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ndolymfou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 vyššiu konc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katiónov a menej 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Cl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Na bazilárnej membrán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ortiho orgán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nútornými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onkaj-šími vláskovými bunkam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.Obe majú na povrchu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tereocílie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útorné vláskové bun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lastné receptory zvuku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v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kajš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sobia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zosiľňovač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TYMPAN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á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Rozdielne zloženie tekutín umožňuje vznik elektrických zmien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GPs a APs, tiež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endokochleárneho potenciálu v Scala media (+80mV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, kochleárneho mikrofonického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potenciálu ( na celom slimaku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a negat. sumačného potenciálu na vnútorných vlaskových bunkách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2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 vstupe do Vnútorného ucha  zvuk (akustický tl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vlní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u a endolymf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dolymf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kmitá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azilárnu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a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láskových buniek.</a:t>
            </a:r>
            <a:br>
              <a:rPr sz="32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i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pohybom endolymfy ohýbajú raz dopra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(hyperpolariz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z doľava (depolarizá-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Generátorový potenciál (G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 vytvára z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mikro-fonických potenciálov slimáka a negatívnych sumačných potenciálov  vnútorných vláskových buniek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 vstupe K+  z endolymfy  do vnútorných buniek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!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kčný potenciál (A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vzniká po sumácii GPs na axónoch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luchového nerv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s  sú prenášané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vým nervo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do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mpo-rálneho lalok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sluchového kortexu, kde sú spraco-vávané a tu si uvedomujem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valitu, silu, farbu a význam zvuku (re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2" name="Picture 4" descr="Gray756"/>
          <p:cNvPicPr/>
          <p:nvPr/>
        </p:nvPicPr>
        <p:blipFill>
          <a:blip r:embed="rId1"/>
          <a:stretch/>
        </p:blipFill>
        <p:spPr>
          <a:xfrm>
            <a:off x="900000" y="177336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dľ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EKESYHO teórie počuti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(1964):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zilárna membrána slúži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rekvenčný analyzátor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ysoké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ju rozochvieve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a báze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, blízko Oválneho okienka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de je najužšia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ízke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 rozochvievajú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i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rchole slimáka – pri helikotrem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membrána najširšia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ný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byrint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4" name="Picture 3" descr="250px-Gray923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08280"/>
            <a:ext cx="5724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ucho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Poruchy sluchu  (hluchota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4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UDIOMETRI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umožňuje zistiť 3 druhy porúch sluch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1. Poruchu prevodovú (perifér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nutý 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bubieno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/aleb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luchové kostič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tredného ucha –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cient nepoču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hlboké zvu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nízke frekvenc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2. Poruchu percepčnú (centrál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uje buď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ortiho orgán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 v ňo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láskové bunky, príp. sluchový nerv, alebo sluchový kortex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 Pacient nepoč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soké tón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(s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ššou frekvenciou kmita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3. Poruchu zmiešan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hrnutie - animáci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402080" y="3571920"/>
          <a:ext cx="13082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3571920"/>
                    <a:ext cx="13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69932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Ďakujem Vám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a pozornosť  ! </a:t>
            </a:r>
            <a:br>
              <a:rPr sz="3600"/>
            </a:b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4" name="Picture 3" descr="Winter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lu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 veĺmi citlivý ľudský zmysel, ktorým vnímame zvuk (reč, hudbu, hlu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 Je to druh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mechanickej energie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(akustický tla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, ktorý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zniká v 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sledku kmitania molekúl vzduchu, ich zhusťova-nia a zrieďovania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o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áku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 zvuk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ešíri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lebo nie sú tam molekuly vzduchu, ktoré by sa rozkmitali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Akustický tlak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– jednotka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/m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( P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Sluchový prah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2.10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Pa. (0 d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Rýchlosť zvuku vo vzduch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je c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30 m/ s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a šíri sa v nom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vlnením,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rovnako aj  v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kvapalinách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však rýchlosť zvuku 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 pevných látkach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je rýchlosť zvuk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20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, šíri sa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aj priečnym vlnením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ho intenzita  je však nižšia.  </a:t>
            </a:r>
            <a:br>
              <a:rPr sz="3000"/>
            </a:br>
            <a:endParaRPr b="0" lang="en-US" sz="3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vu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: pravidelné (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tón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a nepravi-delné (ne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hluk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m vnímame zvuk v rozsahu o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16 Hz do 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ajčastejšie vnímame frekvencie od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500- 4000 H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topiere, psi, delfíni sú citliví n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ltraz-vu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(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Kmitani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16 Hz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Infrazvuk 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Frekvenci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ýšk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ónu, amplitúd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hlasitosť. (subjektivne vnímané parametre: výška, hlasitosť zafarbenie zvuku...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ktívne vytváraného  zvuku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sily zvu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udá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v jednotkách B resp. v dB 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ubjektívne vnímaného zvuku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hlasitosti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 udáva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o fónoch (P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e stupnice- v dB a vo Ph, sa zhodujú len pri frekvencii 1 kHz, kedy je ucho najcitlivejš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.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757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Ucho- schém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scan0010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72960"/>
            <a:ext cx="91440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TÓMIA UCHA </a:t>
            </a:r>
            <a:br>
              <a:rPr sz="3200"/>
            </a:br>
            <a:br>
              <a:rPr sz="32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loženie: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. Vonk.ucho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šnic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auricu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cho-vý kanál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ý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mazom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(ceru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hĺpkami.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. Stredné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bubienok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ympani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3 kostičk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leus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adiv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cus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ná-kovka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apes</a:t>
            </a:r>
            <a:r>
              <a:rPr b="0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strmienok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krúhle okienko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2 svaly (m. stapedius  a m. tensor tympan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ustachova trubic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.5 cm dlhá spája stredné ucho s  faryngom (vyrovnávanie tla-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možná cesta prenosu infekcie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detí.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I. Vnút.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- slimá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chl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r-tiho orgánom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renos zvuku Vonkajším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a  Stredným uchom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onkajšie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 sluchová energia je zachytávaná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ušnic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 zvuk s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šíri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vzduchom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ž na pevnú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bubienok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bí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ho rozochv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redné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Zvuk sa prenáša ce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sluchové kostičky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šírenie kosťou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ž na tekutinu vnútorného uch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 perilymf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ozochveje drobné blanky ta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ho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ko aj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Okrúhleho okienka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v strednom uch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ýznam Stredného ucha  - zabezpečuje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edanč-né pris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oben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enosu zvuku medzi vzduchom vonk. ucha a kvapalinou vnút. ucha. Ak by  nebolo stredné ucho s kostičkami - až viac ak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99 %  zvuku by sa odrazil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z perilymfy vnútorného uch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ť do ucha vonkajšie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OUND PERCEPTION</a:t>
            </a: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084560" y="3619440"/>
          <a:ext cx="1943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619440"/>
                    <a:ext cx="1943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Zloženie vnútorného uch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scan0035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Cortiho orgán - zloženie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4" descr="300px-Cochlea-crosssection"/>
          <p:cNvPicPr/>
          <p:nvPr/>
        </p:nvPicPr>
        <p:blipFill>
          <a:blip r:embed="rId2">
            <a:lum contrast="50000"/>
          </a:blip>
          <a:stretch/>
        </p:blipFill>
        <p:spPr>
          <a:xfrm>
            <a:off x="684360" y="1268280"/>
            <a:ext cx="845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29Z</dcterms:modified>
  <cp:revision>385</cp:revision>
  <dc:subject/>
  <dc:title>Úvod</dc:title>
</cp:coreProperties>
</file>