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707E-4111-4723-8918-FDF67091B89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B43A-9A7D-4D4A-99BC-31CD5E6B025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FBB7-DA8F-4738-B5AA-13753CDE7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0CF9-1A81-4FB2-849C-DA5565C8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EC57-53A5-4EDA-A127-558B107B8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4E27-9478-436F-8A92-06F4595D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9F70-6339-4E25-AA94-EEF0F349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71E6-2BC9-4C4B-841F-1534FAED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3D02-CDA7-4967-A107-FA66B660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9242-3C4F-468B-B7D3-914A6565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AFC1-FC84-42EA-BF91-5AAB9376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28B6-02BC-473D-8B3E-C862D80E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557E-52A6-4236-BEC0-9FDE0945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91EC-090B-4BD0-B567-E0D28246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4BF8-035C-466A-8781-6AD85CCE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080E-568D-4AA3-8F33-EC5D1387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8F6D-4BFB-4C87-9862-4894DF2C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2876-89F9-465B-81BF-396398B99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80F0-8D80-4910-8DF1-88DAC2A66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4F6B-729C-4BDA-92E0-CD8DEEDD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B497-FF75-4C03-85F3-24AA602E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B67A-EE5B-4410-BCC1-07C1E963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07C8-7271-486F-A0FC-72B5822C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5518-7997-433B-80CD-E0A5CAE3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0A38-DBE6-4772-AC35-4C652AA1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B61B-9D2F-40FB-8F46-9733251B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0EB9-058A-4D78-97A6-B3979AFAE86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C798-5C20-4822-9B70-BC3624A213DB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, PODNIKAVOST, INTEGRAČNÍ PROCESY V H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Bariér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58920" y="1125000"/>
            <a:ext cx="707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interní bariéry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chc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umí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můž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externí bariéry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- existují objektivně, nelze je ovlivnit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rž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trh je nasycený nebo neexistuj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určitá výroba může být zakázána nebo omezen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egion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některé statky nejsou v určitých regionech prodej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ociál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ro určitou vrstvu obyvatel může být výrobek nepřijatelný nebo si jej nemohou dovolit koupit, aj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 v GA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čné na finanční kapitál, návratnost je del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ký počet malých provozních jednotek vyvolává vyšší potřebu pracovníků a je příčinou vyšších nákladů na zabezpečení provoz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hrnu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travovac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o-zábavn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bytovací a hotelov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ateringové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ypické příklady korporac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patří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rust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podniky ztrácejí hosp. samostatnost, cílem je dosažení dominantního postavení na trh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artel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smluvní spojení podniků, mají hosp. i právní samostatnost, cílem je ovlivňování cen, výše prodejů,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cern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spojení právně samostatných podniků, řízení je central. v rukou jednotného vedení, cílem je realizovat úspory z rozsahu výroby, koncentrovat kapitál a know-how, diverzifikovat činnost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holding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principem je vlastnické ovládání dceřiné společnosti společností mateřsko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sorcium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dočasné spojení právně samostatných podniků, je tvořeno za účelem splnění určitého cíle, po splnění cíle zaniká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77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alší příklady sdružení podnik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jmová sdružení a pracovní příležitos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ý podnik, tzv. Joint venture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ing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dnárodní společnosti 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nsnacionální korpor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tivy a formy koncent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z rozsahu výrob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při pořizování výrobních faktor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ůst podílu na trh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kapitálu a znalost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suny da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iverzifikace činností – snižování rizika výkyvů v hospodař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y koncentrace: akvizice, fúze sloučením, fúze splynutím nebo (vnitřní růst, vnější růst, vytlačení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ypy fúzí: horizontální, vertikální, konglomerát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grační procesy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3 úr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omezeném geografickém prost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rámci jedné národ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upina nadnárodního dosah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ůkopník spojování hotelů -franšízingový řetězec InterContinental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liday Inn - 1200 hotelů v USA, 245 v Evropě a 74 hotelů v Asii a Pacifik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jvětší hotelový řetězec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Cendant Corp. s cca 6 300 hotely na světě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Nejdůl. sdruž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123560"/>
            <a:ext cx="784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Hotel &amp; Restaurant Association - IHRA - založena 1947 jako IHA (International Hotel Association), sdružení 147 zemí světa, resp. více než 300 tis. hotel. a rest. zaříz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Union of National Associations of Hotels, Restaurants, Cafés Keepers - HORECA - sdružení se sídlem v Curychu - ubytovací a stravovací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he Confederation of National Associations of Hotels, Restaurants, Cafés and Similar Establishments in the European Union and the European Economic Area - HOTREC - víc než 1 mil. podnikatelů v 18 evr. zemích. Hlavním úkolem je monitoring legislativního procesu EU, lobbying a konzultační činnost zejména zákonodárcům při přípravě právních norem dotýkajících se podnikání v příslušejícím obor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Continental, Holiday Inn, Mövenpick, Clarion…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dní federace hotelů a restaurací České republiky -  NFHR (vznik - 1990 - největší zájmové sdružení hoteliérů v ČR), člen IHRA,  statut pozorovatele HOTR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družení podnikatelů v pohostinství a cestovním ruchu - SPOLHOST (vznik 1991), smyslem činnosti - ochrana společných zájmů, specifikace problémů a hledání cest k jejich řešení, součástí sdružení je hotelová sekce, je členem IHRA a HK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ání, podnikavost, OSVČ, živno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brané typy sdružování podnik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tegrační procesy v hotelnictví - 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em í byl ve 20. století předmětem vědeckých výzkumů z pohledu personálních a sociologických aspek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 charakterizují činnosti podnikatele jako subjektů na trhu (firmy), jak využívají zdroje a mění je na statky a tím vytvářejí přidanou hodnotu a jaký to má dopad na ekonomický systém, jde o roli podnikatelů ve vztahu k utváření tržní ekonom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 psychologického hlediska je podnikání činnost, která je motivována určitými pohnutkami, pohnutkami něco získat nebo dosáhnout, něco si vyzkoušet, něco splni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le sociologického hlediska je podnikání hledání cesty k dokonalejšímu využívání zdrojů vytvářením pracovních míst a příležitostí, na jehož konci je vytvoření blahobytu pro všechny zainteresovan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statné rys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ladní motiv - snaha 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hodnocení vloženého kapitálu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(v podstatě zisku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 se dociluj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uspokojováním potřeb zákazník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třeby zákazníků uspokojuje statky na trhu, mus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čelit riziku,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trategii a politiku volí s cílem  snížit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tel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vkládá kapitál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cílem je zhodnocení zejména vlastního kapitálu a zvyšování hodnoty firm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ová orientace podniku by neměla zamlžovat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enské poslání podniku -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služba zákazníkovi a všem ostatním, kteří jsou s vývojem podniku spjatí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Občanském zákoníku (§421) je ve vymezení pojmu podnikatel vymezeno i podniká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em je osoba, která má k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živnostenské nebo jiné oprávnění podle jiného záko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, který nemá obchodní firmu, právně jedná při svém podnikání pod vlastním jménem; připojí-li k němu dodatky charakterizující blíže jeho osobu nebo obchodní závod, nesmí být klamav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oustavná nepřetržitá činnost, ale takovou, která je vykonávána s vidinou, že bu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konávána i nadá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125000"/>
            <a:ext cx="7842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innost nesmí být náhodná, nahodilá nebo příležitostná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oustavná činnost je i to, když je podnikatel zaměstnán a podniká pouze ve svém volném čase nebo podniká pouze v určité roční dob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amostatnost - osoba, která činnost provozuje, může sama rozhodovat o době a místě výkonu činnosti a organizaci práce podle své vlastní svobodné úvahy a vol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a musí finančně sama zajišťovat chod podnikání a sama čerpat a rozhodovat o použit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isku z činnost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Hlavním cílem podnikání je dosažení zisk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myslem podnikání je neustálý růst hodnoty firm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užit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ného jmění k podnikán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dnoho z manželů upravuje § 715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jící osoby jsou zákonem označovány jak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SVČ dle zákona č. 155/1995 Sb., o důchodovém pojištění, ve znění pozdějších předpisů, je osoba, která vykonává samostatnou výdělečnou činnost, nebo spolupracuje při výkonu samostatné výdělečné činnosti, pokud podle zákona č. 586/1992 Sb., o daních z příjmů, ve znění pozdějších předpisů, lze na ni rozdělovat příjmy dosažené výkonem této činnosti a výdaje vynaložené na jejich dosažení, zajištění a udržení, ukončila povinnou školní docházku a dosáhla aspoň 15 let vě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6028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Druhy OSV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6960" y="1052280"/>
            <a:ext cx="8051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eská správa soc. zabezpečení definuje druhy OSVČ, např.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podnikání v zemědělství,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innosti znalců, tlumočníků, zprostředkovatelů kolektivních sporů, zprostředkovatelů kolekt.a hromadných smluv podle autorského zákona, rozhodce podle zvláštních právních předpisů a správce konkursní podstaty, předběžného správce, zvláštního správce a vyrovnacího správce, aj.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může být </a:t>
            </a: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živnostník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podnikající dle 455/1991 Sb., zákona o živnostenském podnikání, ve znění pozdějších předpisů. § 2: Živností je soustavná činnost provozovaná samostatně, vlastním jménem, na vlastní odpovědnost, za účelem dosažení zisku a za podmínek stanovených tímto zákonem.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Živnosti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se člení dle § 9 na: </a:t>
            </a: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ohlašovací, koncesované (řemeslné, ….., ….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v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7842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chopnost vidět příležitost a schopnost tuto příležitost využít a chápeme ji jako dovednost (talent), která je užitečná a nepochybně i žádaná také u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vý člověk - kdo má smysl pro iniciativ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 podnikav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poručení Evropského parlamentu a Rady o klíčových schopnostech pro celoživotní učení z roku 2006 nalezneme kompetenci nazvanou smysl pro iniciativu a podnikav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7:21:09Z</dcterms:modified>
  <cp:revision>713</cp:revision>
  <dc:subject/>
  <dc:title>mikro-P1</dc:title>
</cp:coreProperties>
</file>