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9E2A4-84F7-4635-8694-FAE81C0722AC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D030D-AB27-471F-A6FD-B732114B0674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CCB6-4A26-4CC3-871F-461B6B880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45A3-D234-40C4-ACCF-8EAADEE40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F271-81B1-487E-807E-203253234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6BE4-FFB7-4725-B7F6-71167C821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E72D8-9052-4561-96EC-7D9EC9936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AFCCD-A0D6-4302-A308-5B4E62223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F357C-D7F1-4533-85FB-79B2F7E0F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F6B80-1833-4739-862B-29FB778B9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D70CE-F7A4-4C89-BD06-967A0CE2E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B5EA4-398D-4A67-918D-CE49FC2E6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34742-0205-402E-87E6-D20A9288D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C287-E6D5-47EE-8D0C-153D585A5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31399-6816-4728-A7DC-A04299669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7F294-0F2C-4D3D-BE38-FE8A678F1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CA025-3005-40F9-A18F-C1C260567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EE590-A761-4A19-8EC1-2E66BC536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4F03B-86E1-4BB6-B85F-4ADACAAB5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855C-2B31-4183-815F-EC0805804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0BDC-0767-4F8D-B349-9E794D8FB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552C-698A-4EBC-AF58-67A026790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D086-7DEA-477A-80B4-A45F4959E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280A-FFA5-4905-A0A5-5273A0182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999A-2501-4994-BF06-2438EB7D2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7483-88F5-49FB-A1A9-4973D900F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6DF71-21D8-4D9C-9B38-E0554B568304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43840" y="501840"/>
                  <a:ext cx="43128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40360" y="264600"/>
                  <a:ext cx="8096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40200" y="1404720"/>
                  <a:ext cx="2710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59640"/>
                  <a:ext cx="29016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84360" y="194760"/>
                  <a:ext cx="2872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5E4DE-A5FA-49AF-B6D8-B51179A8B294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0920" y="907560"/>
            <a:ext cx="7574040" cy="324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00000"/>
                </a:solidFill>
                <a:latin typeface="Comic Sans MS"/>
              </a:rPr>
              <a:t>CHARAKTERISTIKA PODNIKATELSKÉHO SUBJEKTU, </a:t>
            </a:r>
            <a:br>
              <a:rPr sz="4000"/>
            </a:br>
            <a:r>
              <a:rPr b="1" lang="en-GB" sz="4000" spc="-1" strike="noStrike">
                <a:solidFill>
                  <a:srgbClr val="c00000"/>
                </a:solidFill>
                <a:latin typeface="Comic Sans MS"/>
              </a:rPr>
              <a:t>JEHO TYPY A VLASTNOSTI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00000" y="4868640"/>
            <a:ext cx="78487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doc. Ing. Pavlína PELLEŠOVÁ, Ph.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50920" y="333360"/>
            <a:ext cx="763416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Zákon č. 90/2012 Sb., o obchodních společnostech a družstvec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10920" y="1483920"/>
            <a:ext cx="7273800" cy="558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bchodními korporacemi jsou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obchodní společnosti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a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družstva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. Společnostmi jsou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eřejná obchodní společnost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polečnost (jen „osobní společnost“)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polečnost s ručením omezeným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akciová společnost (jen „kapitálová společnost“)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evropská společnost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evropské hospodářské zájmové sdružení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50920" y="333360"/>
            <a:ext cx="763416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Zákon č. 90/2012 Sb., o obchodních společnostech a družstvec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610920" y="1773360"/>
            <a:ext cx="7273800" cy="52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Družstvy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dle § 1 odst. 3 zákona o obchodních společnostech a družstvech jsou družstvo a evropská družstevní společnost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Evropská společnost, evropské hospodářské zájmové sdružení a evropská družstevní společnost se řídí ustanoveními tohoto zákona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 rozsahu, v jakém to připouštějí přímo použitelné předpisy EU upravující evropskou společnost, evropské hospodářské zájmové sdružení nebo evropskou družstevní společnos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5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Specifické znaky podniků C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685800" y="1052280"/>
            <a:ext cx="769608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skytují relativně široký sortiment služeb v podmínkách často se měnící D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intenzita D po jejich službách se často mění v závislosti na jejich lokalizaci a sezóně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jejich kapacita, standard a komplexnost poskytovaných služeb ovlivňuje i lokalizaci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mají vysoké nároky na lidské zdroje, poskytují prac. místa i pro nekvalifikované pracovníky, osobní náklady tvoří vysoký podíl na jejich celkových nákladech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ři poskytování služeb jsou omezené možnosti substituce lidské práce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mnohé z nich vyžadují vysoký podnikatelský kapitál a mají vysoký podíl dlouhodobého hmotného majetku (zejména hotelové, restaurační, lázeňské podniky) – to ovlivňuje jejich ekonomiku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 jako stakeholder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 lze vnímat jako koalici zainteresovaných stran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- skupiny či osoby, které ovlivňují daný podnik nebo jsou jednáním podniku samy dotčen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interesované strany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zákazníci - tvorba hodnoty pro zákazníka a vytvoření dlouhodobě udržitelné konkurenční výhody,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zaměstnanci - konkurenční výhoda spočívá ve vytvoření učící se organizace,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věřitelé - poskytují podniku na určitou dobu kapitál - odpovídající výnos - riziko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management, dodavatele, stát, místní a regionální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správa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Cíle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imární cíl -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zabezpečení dlouhodobé prosperity podnik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imární cíle měříme ukazateli EPS, ROE, ROI, MVA, EV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nikové cíle mají tvořit uspořádaný systém, aby vypovídal o vlastnostech jednotlivých cíl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Hlavní poslání podniků je vyrábět ekonomické statky a nabízet je zákazníkům, klientům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íle závisí na účelu, pro který byl podnik založen; malé firmy x velké firmy -  jiné cíl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Členění cílů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85800" y="94428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řadí jejich významu (hierarchie): vrcholové (primární) a podřazené (dílčí) cíl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elikosti (rozsahu) cíle: neomezené a omezené cíl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časového hlediska: krátkodobé, střednědobé a dlouhodobé někdy jen krátkodobé (obvykle do 1 roku, někdy do 3 let) a dlouhodobé (delší než 1 rok, resp. 3 roky)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ztahu mezi cíli: komplementární (dosahování 1 vede k dosahování druhého), konkurenční, protikladné a indiferentní (plnění 1 cíle nemá vliv na plnění ostatních cílů).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bsahu cíle: ekonomické, technické a sociál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Formulace cílů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4428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sně vymezený obsah cíle, aby všichni zainteresovaní pochopili cíl stejně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rčená velikost cíle v naturálních nebo hodnotových jednotkách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anovený časový horizont dosažení cíle, který je pokud možno co nejreálnějš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íl jasně zdokumentovaný – srozumitelně popsaný, písemně dokladovaný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íle mají být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krétn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ěřitelné a hodnotitelné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časově ohraničené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usí být stanovena zodpovědnost za splně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Funkce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685800" y="94428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ýrobní - výroba, produkce určitého výrobku nebo služby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Dodavatelská - uspokojuje určité potřeby trh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ědeckotechnická -snaží se využívat nových vědeckých poznatků, nových technologi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konomická - tvorba zisku cestou uspokojování cizích potřeb a ve vytváření předpokladů pro další rozvoj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ociální - na fungování podniku závisí příjmy zaměstnanců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litická - posiluje, či oslabuje politická rozhodnut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zdělávací a kulturn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Bezpečnostní - zahrnuje bezpečnost práce, ochranu majetku, životního prostřed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polečenská odpovědnost (CSR) – dobrovolně integruje sociální a ekologické dopady do podnikatelské činnosti firmy, a to ve spolupráci se zainteresovanými stranami podniku a stakeholdery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Funkce podniků C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94428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00000"/>
                </a:solidFill>
                <a:latin typeface="Comic Sans MS"/>
              </a:rPr>
              <a:t>podnikatelská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využívání příležitostí na trhu CR pro dosahování cílů zhodnocení vlastního kapitál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00000"/>
                </a:solidFill>
                <a:latin typeface="Comic Sans MS"/>
              </a:rPr>
              <a:t>ekonomická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vykonávání činností spojených s poskytováním služeb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00000"/>
                </a:solidFill>
                <a:latin typeface="Comic Sans MS"/>
              </a:rPr>
              <a:t>organizačn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vnitřní uspořádání výrobních faktorů a vztahů mezi nimi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00000"/>
                </a:solidFill>
                <a:latin typeface="Comic Sans MS"/>
              </a:rPr>
              <a:t>environmentáln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postavení a činnosti podniku v souvislosti s jeho vlivem na kvalitu a ochranu ŽP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00000"/>
                </a:solidFill>
                <a:latin typeface="Comic Sans MS"/>
              </a:rPr>
              <a:t>technická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– vybavenost základními výrobními faktory a vytváření technicko-technologických podmínek pro svoji činnost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00000"/>
                </a:solidFill>
                <a:latin typeface="Comic Sans MS"/>
              </a:rPr>
              <a:t>sociáln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péče o zaměstnance podniku a vztahy mezi nimi, i vliv podniku na ekonomický a sociální rozvoj obcí, měst a regionů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4000" y="18900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3200" spc="-1" strike="noStrike">
              <a:solidFill>
                <a:srgbClr val="7030a0"/>
              </a:solidFill>
              <a:latin typeface="Comic Sans MS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402920" y="944280"/>
            <a:ext cx="697860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44784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y podle právní formy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dniky jednotlivce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osobní společnosti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kapitálové společnosti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družstva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Evropské společnosti a sdružen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eřejné (státní) podniky, neziskové organizace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447840" indent="-44784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y podle sektorů a hospodářských odvětví, tradičně do 3 sektorů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ektor primárn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ektor sekundární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ektor terciárn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447840" indent="-44784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y podle velikosti - velké, střední a malé podniky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47840" indent="-44784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y podle typu výroby, sdružení podniků;  podle typů výroby rozlišují výrobu: hromadnou, vázanou, druhovou, sériovou, plynulou, kusovou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Obdélník 1"/>
          <p:cNvSpPr/>
          <p:nvPr/>
        </p:nvSpPr>
        <p:spPr>
          <a:xfrm>
            <a:off x="-518040" y="4795920"/>
            <a:ext cx="240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7030a0"/>
                </a:solidFill>
                <a:latin typeface="Comic Sans MS"/>
              </a:rPr>
              <a:t>Typy podniků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654192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Comic Sans MS"/>
              </a:rPr>
              <a:t>Struktura přednáš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86920" y="2060640"/>
            <a:ext cx="7269480" cy="400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dnikatel, podnik, závod, provozovna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cíle a funkce podniku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jednotlivé typy podnikatelských subjektů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Typy podniků C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685800" y="765000"/>
            <a:ext cx="76960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a) podniky vztahující se k objektu, jedná se o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dniky poskytující ubytovací a stravovací služby: hotel, motel, penzion, turistická ubytovna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dniky poskytující ubytovací služby: chalupy, chaty, ubytování v soukromí, campingy, chatové osady, apod.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dniky poskytující stravovací služby: restaurace, specializované restaurace, vinárny, čajovny, kavárny, cukrárny, bary, apod.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lázeňsko-léčebné podniky: lázeňský dům, lázeňská léčebna, lázeňsko-léčebné procedury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zdělávací instituce: společensko-zábavní a kulturní podniky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portovně rekreační zařízení: umělá ledová dráha, koupaliště, plovárna, tenisové kurty, golfové hřiště, minigolf, apod.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portovní školy: lyžování, tenisu, plavání, potápění, závěsného létání, apod.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dopravní podniky CR: speciální dopravní prostředky jako např. osobní horské dopravní zařízení, koňské spřežení, úzkokolejná železnice, historická železnice apod.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ýrobní, obchodní podniky a podniky služeb orientující se na CR;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7240" y="26028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Typy podniků C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b) podniky CR vztahující se k subjektu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eklamní podniky a agentury zaměřené na propagaci CR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jišťovací podniky zaměřené na CR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inanční instituce zaměřené na CR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) podniky vytvářející vztahy mezi objektem a subjektem CR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estovní kanceláře a cestovní agentur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uristické informační kanceláře, apo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26920" y="691920"/>
            <a:ext cx="6870960" cy="610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7030a0"/>
                </a:solidFill>
                <a:latin typeface="Comic Sans MS"/>
              </a:rPr>
              <a:t>Vývoj podniků v hotelnictví v ČR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2" name="Obrázek 3" descr=""/>
          <p:cNvPicPr/>
          <p:nvPr/>
        </p:nvPicPr>
        <p:blipFill>
          <a:blip r:embed="rId1"/>
          <a:stretch/>
        </p:blipFill>
        <p:spPr>
          <a:xfrm>
            <a:off x="1069920" y="1628640"/>
            <a:ext cx="6862680" cy="35290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1042560" y="2276640"/>
            <a:ext cx="7704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DĚKUJI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ZA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POZORNOST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omic Sans MS"/>
              </a:rPr>
              <a:t>Podnik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981000"/>
            <a:ext cx="7696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becné označení pro ekonomicko-právní subjekt, jednu za základních forem institucionálního uspořádání ekonomik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z ekonomického hlediska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- subjekt, ve kterém dochází k přeměně vstupů na výstupy, tj. zboží a služb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z právnického hlediska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byl podnik dle obchodního zákoníku definován jako soubor hmotných, nehmotných, jakožto i osobních složek podniká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základními znaky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- ekonomická samostatnost a právní subjektivit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4000" y="18900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899640" y="1052280"/>
            <a:ext cx="748188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aždý subjekt, který vykonává hospodářskou činnost bez ohledu na jeho právní formu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ákladní prvek NH, tvoří jej (Vochozka, Mulač a kol, 2012)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hmotné složky podnikání (movitý a nemovitý majetek)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sobní složky podnikání (zaměstnanci a zaměstnavatelé)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ehmotné složky podnikání (obchodní jméno, patenty, licence, ochranné známky, know-how atd.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9640" y="944280"/>
            <a:ext cx="784224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efinice evropského práva, Nařízení Komise 800/2008  ze dne 6. srpna 2008, kterým se v souladu s články 87 a 88 Smlouvy o ES prohlašují určité kategorie za slučitelné se společným trhem (obecné nařízení o blokových výjimkách):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je každý subjekt vykonávající hospodářskou činnost, bez ohledu na jeho právní formu. K těmto subjektům patří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osoby samostatně výdělečně činn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rodinné podniky vykonávající řemeslné či jiné činnosti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obchodní společnosti nebo sdružení, která běžně vykonávají hospodářskou činnost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333000"/>
            <a:ext cx="6870600" cy="43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at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9640" y="765000"/>
            <a:ext cx="78422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ákon č. 90/2012 Sb., Občanský zákoník, díl 5, § 420: Podnikatel je ten, kdo samostatně vykonává na vlastní účet a odpovědnost výdělečnou činnost živnostenským nebo obdobným způsobem se záměrem činit tak soustavně za účelem dosažení zisku, je považován se zřetelem k této činnosti za podnikatele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o účely ochrany spotřebitele a pro účely § 1963 se za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atele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považuje také každá osoba, která uzavírá smlouvy související s vlastní obchodní, výrobní nebo obdobnou činností či při samostatném výkonu svého povolání, popřípadě osoba, která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edná jménem nebo na účet podnikate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§ 421 se za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atele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považuje osoba zapsaná v obchodním rejstřík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4000" y="11592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Občanský zákoní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94920" y="726840"/>
            <a:ext cx="7986600" cy="56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Sídlo podnikatele se určí adresou zapsanou ve veřejném rejstříku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Zastoupení podnikatele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- pověří-li podnikatel někoho při provozu obchodního závodu určitou činností, zastupuje tato osoba podnikatele ve všech jednáních, k nimž při této činnosti obvykle dochází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obchodní závod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je organizovaný soubor jmění, který podnikatel vytvořil a který z jeho vůle slouží k provozování jeho činnosti. Má se za to, že závod tvoří vše, co zpravidla slouží k jeho provozu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rodinný závod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- závod, ve kterém společně pracují manželé nebo alespoň s jedním z manželů i jejich příbuzní až do třetího stupně nebo osoby s manžely sešvagřené až do druhého stupně a který je ve vlastnictví některé z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               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těchto osob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4000" y="11592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Občanský zákoní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68360" y="1412640"/>
            <a:ext cx="7416720" cy="56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jem provozovna: Podnikatele zavazuje i jednání jiné osoby v jeho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rovozovně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, pokud byla třetí osoba v dobré víře, že jednající osoba je k jednání oprávněna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ísto plnění je uvedeno: Vznikl-li závazek při provozu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závodu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, plní se dluh v místě závodu. To platí obdobně, vznikl-li závazek při provozu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rovozovny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4000" y="11592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Občanský zákoní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68360" y="727200"/>
            <a:ext cx="7416720" cy="63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§ 423 -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Obchodní firma - j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e to jméno, pod kterým je podnikatel zapsán do obchodního rejstříku. Podnikatel nesmí mít víc obchodních firem. Obchodní firma nesmí být zaměnitelná s jinou obchodní firmou ani nesmí působit klamavě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Člověk se zapíše do obchodního rejstříku pod obchodní firmou tvořenou zpravidla jeho jménem. Změní-li se jeho jméno, může používat v obchodní firmě i nadále své dřívější jméno; změnu jména však uveřejní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Je-li více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obchodních závodů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několika podnikatelů spojeno do podnikatelského seskupení, mohou jejich jména nebo obchodní firmy obsahovat shodné prvky; veřejnost však musí být schopna je odlišit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9T11:03:34Z</dcterms:created>
  <dc:creator>Pavlína Pellešová</dc:creator>
  <dc:description/>
  <dc:language>en-US</dc:language>
  <cp:lastModifiedBy>pellesova</cp:lastModifiedBy>
  <dcterms:modified xsi:type="dcterms:W3CDTF">2017-09-19T16:35:06Z</dcterms:modified>
  <cp:revision>721</cp:revision>
  <dc:subject/>
  <dc:title>mikro-P1</dc:title>
</cp:coreProperties>
</file>