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E575-13C4-4877-8519-5E08597F815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2BE2-C617-432C-8CEC-ED113AA35E6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0F3D-387E-443B-BB8D-8B19A3692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42C7-20A1-4DA3-972F-59150BAB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2B14-0D51-4E9D-B14E-AD9F037ED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71FA-CAB0-4E7F-A3FE-316A7D579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453D-24FB-419C-BFBC-07FEB7B2A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078B-3D5D-415F-BB50-C837B116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F176-FE79-4547-B55E-8424A169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09BF-1B7A-4B63-809E-78EC49B3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D5FA-47B2-4130-A374-8AC8ACD7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2145-20DE-4BD2-9788-EC05A39D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1CB2-85B5-404A-92CE-DBA8D5F7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CDCE-0B2C-4639-9363-940AE9DE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FB28-70CC-4015-B21F-A6D54A6F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3E65-7F49-49F8-84CA-39FD1539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9BFA-3238-4A41-8219-AD822770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C2DA-FA49-49BA-95E9-59DFB9EED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F4B8-F0EB-4831-85EE-708DDFF59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94C9-8BC1-498F-BF44-1B68AFFD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BFA3-5C69-4B6B-BAF1-5D4632FF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74F0-34D9-4301-990E-B1D6FA2D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9B28-2A30-4DCF-B10C-B1A88F09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22B2-1A8B-413E-8570-610468CA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52E8-C68B-48E8-8257-D0EE1B5D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993C-25DA-4E05-9080-0C60D217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A0C6-7CC0-4259-9129-8B2892876F29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0CD9-278F-444E-8598-A10295030542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Analýza konkurence a formy spolupráce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pora podnikání v Č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y spoluprá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22360" y="177300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znik hotelových řetězc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spolupráce formou manažerské smlouv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licenční smlouvy neb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ranšízové smlouv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320" y="1196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y vzájemně propojené různou formou spolupráce, typem poskytovaných služeb a vlastnických vztahů, které mají typický výcvik zaměstnanců, propagace, vybavení hotelů, společný informačně-rezervační systém, marketing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ládá se z portfolia hotelů, provozovaných pod jednou značko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ové skupiny - organizační složka, několik jednotlivých hotelů nebo hotelových řetězců vystupuje pod jednotným názvem a jsou provozovány v rámci této hotelové skupi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197000"/>
            <a:ext cx="7745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společných rezervačních systé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á propagace, průzkumy trhu a jiné marketingové aktivit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výhod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ožnosti společného investování a úvěr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nožstevní výhody při výběru společných dodavatel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vádění metod řízení a kvality služeb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ní loga a značk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nalýzy vedoucí k efektivnímu provoz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ne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71320" y="155700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trátu určité samostatnosti v rozhod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direktiv a standardů daných řetězce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finančních závazků – platby za služby, členství, příspěvky do společných fondů, za rezervace, franchising (prodeji práva používat obchodní jméno, design nebo značku)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– systémy fungov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440" y="1412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ová smlou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mlouva o říz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systé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a marketingový systém, síť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lastnictví jednotlivých objekt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aliance, podobou je „Joint ventures“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sorcium - volné sdružení nezávislých organizac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lastry - Klastr cestovního ruchu resort Luhačov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92280" y="1268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le charakter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inanční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konkrétní programy, pomocí kterých lze získat finanční podporu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enou např. na projekty zaměřené na investice, hospodářské a technické poradenství, získávání informací o podnikání, projekty výzkumu a vývoje, nová pracovní místa, účast na veletrzích atd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efinanční opatření -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formování příznivého podnikatelského prostředí – omezování byrokratické zátěže ap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koncepce podpory malých a středních podnikatelů na období let 2014–2020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50 konkrétních opatření, jejichž cílem je efektivní fungování a celkový rozvoj malých a středních podnikate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budou financována ze strukturálních fondů EU (zejména z Evropského fondu regionálního rozvoje a ESF) a z národních prostřed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Cíle Koncepce podpory MSP 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267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postavení MSP v české ekonomice a růst konkurenceschopnosti MSP v evropském a světovém kontext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Rozvoj a zkvalitňování podnikatelského prostředí a zvyšování kvality poradenských služeb pro MSP, včetně zvýšení atraktivity technického a přírodovědného vzdělávání, posílení a rozvoje technické inteligenc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inovační schopnosti a efektivního nakládání s duševním vlastnictvím MSP a rozvoj podnikatelské a inovační infrastruktur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nižování energetické a materiálové náročnosti při podnikání malých a středních firem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 –strategické prio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ultivace podnikatelského prostředí, rozvoj poradenských služeb a vzdělávání pro podnik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voj podnikání založeného na podpoře výzkumu, vývoje a inovací, včetně inovační a podnikatelské infrastruk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a internacionalizace MSP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držitelné hospodaření s energií a rozvoj inovací v energetic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definovány sektory, které jsou vhodné pro veřejnou podporu ze strukturálních fondů a státního rozpočtu a které budou takto zohledněny při tvorbě nového Operačního programu Podnikání a inovace pro konkurenceschopnost a i nových národních progra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porovaná odvětv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dvětví Ubytování, Stravování i Pohostinstv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2349360"/>
            <a:ext cx="7124760" cy="37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onkurenční prostředí v oblasti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ormy spolupráce v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pora podnikání v Č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sociace hotelů a restaurací České Republiky -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čanské sdružení, profesní a nepolitická organizace. Hlavním jejím cílem je podpora podnikatelů v oboru hotelnictví a gastronomi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inkubátory, vědeckotechnické park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které jsou převážně určeny začínajícím podnikatel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ood Incubator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terý představuje jedinečný projekt, který podporuje začínající podnikatele v oblasti gastronom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– vládní organiz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15640" y="1123560"/>
            <a:ext cx="7837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zechInvest -  státní příspěvková organizace podřízená MPO ČR, posiluje konkurenceschopnost české ekonomiky prostřednictvím podpory MSP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omoravská záruční a rozvojová banka, a. s. - napomáhá rozvoji MSP, infrastruktury a dalších sektorů ekonomiky vyžadujících veřejnou podp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á exportní banka, a.s. - specializovaná bankovní instituce pro státní podporu vývozu přímo, součást systému státní proexportní polit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xportní garanční a pojišťovací společnost, a. s. (EGAP) - státní úvěrová pojišťovna se zaměřením na tržně nepojistitelná politická a komerční rizika spojená s financováním vývozu zboží, služeb a investic z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vě situace na trhu nebo v daném oboru, konkrétně (Blechová, 2015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již existuje na trhu, do kterého podnikáním firma vstupuje, je to tedy konkurenční tržní prostředí, nebo také stávající konkure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neexistuje, lze ale predikovat, že v době vstupu firmy na trh, nebo segment trhu se začne objevovat nová konkurence ze strany odběratele a dodavatele, a také konkurence ze strany substitu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h světový či národní, lze jej chápat i v rámci regionu či menších celk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 se termín relevantního trhu - vymezujeme podle povahy odvětví, nejbližších konkurentů a možných substitut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okolí - ovlivňováno různými faktory, jakými jsou konkurenti, dodavatelé a zákazníc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HOT podniká řada subjektů - provozují restaurační i ubytovací zařízení různých kategorií, a tím vytvářejí silnou konkurenci, která vedla ke snížení průměrné ce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452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– jak ji stanovit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03280" y="842760"/>
            <a:ext cx="8207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bytovací zařízení musí být stejné kategor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se nacházet ve stejné lokalitě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mít stejný počet pokojů či lůže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poskytovat stej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udeme sledovat ukazate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nové strategie na denní báz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arketingové strateg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díly v doplňkových službá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konkurence podíl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posiluje svou značku a pově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jejich silné a slabé stránky (SWOT analýza)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nalýza 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yslet se nad výhodami, které můžeme mít vůči svým konkurentů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á pověst a kvalita služe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nikátní produkt nebo lokal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nadno zapamatovatelný název a log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traktivní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dice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dividuální příst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ý poměr kvalita vs. ce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Široká nabídka doplňkových služeb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04880" y="1267920"/>
            <a:ext cx="769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= získání konkurenční výhody na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e musí být utvářena v souvislosti s fungování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videl konkurenčního chování firem na trhu a v daném segmentu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zohledněna pravidla tvořená etickými normami a veřejnou politiko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efektivně reagovat na nové výzvy trhu a konkurenčně je využíva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vrh strategie musí být pružný a efektivní pro potřeby firmy i do budouc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truktura 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01640" y="191592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lání konkurenční strategi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okol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interního prostřed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cíle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tvoření a stanovení konkurenční strategie na základě analyzovaných informac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etody analyzující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99640" y="944640"/>
            <a:ext cx="7696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rterův model 5 konkurenčních sil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analýzy konkurentů v odvětví, zákazníků, potenciálních konkurentů, stávajících i potenciálních dodavatelů, blízkých možných konkuren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 analýza polit., ekon., soc., technol. faktorů, je součástí strateg. Managementu, u velkých projektů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L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e analytická technika, analýze okolí,                + legislativní, 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PAC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analytická technika, ve strategickém Ř a plánování, představa o vhodné podnikatelské strategii, analýza hodnotí vnitřní a vnější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ituační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komplexní analýza zachycuje informace a faktory (vnitřní i vnější), které ovlivňují současnou i budoucí situaci organizace, informace o silných a slabých stránkách, příležitostech a hrozbách. Její obsah je různý, nejčastěji se používá struktura 5C ( 4C nebo 7C). Company (podnik), Customers (zákazníci), Competitors (konkurence), Collaborators (spolupracující firmy, osoby), Climate/ Context (makroekonomické faktory vnějšího prostředí)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1-01T08:53:12Z</dcterms:modified>
  <cp:revision>729</cp:revision>
  <dc:subject/>
  <dc:title>mikro-P1</dc:title>
</cp:coreProperties>
</file>