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DE8A6-1454-4505-9335-810E71ADB45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2B54C-DD0D-448D-8A21-7FDF5FC4177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9BC1-D061-4B5C-B7FE-A4EC46653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B6B3-00A9-4CF7-AEA7-51906F82C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E45C-DAFA-4F0B-ADE4-B6D12CE22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378E-C569-463A-A58F-456D8FF8A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63AEB-8162-46B6-8AA3-961E96AC6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838B7-3C78-4DBE-89AA-191D23581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74D4F-1D76-45FF-AD09-F150E42F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B40E1-DAED-49E6-82DA-493BBA44E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D5A1A-DBE5-4894-8075-596D2EAB5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073B0-1C41-4D52-9E08-E26D6DAAD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BED9B-7698-4F99-BAFE-2D14E771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F1A3-691F-41D7-9004-2E039E3CF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FA0DC-61BA-4413-B8A0-31F5F74E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92281-C517-4103-9624-6CD83FA6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EA5C8-4D31-4890-AA00-2947FAC2B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68FA9-565F-4733-9E12-8CA4E41A6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9A73A-50D7-41E0-9C6F-854E4C1B3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D4BE-C32F-4DF1-AC5A-84231E496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A6AC-AF06-4702-BD9D-AAC448D17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AD5B-5DC2-4789-B84D-1092E6E04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6BFC-8C46-498B-9218-C944EEAE8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CB50-D65A-4365-808A-AFD6F8D2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4C9E-09BB-4803-87FB-262092C4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1BC7-1002-4DF8-92E1-09EFE886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A2476-03D9-4FF1-A3E8-B9197DDDFB1D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5E70A-5F92-4AF0-BA5E-3518799EB6AE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00000"/>
                </a:solidFill>
                <a:latin typeface="Comic Sans MS"/>
              </a:rPr>
              <a:t>CHARAKTERISTIKA PODNIKATELSKÉHO SUBJEKTU, </a:t>
            </a:r>
            <a:br>
              <a:rPr sz="4000"/>
            </a:br>
            <a:r>
              <a:rPr b="1" lang="en-GB" sz="4000" spc="-1" strike="noStrike">
                <a:solidFill>
                  <a:srgbClr val="c00000"/>
                </a:solidFill>
                <a:latin typeface="Comic Sans MS"/>
              </a:rPr>
              <a:t>JEHO TYPY A VLASTNOSTI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6341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Zákon č. 90/2012 Sb., o obchodních společnostech a družstve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10920" y="1483920"/>
            <a:ext cx="7273800" cy="55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chodními korporacemi jso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bchodní společnosti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ružstva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. Společnostmi jsou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řejná obchodní společnost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ost (jen „osobní společnost“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ost s ručením omezeným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kciová společnost (jen „kapitálová společnost“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á společno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é hospodářské zájmové sdruže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6341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Zákon č. 90/2012 Sb., o obchodních společnostech a družstve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10920" y="1773360"/>
            <a:ext cx="72738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ružstv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dle § 1 odst. 3 zákona o obchodních společnostech a družstvech jsou družstvo a evropská družstevní společnost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á společnost, evropské hospodářské zájmové sdružení a evropská družstevní společnost se řídí ustanoveními tohoto zákona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rozsahu, v jakém to připouštějí přímo použitelné předpisy EU upravující evropskou společnost, evropské hospodářské zájmové sdružení nebo evropskou družstevní společno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pecifické znak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052280"/>
            <a:ext cx="76960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kytují relativně široký sortiment služeb v podmínkách často se měnící D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tenzita D po jejich službách se často mění v závislosti na jejich lokalizaci a sezóně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jejich kapacita, standard a komplexnost poskytovaných služeb ovlivňuje i lokalizaci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ají vysoké nároky na lidské zdroje, poskytují prac. místa i pro nekvalifikované pracovníky, osobní náklady tvoří vysoký podíl na jejich celkových nákladech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ři poskytování služeb jsou omezené možnosti substituce lidské práce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nohé z nich vyžadují vysoký podnikatelský kapitál a mají vysoký podíl dlouhodobého hmotného majetku (zejména hotelové, restaurační, lázeňské podniky) – to ovlivňuje jejich ekonomi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 jako stakehold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 lze vnímat jako koalici zainteresovaných stran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skupiny či osoby, které ovlivňují daný podnik nebo jsou jednáním podniku samy dotčen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interesované stran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ákazníci - tvorba hodnoty pro zákazníka a vytvoření dlouhodobě udržitelné konkurenční výhody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aměstnanci - konkurenční výhoda spočívá ve vytvoření učící se organizace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ěřitelé - poskytují podniku na určitou dobu kapitál - odpovídající výnos - riziko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anagement, dodavatele, stát, místní a regionální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práva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íle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imární cíl -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abezpečení dlouhodobé prosperity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imární cíle měříme ukazateli EPS, ROE, ROI, MVA, EV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ové cíle mají tvořit uspořádaný systém, aby vypovídal o vlastnostech jednotlivých cíl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lavní poslání podniků je vyrábět ekonomické statky a nabízet je zákazníkům, klientů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e závisí na účelu, pro který byl podnik založen; malé firmy x velké firmy -  jiné cí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cílů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řadí jejich významu (hierarchie): vrcholové (primární) a podřazené (dílčí)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likosti (rozsahu) cíle: neomezené a omezené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asového hlediska: krátkodobé, střednědobé a dlouhodobé někdy jen krátkodobé (obvykle do 1 roku, někdy do 3 let) a dlouhodobé (delší než 1 rok, resp. 3 roky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tahu mezi cíli: komplementární (dosahování 1 vede k dosahování druhého), konkurenční, protikladné a indiferentní (plnění 1 cíle nemá vliv na plnění ostatních cílů).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sahu cíle: ekonomické, technické a sociál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ormulace cílů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sně vymezený obsah cíle, aby všichni zainteresovaní pochopili cíl stejně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á velikost cíle v naturálních nebo hodnotových jednotkách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ý časový horizont dosažení cíle, který je pokud možno co nejreálnějš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 jasně zdokumentovaný – srozumitelně popsaný, písemně dokladovan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e mají být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rét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ěřitelné a hodnotitelné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asově ohraničené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být stanovena zodpovědnost za splně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unkce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ýrobní - výroba, produkce určitého výrobku nebo služb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davatelská - uspokojuje určité potřeby trh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ědeckotechnická -snaží se využívat nových vědeckých poznatků, nových technologi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á - tvorba zisku cestou uspokojování cizích potřeb a ve vytváření předpokladů pro další rozvoj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 - na fungování podniku závisí příjmy zaměstnanc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á - posiluje, či oslabuje politická rozhodnut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dělávací a kultur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Bezpečnostní - zahrnuje bezpečnost práce, ochranu majetku, životního prostřed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lečenská odpovědnost (CSR) – dobrovolně integruje sociální a ekologické dopady do podnikatelské činnosti firmy, a to ve spolupráci se zainteresovanými stranami podniku a stakeholder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unkce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podnikatelská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yužívání příležitostí na trhu CR pro dosahování cílů zhodnocení vlastního kapitál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ekonomická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ykonávání činností spojených s poskytováním služeb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organizač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nitřní uspořádání výrobních faktorů a vztahů mezi nimi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environment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postavení a činnosti podniku v souvislosti s jeho vlivem na kvalitu a ochranu ŽP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technická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– vybavenost základními výrobními faktory a vytváření technicko-technologických podmínek pro svoji činnos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soci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péče o zaměstnance podniku a vztahy mezi nimi, i vliv podniku na ekonomický a sociální rozvoj obcí, měst a regionů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402920" y="944280"/>
            <a:ext cx="697860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právní formy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jednotliv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sobní společnosti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apitálové společnosti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ružstva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Evropské společnosti a sdruže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eřejné (státní) podniky, neziskové organ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sektorů a hospodářských odvětví, tradičně do 3 sektorů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primár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sekundární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terciár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velikosti - velké, střední a malé podn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typu výroby, sdružení podniků;  podle typů výroby rozlišují výrobu: hromadnou, vázanou, druhovou, sériovou, plynulou, kusovo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Obdélník 1"/>
          <p:cNvSpPr/>
          <p:nvPr/>
        </p:nvSpPr>
        <p:spPr>
          <a:xfrm>
            <a:off x="-518040" y="4795920"/>
            <a:ext cx="240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7030a0"/>
                </a:solidFill>
                <a:latin typeface="Comic Sans MS"/>
              </a:rPr>
              <a:t>Typy podniků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, podnik, závod, provozovn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íle a funkce podniku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jednotlivé typy podnikatelských subjekt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Typ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85800" y="765000"/>
            <a:ext cx="7696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) podniky vztahující se k objektu, jedná se 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ubytovací a stravovací služby: hotel, motel, penzion, turistická ubytovna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ubytovací služby: chalupy, chaty, ubytování v soukromí, campingy, chatové osady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stravovací služby: restaurace, specializované restaurace, vinárny, čajovny, kavárny, cukrárny, bary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lázeňsko-léčebné podniky: lázeňský dům, lázeňská léčebna, lázeňsko-léčebné procedur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ělávací instituce: společensko-zábavní a kulturní podnik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rtovně rekreační zařízení: umělá ledová dráha, koupaliště, plovárna, tenisové kurty, golfové hřiště, minigolf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rtovní školy: lyžování, tenisu, plavání, potápění, závěsného létání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opravní podniky CR: speciální dopravní prostředky jako např. osobní horské dopravní zařízení, koňské spřežení, úzkokolejná železnice, historická železnice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ýrobní, obchodní podniky a podniky služeb orientující se na CR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7240" y="26028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Typ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) podniky CR vztahující se k subjektu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klamní podniky a agentury zaměřené na propagaci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jišťovací podniky zaměřené na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instituce zaměřené na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) podniky vytvářející vztahy mezi objektem a subjektem CR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estovní kanceláře a cestovní agentur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uristické informační kanceláře,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6870960" cy="61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7030a0"/>
                </a:solidFill>
                <a:latin typeface="Comic Sans MS"/>
              </a:rPr>
              <a:t>Vývoj podniků v hotelnictví v ČR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Obrázek 3" descr=""/>
          <p:cNvPicPr/>
          <p:nvPr/>
        </p:nvPicPr>
        <p:blipFill>
          <a:blip r:embed="rId1"/>
          <a:stretch/>
        </p:blipFill>
        <p:spPr>
          <a:xfrm>
            <a:off x="1069920" y="1628640"/>
            <a:ext cx="6862680" cy="3529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ecné označení pro ekonomicko-právní subjekt, jednu za základních forem institucionálního uspořádání ekonom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 ekonomického hledis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subjekt, ve kterém dochází k přeměně vstupů na výstupy, tj. zboží a služb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 právnického hledis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yl podnik dle obchodního zákoníku definován jako soubor hmotných, nehmotných, jakožto i osobních složek podnik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ákladními znak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ekonomická samostatnost a právní subjektivi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99640" y="1052280"/>
            <a:ext cx="74818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aždý subjekt, který vykonává hospodářskou činnost bez ohledu na jeho právní form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kladní prvek NH, tvoří jej (Vochozka, Mulač a kol, 2012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motné složky podnikání (movitý a nemovitý majetek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sobní složky podnikání (zaměstnanci a zaměstnavatelé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ehmotné složky podnikání (obchodní jméno, patenty, licence, ochranné známky, know-how atd.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9640" y="944280"/>
            <a:ext cx="784224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efinice evropského práva, Nařízení Komise 800/2008  ze dne 6. srpna 2008, kterým se v souladu s články 87 a 88 Smlouvy o ES prohlašují určité kategorie za slučitelné se společným trhem (obecné nařízení o blokových výjimkách):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je každý subjekt vykonávající hospodářskou činnost, bez ohledu na jeho právní formu. K těmto subjektům patří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osoby samostatně výdělečně činn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odinné podniky vykonávající řemeslné či jiné činnosti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obchodní společnosti nebo sdružení, která běžně vykonávají hospodářskou činnos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t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9640" y="765000"/>
            <a:ext cx="78422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kon č. 90/2012 Sb., Občanský zákoník, díl 5, § 420: Podnikatel je ten, kdo samostatně vykonává na vlastní účet a odpovědnost výdělečnou činnost živnostenským nebo obdobným způsobem se záměrem činit tak soustavně za účelem dosažení zisku, je považován se zřetelem k této činnosti za podnikatel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 účely ochrany spotřebitele a pro účely § 1963 se z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e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považuje také každá osoba, která uzavírá smlouvy související s vlastní obchodní, výrobní nebo obdobnou činností či při samostatném výkonu svého povolání, popřípadě osoba, která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dná jménem nebo na účet podnikate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§ 421 se z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e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považuje osoba zapsaná v obchodním rejstřík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94920" y="726840"/>
            <a:ext cx="7986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ídlo podnikatele se určí adresou zapsanou ve veřejném rejstří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Zastoupení podnikatele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- pověří-li podnikatel někoho při provozu obchodního závodu určitou činností, zastupuje tato osoba podnikatele ve všech jednáních, k nimž při této činnosti obvykle dochází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 závod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je organizovaný soubor jmění, který podnikatel vytvořil a který z jeho vůle slouží k provozování jeho činnosti. Má se za to, že závod tvoří vše, co zpravidla slouží k jeho provozu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rodinný závod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- závod, ve kterém společně pracují manželé nebo alespoň s jedním z manželů i jejich příbuzní až do třetího stupně nebo osoby s manžely sešvagřené až do druhého stupně a který je ve vlastnictví některé z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těchto osob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412640"/>
            <a:ext cx="741672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jem provozovna: Podnikatele zavazuje i jednání jiné osoby v jeho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rovozovně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pokud byla třetí osoba v dobré víře, že jednající osoba je k jednání oprávněn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ísto plnění je uvedeno: Vznikl-li závazek při provoz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ávodu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plní se dluh v místě závodu. To platí obdobně, vznikl-li závazek při provoz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rovozovn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68360" y="727200"/>
            <a:ext cx="7416720" cy="63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§ 423 -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 firma - j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e to jméno, pod kterým je podnikatel zapsán do obchodního rejstříku. Podnikatel nesmí mít víc obchodních firem. Obchodní firma nesmí být zaměnitelná s jinou obchodní firmou ani nesmí působit klamavě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Člověk se zapíše do obchodního rejstříku pod obchodní firmou tvořenou zpravidla jeho jménem. Změní-li se jeho jméno, může používat v obchodní firmě i nadále své dřívější jméno; změnu jména však uveřejní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Je-li více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ch závodů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několika podnikatelů spojeno do podnikatelského seskupení, mohou jejich jména nebo obchodní firmy obsahovat shodné prvky; veřejnost však musí být schopna je odlišit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9T16:35:06Z</dcterms:modified>
  <cp:revision>721</cp:revision>
  <dc:subject/>
  <dc:title>mikro-P1</dc:title>
</cp:coreProperties>
</file>