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52C82-1702-4660-88A4-575BC7A0093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149C4-D6F6-4CEB-8B7D-8A6BC66DFE2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2108-468B-4A91-A8E4-043C236C2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4E0D-A2D8-458E-AE1D-45FDE5C9E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AF77-4491-4E7C-BFE8-6D6E5B9A1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A797-7B0B-4A33-B14C-9F3DEEAE7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14F92-AC34-49C2-B25E-5E7422062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C746D-D0A9-42F0-8B3D-E5BE6D20E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7D1CB-FEF5-4B00-99AE-38603B8E1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84069-A526-4EB2-B2A0-0277828CD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8D27F-07A2-40C0-9D96-2B88F9D30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08C88-D874-4B20-8F53-2F5BB1348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7B833-22D9-42CA-9BB9-289CB6FF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34DC-E69F-4897-AECA-319B8F2B3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3C7FA-75FE-4092-AFF3-9FD85B0E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1678F-78DF-4AD2-ADE0-599E599B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D4FA5-9E2F-4D1D-A89F-46D208602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8F793-EBD1-44A0-A064-2B6D1DA21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FF073-2D9E-4559-866F-24E40A4FC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5069-F7BF-4E92-B685-CCC4566AE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6D46-6C18-4663-8A02-BE6ABC2DB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AE3B-C144-40F7-8C35-DF5F894E9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49EA-B153-460D-85AE-CF111F84F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AFC9-DC33-4556-AF89-849773E1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8774-1DAC-4381-AB4F-A1EAF1AA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A500-EC13-44F1-A526-F5D818A9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DCFB8-5DFE-4D11-A8F2-90952F4FD6D3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58235-88D3-4A28-90C0-82A23E3D4BC6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25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Analýza konkurence a formy spolupráce v hotelnictví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pora podnikání v Č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ormy spoluprá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422360" y="177300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znik hotelových řetězc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spolupráce formou manažerské smlouv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licenční smlouvy neb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ranšízové smlouv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71320" y="119664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= hotely vzájemně propojené různou formou spolupráce, typem poskytovaných služeb a vlastnických vztahů, které mají typický výcvik zaměstnanců, propagace, vybavení hotelů, společný informačně-rezervační systém, marketing at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kládá se z portfolia hotelů, provozovaných pod jednou značko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= hotelové skupiny - organizační složka, několik jednotlivých hotelů nebo hotelových řetězců vystupuje pod jednotným názvem a jsou provozovány v rámci této hotelové skupin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- výho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71320" y="1197000"/>
            <a:ext cx="7745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užívání společných rezervačních systém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á propagace, průzkumy trhu a jiné marketingové aktivit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ční výhod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ožnosti společného investování a úvěrov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nožstevní výhody při výběru společných dodavatel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vádění metod řízení a kvality služeb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užívání loga a značk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konomické analýzy vedoucí k efektivnímu provoz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- nevýho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71320" y="155700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trátu určité samostatnosti v rozhodov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nění direktiv a standardů daných řetězcem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nění finančních závazků – platby za služby, členství, příspěvky do společných fondů, za rezervace, franchising (prodeji práva používat obchodní jméno, design nebo značku)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– systémy fungov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440" y="141264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ranchisová smlouv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mlouva o říze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zervační systé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zervační a marketingový systém, síť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lastnictví jednotlivých objekt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cké aliance, podobou je „Joint ventures“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sorcium - volné sdružení nezávislých organizac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lastry - Klastr cestovního ruchu resort Luhačovi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92280" y="1268280"/>
            <a:ext cx="7696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le charakteru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atření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inanční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konkrétní programy, pomocí kterých lze získat finanční podporu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enou např. na projekty zaměřené na investice, hospodářské a technické poradenství, získávání informací o podnikání, projekty výzkumu a vývoje, nová pracovní místa, účast na veletrzích atd.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nefinanční opatření -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formování příznivého podnikatelského prostředí – omezování byrokratické zátěže ap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92280" y="1341000"/>
            <a:ext cx="7696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koncepce podpory malých a středních podnikatelů na období let 2014–2020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50 konkrétních opatření, jejichž cílem je efektivní fungování a celkový rozvoj malých a středních podnikatel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atření budou financována ze strukturálních fondů EU (zejména z Evropského fondu regionálního rozvoje a ESF) a z národních prostředk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Cíle Koncepce podpory MSP 2014-202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971640" y="1267920"/>
            <a:ext cx="7696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ílení postavení MSP v české ekonomice a růst konkurenceschopnosti MSP v evropském a světovém kontext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Rozvoj a zkvalitňování podnikatelského prostředí a zvyšování kvality poradenských služeb pro MSP, včetně zvýšení atraktivity technického a přírodovědného vzdělávání, posílení a rozvoje technické inteligence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ílení inovační schopnosti a efektivního nakládání s duševním vlastnictvím MSP a rozvoj podnikatelské a inovační infrastruktury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nižování energetické a materiálové náročnosti při podnikání malých a středních firem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Koncepce podpory MSP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2014-2020 –strategické prior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71640" y="148392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ultivace podnikatelského prostředí, rozvoj poradenských služeb a vzdělávání pro podnik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ozvoj podnikání založeného na podpoře výzkumu, vývoje a inovací, včetně inovační a podnikatelské infrastruktur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a internacionalizace MSP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držitelné hospodaření s energií a rozvoj inovací v energetic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Koncepce podpory MSP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2014-202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971640" y="148392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definovány sektory, které jsou vhodné pro veřejnou podporu ze strukturálních fondů a státního rozpočtu a které budou takto zohledněny při tvorbě nového Operačního programu Podnikání a inovace pro konkurenceschopnost a i nových národních program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porovaná odvětv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dvětví Ubytování, Stravování i Pohostinství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2349360"/>
            <a:ext cx="7124760" cy="37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konkurenční prostředí v oblasti hotelnictv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ormy spolupráce v hotelnictv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pora podnikání v Č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92280" y="1341000"/>
            <a:ext cx="7696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sociace hotelů a restaurací České Republiky -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čanské sdružení, profesní a nepolitická organizace. Hlavním jejím cílem je podpora podnikatelů v oboru hotelnictví a gastronomi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ské inkubátory, vědeckotechnické park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které jsou převážně určeny začínajícím podnikatelů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ood Incubator,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terý představuje jedinečný projekt, který podporuje začínající podnikatele v oblasti gastronom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– vládní organiz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115640" y="1123560"/>
            <a:ext cx="78375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zechInvest -  státní příspěvková organizace podřízená MPO ČR, posiluje konkurenceschopnost české ekonomiky prostřednictvím podpory MSP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omoravská záruční a rozvojová banka, a. s. - napomáhá rozvoji MSP, infrastruktury a dalších sektorů ekonomiky vyžadujících veřejnou podpor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á exportní banka, a.s. - specializovaná bankovní instituce pro státní podporu vývozu přímo, součást systému státní proexportní polit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xportní garanční a pojišťovací společnost, a. s. (EGAP) - státní úvěrová pojišťovna se zaměřením na tržně nepojistitelná politická a komerční rizika spojená s financováním vývozu zboží, služeb a investic z Č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vě situace na trhu nebo v daném oboru, konkrétně (Blechová, 2015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ce již existuje na trhu, do kterého podnikáním firma vstupuje, je to tedy konkurenční tržní prostředí, nebo také stávající konkuren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ce neexistuje, lze ale predikovat, že v době vstupu firmy na trh, nebo segment trhu se začne objevovat nová konkurence ze strany odběratele a dodavatele, a také konkurence ze strany substitut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čn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h světový či národní, lze jej chápat i v rámci regionu či menších celků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užívá se termín relevantního trhu - vymezujeme podle povahy odvětví, nejbližších konkurentů a možných substitutů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ční okolí - ovlivňováno různými faktory, jakými jsou konkurenti, dodavatelé a zákazníc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HOT podniká řada subjektů - provozují restaurační i ubytovací zařízení různých kategorií, a tím vytvářejí silnou konkurenci, která vedla ke snížení průměrné cen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0452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ce – jak ji stanovit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403280" y="842760"/>
            <a:ext cx="8207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bytovací zařízení musí být stejné kategor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se nacházet ve stejné lokalitě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mít stejný počet pokojů či lůžek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poskytovat stejné služb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udeme sledovat ukazate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enové strategie na denní báz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arketingové strateg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ozdíly v doplňkových službác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 má konkurence podíl na trh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 má věrnostní progra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 posiluje svou značku a pově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jsou jejich silné a slabé stránky (SWOT analýza),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Analýza konkuren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yslet se nad výhodami, které můžeme mít vůči svým konkurentů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brá pověst a kvalita služeb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nikátní produkt nebo lokali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nadno zapamatovatelný název a log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traktivní věrnostní progra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adice na trh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dividuální přístup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brý poměr kvalita vs. cen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Široká nabídka doplňkových služeb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ční strateg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704880" y="1267920"/>
            <a:ext cx="7696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 = získání konkurenční výhody na trh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e musí být utvářena v souvislosti s fungování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avidel konkurenčního chování firem na trhu a v daném segmentu trh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být zohledněna pravidla tvořená etickými normami a veřejnou politiko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efektivně reagovat na nové výzvy trhu a konkurenčně je využíva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vrh strategie musí být pružný a efektivní pro potřeby firmy i do budoucn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truktura konkurenční strateg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01640" y="1915920"/>
            <a:ext cx="7696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lání konkurenční strategi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nalýza okolí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nalýza interního prostředí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cké cíle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tvoření a stanovení konkurenční strategie na základě analyzovaných informac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etody analyzující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899640" y="944640"/>
            <a:ext cx="769644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rterův model 5 konkurenčních sil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analýzy konkurentů v odvětví, zákazníků, potenciálních konkurentů, stávajících i potenciálních dodavatelů, blízkých možných konkurent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EST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 analýza polit., ekon., soc., technol. faktorů, je součástí strateg. Managementu, u velkých projektů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ESTLE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je analytická technika, analýze okolí,                + legislativní, ek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PACE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analytická technika, ve strategickém Ř a plánování, představa o vhodné podnikatelské strategii, analýza hodnotí vnitřní a vnější prostřed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ituační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komplexní analýza zachycuje informace a faktory (vnitřní i vnější), které ovlivňují současnou i budoucí situaci organizace, informace o silných a slabých stránkách, příležitostech a hrozbách. Její obsah je různý, nejčastěji se používá struktura 5C ( 4C nebo 7C). Company (podnik), Customers (zákazníci), Competitors (konkurence), Collaborators (spolupracující firmy, osoby), Climate/ Context (makroekonomické faktory vnějšího prostředí) 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11-01T08:53:12Z</dcterms:modified>
  <cp:revision>729</cp:revision>
  <dc:subject/>
  <dc:title>mikro-P1</dc:title>
</cp:coreProperties>
</file>