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89DF-538A-464B-9B42-D8ED22733CF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897C-63D7-4585-874F-C6E138DB1BF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3331-6415-4381-9249-465ACDEE3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28A4-A313-4B0E-BDA7-251A10F9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E8BA-A081-4A06-8F81-2BF874D42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CAA1-B528-49A8-8BE2-AD3419C7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AA86-895C-4651-9091-E0D7F9346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7982-5CF7-4500-AF2A-2714B869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E412-21D4-48E7-9347-BBDFBAF1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63B8-4D33-404F-B0A2-BBF4EC18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0181-82E5-43F4-9A0C-D6EEA433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3B75-DB8C-4EEF-9712-4997FCFF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BA4C-F8F0-4CF2-9F50-9B8D28C9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53AB-26C4-43CD-A1EA-DD0A3DDE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545D-3FB1-43E3-88CB-44AEF9A1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3384-00D1-4733-9177-A0AF78BA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68C0-04B3-4573-95F8-27E5BA5F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694D-011A-4F29-B7A4-BBF9E3E02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172A-01A1-4E60-B2A1-2A819C078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FA45-75A0-44CE-A07D-F46EB497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AC27-BF30-4A49-9D6F-0C52208F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B0B2-7AA5-4AFC-B084-FFB26660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AEE1-B93A-4DCF-8929-A85E9792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2E7B-09E2-4DDC-AD7A-FC841179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154A-AC86-4238-8A0E-8284C06F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4F88-A208-44F7-ADC2-AF561006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D6EF-FC6D-42D9-B084-B3FE40E5DA7D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CE80-4C6B-41C7-A103-9EFA556380FF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ŘÍZENÍ LIDSKÝCH ZDROJŮ V HOTELNICTV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76720" y="5444640"/>
            <a:ext cx="5472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Pavlína PELLEŠOV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rámci jednotlivých činností řízení lidských zdrojů plní manažeři úkol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a analýza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zování volných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acovního výkonu a hodnoce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éče o zaměstnan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personálního informačního systém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ktivit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47640" y="799920"/>
            <a:ext cx="73440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LZ se pro splnění hlavních úkolů zaměřuje n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tivit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pracovní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rganizační rozvoj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pracovních úkolů, pracovních míst a organizačních struktu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personálu organiza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personálního výzkumu a funkčnosti personálního informačního systém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a zaměstnanecké výhod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covní vztahy, především pak vztahy s odb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oc pracovníků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personálního útva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 kategori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personální strategie ve spolupráci s managementem podniku, včetně principů a politiky říz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a respektování pravidel, předpisů a zákon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jištění operativního řízení personál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ojek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informací a vyjedná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ra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 -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47640" y="836640"/>
            <a:ext cx="70567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tráková a kol. (2011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t v podniku prostředí, aby počet a struktura prac. míst byly v dynamickém souladu s počtem a strukturou zaměstnanců, přičemž každé prac. místo musí být obsazené zaměstnancem, který splní požadavky na výkon práce, zároveň prac. místo musí poskytovat zaměstnanci prostor na seberealizaci a při plnění cílů podniku dosáhnout i osobní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ustále rozvíjet lidské zdroje a vytvářet pro ně motivující pracovní a životní podmínky, což přispěje k plnění cíl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at týmy, efektivní styl vedení lidí a zdravé mezilidské vztahy v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71640" y="836640"/>
            <a:ext cx="74880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áhat podniku přizpůsobovat se různým zájmům zainteresovaných osob - vlastníků, zaměstnanců, odborových organizací, zákazníků, dodavatelů, státní správ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samospráv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ledovat místní, celostátní i mezinárodní vývoj ovlivňující praxi zaměstnávání osob a interpretovat a objasňovat jeho důsledky pro strategii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zájmu úspěšného fungování podniku poskytovat přímo anebo nepřímo potřeb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10920" y="611280"/>
            <a:ext cx="784836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nalýza pracovních míst pro stanovení specifických potřeb podniku v oblasti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ognózovaní a plánování potřeby pracovních sil a pokrytí této potřeby. V této souvislosti realizaci průzkumů trhu práce, populačního vývoje a hodnotové orientace lid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hledávání a získávání zaměstnanců potřebných pro plnění úkolů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běr a přijím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rientace a adaptace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Rozmísťovaní zaměstnanců tak, aby byli optimálně využité jejich pracovní schopnosti ve prospěch podniku a pro zvýšení spokojenosti samotných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ání a rozvoj zaměstnanců podniku, aby byli připraveni zvládnout nejen nové požadavky na pracovní místo, ale aby byli připraveni i na změnu svého pracovního zařazení v rámc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programů řízení a rozvoje organizace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vhodných systémů hodnocení pracovního výkonu a postojů k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agendy penzionování a propouště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10920" y="611280"/>
            <a:ext cx="82818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zpracování a realizaci plánů jejich kariéry, plánů jejich personálního a sociálního rozvoj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odměňov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lupráce mezi podnikem a odbor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systémů projednávání disciplinárních záležitostí a stížností a péče o jejich fungován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podmínek pro tvorbu dobrých mezilidských vztah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programů, které se týkají bezpečnosti a ochrany zdraví zaměstnanců při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sociální práce v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řešení osobních problémů, které by mohly ovlivnit jejich pracovní výk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zabezpečování systému komunikace se zaměstnan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personálního informačního systému, zřizování, aktualizace a uchovávání dokumentů týkajících se jednotlivých zaměstnanců, zpracovávání příslušné statistiky a analýz poskytujících údajovou základnu a pomoc při rozhodovaní, zjišťování názorů a postojů zaměstnanců k aktuálním problémům a záměrům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dodržování zákonů v oblasti práce, zaměstnávaní osob a lidských práv a vytváření dobré zaměstnanecké pověst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činnosti řízení lidských zdroj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Obrázek 4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20072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31680" y="174600"/>
          <a:ext cx="8964720" cy="6665760"/>
        </p:xfrm>
        <a:graphic>
          <a:graphicData uri="http://schemas.openxmlformats.org/drawingml/2006/table">
            <a:tbl>
              <a:tblPr/>
              <a:tblGrid>
                <a:gridCol w="2519280"/>
                <a:gridCol w="6445440"/>
              </a:tblGrid>
              <a:tr h="28008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Činnosti Ř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Účel čin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tváření a analýza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ování pracovních úkolů (a souvisejících povinností, pravomocí, odpovědnosti, podmínek a požadavků vykonané práce) a jejich seskupování do prac. míst, zpracování popisů a specifikací pracovních míst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lidsk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potřeby, pokrytí potřeby a pers. rozvoje zaměstnanců, zpracování plánů personálních činnost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volných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nově vytvořených nebo uvolněných prac. míst v organizaci, získání vhodných uchazečů, výběr nejvhodnějších uchazečů, přijímání uchazečů, adaptace přijatých uchazeč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Řízení pracovního výkonu a hodnoce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měrňování a podněcování zaměstnanců k vykonávání sjednané práce a dosahování požadovaného výkonu pomocí systematického získávání a poskytování zpětné vazby (infce o skutečném výkon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měňová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eňování skutečného výkonu zaměstnanců a stimulace zaměstnanců k dosaže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zdělávání a rozvoj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tváření, prohlubování a rozšiřování schopností zaměstnanců k vykonávání sjednané práce a dosahová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éče o zaměst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ahování příznivých hodnot všech proměnných, které ovlivňují zaměstnance v prac. procesu při vykonávání sjednané práce a dosahování požadovaného výkonu (prac. doba, prac. prostředí, bezpečnost a ochrana zdraví při práci, pracovní vztahy apod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užívání personálního informačního systé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pracování pers. údajů potřebných k plnění povinností vyplývajících z právních předpisů a zabezpečování personální práce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é strategické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560" y="1483920"/>
            <a:ext cx="74883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těchto otáze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ou podnikatelskou filozofii si chce podnik vytvořit, jaké chce mít poslání a jakou roli si přeje hrát na trhu či ve společnosti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m pozitivním a negativním vnějším faktorům musí podnik čeli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přednosti a nedostatky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ch cílů chce podnik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chce těchto cílů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mezit pojem řízení lidských zdrojů a odlišit od personálního řízen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psat cíle a činnosti řízení lidských zdroj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harakterizovat jednotlivé úkoly řízení lidských zdroj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o řeší ŘLZ nejpr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2920" y="836640"/>
            <a:ext cx="74883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míry souladu mezi prac. místy a             pracovníky chce podnik v budoucnu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je současná míra souladu a z ní plynoucí úroveň produktivity práce a osobního rozvoje pracovníků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změny v politice a praktické činnosti jsou nezbytné, aby bylo dosaženou žádoucího souladu mezi pracovními místy a pracovník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lik a jaký druh pracovníků bude podnik potřebova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nabídka PS se perspektivně předpokládá v podniku i mimo něj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potřeba udělat pro pokrytí potřeb pracovníků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413000"/>
            <a:ext cx="813096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(ŘLZ) je práce s lidmi takovým způsobem, který vede ke zvýšení výkonnosti podniku při dosažení osobních cílů zaměstnanců. Je záležitostí všech manažerů a vedoucích týmů (Vetráková a kol., 2011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bývá obvykle definováno jako proces dosahování podnikových cílů prostřednictvím získávání, stabilizování, propouštění, rozvoje a optimálního využívání lidského potenciálu (Vochozka, Mulač a kol., 2012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78920" y="836280"/>
            <a:ext cx="8209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manažerský přístup k využívání úsilí, schopnosti a oddanosti lidí k vykonávání požadované práce způsobem, který organizaci zajistí perspektivní budoucnost (Watson, 2010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souhrnem metodologií a rozhodování, jejichž cílem je řídit a rozvíjet lidský potenciál ve všech druzích organizací. Řízení lidských zdrojů lze definovat jako proces dosahování podnikových cílů prostřednictvím získávání, stabilizování, propouštění, rozvoje a optimálního využívání lidí v organizaci. Tato definice ukazuje rozdílnost charakteristiky personalistiky, která je „jen“ obsazováním pozic v organizační struktuře a udržování jejich obsazení (Wagnerová a Matusiková,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34720" y="3207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a personální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Obrázek 4" descr=""/>
          <p:cNvPicPr/>
          <p:nvPr/>
        </p:nvPicPr>
        <p:blipFill>
          <a:blip r:embed="rId1"/>
          <a:stretch/>
        </p:blipFill>
        <p:spPr>
          <a:xfrm>
            <a:off x="1835280" y="944640"/>
            <a:ext cx="5470560" cy="5734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ozdíly a shodné ry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Obrázek 4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26436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58560" y="119700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dosahování strategických cílů organizace vytvářením a uplatňováním strategií lidských zdrojů v souladu se strategií podniku (strategické řízení lidských zdrojů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ispívat k rozvíjení kultury zaměřené na dosahování vysokého výkon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at organizaci talentované, kvalifikované a oddané lid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vytváření pozitivních pracovních vztahů a navozování vzájemné důvěry mezi managementem a zaměstnanc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uplatňování etického přístupu k řízení lid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ý cíl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403280" y="1125360"/>
            <a:ext cx="73440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zajistit, aby byl podnik schopen prostřednictvím lidí úspěšně plnit cíle v oblaste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a rozvoje pracovníků – předvídat a uspokojovat budoucí potřeby pracovních sil, zvyšovat a rozvíjet podstatné schopnosti lidí, potenciál a zaměstnatelnost (příležitost k soustavnému vzdělání a rozvoji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cenění pracovníků – zvyšovat motivaci za oddanost, znalosti, dovednosti, schop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 mezi managementem a pracovníky – vytvářet ovzduší pro udržování dobrých vztahů a důvě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úkoly ŘLZ 5-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zařazení správného člověka na správné místo a snažit se o to, aby byl tento člověk neustále připraven přizpůsobovat se měnícím se požadavkům pracovního místa, uplatňuje se tzv. „tailoring“ neboli „šití“ pracovních úkolů a pracovních míst na míru pracovníkov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timální využívání prac. sil v podniku - pracovní doby, pracovních schopnost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týmu, efektivního stylu vedení lidí a zdravých mezilidských vztah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ersonální a sociální rozvoj pracovník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držování zákonů v oblasti práce, zaměstnávaní osob a lidských práv a vytváření dobré zaměstnanecké pověsti podni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0-19T20:14:40Z</dcterms:modified>
  <cp:revision>724</cp:revision>
  <dc:subject/>
  <dc:title>mikro-P1</dc:title>
</cp:coreProperties>
</file>