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145E6-76A9-4B3C-B1D9-9C0F266E966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5F889-27A5-4688-BA0B-F358A4906E7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62D1-B906-4330-B566-1509BD6BF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1483-DB4B-4491-980C-37EDCB91E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EC43-1DF3-4382-9671-644EF6FEE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C101-102E-43F2-838B-A176D6B09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1639B-A67B-4293-B339-4F625866B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7AFDF-F660-4113-9D54-038CB2EB5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26DFF-E92D-4327-A357-66AAB5C0B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3839A-B6E9-4440-9444-73F620123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66435-43B4-4748-AC02-BFB0C9CA7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BA5C1-BD7A-4F6C-A55F-0261E18A8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9C2A1-0ADD-455E-8A38-D7C9B68CB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0099-EA23-471B-AE24-398D17077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79BF1-D24A-4769-8FD4-61F6E882A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D3E26-FF48-41A3-80E1-1EBF572A5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F5BBC-8CB7-4E6A-8C96-C98C69C54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81784-5A1F-4B4B-AE0A-56E21035D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E34C5-E3FC-421A-A92D-69BBE4DED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B8F4-42B3-4FF6-A47B-639AB1EEA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0CD3-AE71-4FD2-ACBF-7605112E6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4A36-3ECF-452C-9135-8CA9F4DDA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22E3-FB0E-45FC-8CA3-276F68D7D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8C3B-8056-4779-8E21-AF03AAB56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44F6-89DA-4D07-A682-56506FD7F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E15E-377D-400C-9A62-E53282AAA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6D05A-43D9-4BF6-815D-D6B3010D527A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6EA9F-5CC7-43DC-9D65-0F5ED38F3F2F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920"/>
            <a:ext cx="7574040" cy="21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ŘÍZENÍ LIDSKÝCH ZDROJŮ V HOTELNICTVÍ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76720" y="5444640"/>
            <a:ext cx="54720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Pavlína PELLEŠOVÁ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88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88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88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332000" y="873000"/>
            <a:ext cx="720072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 rámci jednotlivých činností řízení lidských zdrojů plní manažeři úkol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tváření a analýza pracovních mí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ánování lidských zdroj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sazování volných pracovních mí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ízení pracovního výkonu a hodnocení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dměňování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dělávání a rozvoj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éče o zaměstnanc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užívání personálního informačního systém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Aktivity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547640" y="799920"/>
            <a:ext cx="7344000" cy="52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LZ se pro splnění hlavních úkolů zaměřuje n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aktivit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dělávání a rozvoj pracovník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rganizační rozvoj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tváření pracovních úkolů, pracovních míst a organizačních struktu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ování personálu organizac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ování personálního výzkumu a funkčnosti personálního informačního systém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ánování lidských zdroj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dměňování a zaměstnanecké výhod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acovní vztahy, především pak vztahy s odbor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moc pracovníků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personálního útvar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115640" y="1125360"/>
            <a:ext cx="734364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6 kategorií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pracování personální strategie ve spolupráci s managementem podniku, včetně principů a politiky říze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pracování a respektování pravidel, předpisů a zákon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jištění operativního řízení personál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ízení projekt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kytování informací a vyjednává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kytování ra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ŘLZ - 6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547640" y="836640"/>
            <a:ext cx="705672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tráková a kol. (2011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tvářet v podniku prostředí, aby počet a struktura prac. míst byly v dynamickém souladu s počtem a strukturou zaměstnanců, přičemž každé prac. místo musí být obsazené zaměstnancem, který splní požadavky na výkon práce, zároveň prac. místo musí poskytovat zaměstnanci prostor na seberealizaci a při plnění cílů podniku dosáhnout i osobní cíl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eustále rozvíjet lidské zdroje a vytvářet pro ně motivující pracovní a životní podmínky, což přispěje k plnění cílů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ovat týmy, efektivní styl vedení lidí a zdravé mezilidské vztahy v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971640" y="836640"/>
            <a:ext cx="748800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máhat podniku přizpůsobovat se různým zájmům zainteresovaných osob - vlastníků, zaměstnanců, odborových organizací, zákazníků, dodavatelů, státní správy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 samospráv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ledovat místní, celostátní i mezinárodní vývoj ovlivňující praxi zaměstnávání osob a interpretovat a objasňovat jeho důsledky pro strategii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 zájmu úspěšného fungování podniku poskytovat přímo anebo nepřímo potřebné služb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ersonální činnost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10920" y="611280"/>
            <a:ext cx="784836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Analýza pracovních míst pro stanovení specifických potřeb podniku v oblasti prác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rognózovaní a plánování potřeby pracovních sil a pokrytí této potřeby. V této souvislosti realizaci průzkumů trhu práce, populačního vývoje a hodnotové orientace lidí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hledávání a získávání zaměstnanců potřebných pro plnění úkolů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ýběr a přijímání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Orientace a adaptace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Rozmísťovaní zaměstnanců tak, aby byli optimálně využité jejich pracovní schopnosti ve prospěch podniku a pro zvýšení spokojenosti samotných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zdělávání a rozvoj zaměstnanců podniku, aby byli připraveni zvládnout nejen nové požadavky na pracovní místo, ale aby byli připraveni i na změnu svého pracovního zařazení v rámci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realizace programů řízení a rozvoje organizace prác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prosazování vhodných systémů hodnocení pracovního výkonu a postojů k prác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abezpečování agendy penzionování a propouštění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ersonální činnost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10920" y="611280"/>
            <a:ext cx="828180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moc zaměstnancům při zpracování a realizaci plánů jejich kariéry, plánů jejich personálního a sociálního rozvoj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realizace systémů odměňování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olupráce mezi podnikem a odbory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systémů projednávání disciplinárních záležitostí a stížností a péče o jejich fungování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abezpečování podmínek pro tvorbu dobrých mezilidských vztah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prosazování programů, které se týkají bezpečnosti a ochrany zdraví zaměstnanců při prác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realizace systémů sociální práce v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moc zaměstnancům při řešení osobních problémů, které by mohly ovlivnit jejich pracovní výkon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zabezpečování systému komunikace se zaměstnanc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personálního informačního systému, zřizování, aktualizace a uchovávání dokumentů týkajících se jednotlivých zaměstnanců, zpracovávání příslušné statistiky a analýz poskytujících údajovou základnu a pomoc při rozhodovaní, zjišťování názorů a postojů zaměstnanců k aktuálním problémům a záměrům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abezpečování dodržování zákonů v oblasti práce, zaměstnávaní osob a lidských práv a vytváření dobré zaměstnanecké pověsti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00000" y="76500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lavní činnosti řízení lidských zdrojů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Obrázek 4" descr=""/>
          <p:cNvPicPr/>
          <p:nvPr/>
        </p:nvPicPr>
        <p:blipFill>
          <a:blip r:embed="rId1"/>
          <a:stretch/>
        </p:blipFill>
        <p:spPr>
          <a:xfrm>
            <a:off x="1258920" y="1773360"/>
            <a:ext cx="7200720" cy="47512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31680" y="174600"/>
          <a:ext cx="8964720" cy="6665760"/>
        </p:xfrm>
        <a:graphic>
          <a:graphicData uri="http://schemas.openxmlformats.org/drawingml/2006/table">
            <a:tbl>
              <a:tblPr/>
              <a:tblGrid>
                <a:gridCol w="2519280"/>
                <a:gridCol w="6445440"/>
              </a:tblGrid>
              <a:tr h="28008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Činnosti ŘL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Účel činnos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111924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ytváření a analýza pracovních mí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finování pracovních úkolů (a souvisejících povinností, pravomocí, odpovědnosti, podmínek a požadavků vykonané práce) a jejich seskupování do prac. míst, zpracování popisů a specifikací pracovních míst v organizac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55980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lánování lidských zdroj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lánování potřeby, pokrytí potřeby a pers. rozvoje zaměstnanců, zpracování plánů personálních činností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83952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bsazování volných pracovních mí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bsazování nově vytvořených nebo uvolněných prac. míst v organizaci, získání vhodných uchazečů, výběr nejvhodnějších uchazečů, přijímání uchazečů, adaptace přijatých uchazečů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111924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Řízení pracovního výkonu a hodnocení zaměstnanc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směrňování a podněcování zaměstnanců k vykonávání sjednané práce a dosahování požadovaného výkonu pomocí systematického získávání a poskytování zpětné vazby (infce o skutečném výkonu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55980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dměňování zaměstnanc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ceňování skutečného výkonu zaměstnanců a stimulace zaměstnanců k dosažení požadovaného výkonu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55980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zdělávání a rozvoj zaměstnanc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tváření, prohlubování a rozšiřování schopností zaměstnanců k vykonávání sjednané práce a dosahování požadovaného výkonu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111924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éče o zaměstn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sahování příznivých hodnot všech proměnných, které ovlivňují zaměstnance v prac. procesu při vykonávání sjednané práce a dosahování požadovaného výkonu (prac. doba, prac. prostředí, bezpečnost a ochrana zdraví při práci, pracovní vztahy apod.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83952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yužívání personálního informačního systém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Zpracování pers. údajů potřebných k plnění povinností vyplývajících z právních předpisů a zabezpečování personální práce v organizac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</a:tbl>
          </a:graphicData>
        </a:graphic>
      </p:graphicFrame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Obecné strategické říze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042560" y="1483920"/>
            <a:ext cx="7488360" cy="50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ešení těchto otázek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ou podnikatelskou filozofii si chce podnik vytvořit, jaké chce mít poslání a jakou roli si přeje hrát na trhu či ve společnosti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m pozitivním a negativním vnějším faktorům musí podnik čeli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jsou přednosti a nedostatky podniku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ch cílů chce podnik dosáhnou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 chce těchto cílů dosáhnou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31640" y="1699920"/>
            <a:ext cx="7124760" cy="43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ymezit pojem řízení lidských zdrojů a odlišit od personálního řízení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psat cíle a činnosti řízení lidských zdrojů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charakterizovat jednotlivé úkoly řízení lidských zdrojů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Co řeší ŘLZ nejprv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402920" y="836640"/>
            <a:ext cx="748836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míry souladu mezi prac. místy a             pracovníky chce podnik v budoucnu dosáhnou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á je současná míra souladu a z ní plynoucí úroveň produktivity práce a osobního rozvoje pracovníků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změny v politice a praktické činnosti jsou nezbytné, aby bylo dosaženou žádoucího souladu mezi pracovními místy a pracovníky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lik a jaký druh pracovníků bude podnik potřebova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á nabídka PS se perspektivně předpokládá v podniku i mimo něj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o je potřeba udělat pro pokrytí potřeb pracovníků podniku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LZ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50920" y="1413000"/>
            <a:ext cx="8130960" cy="50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(ŘLZ) je práce s lidmi takovým způsobem, který vede ke zvýšení výkonnosti podniku při dosažení osobních cílů zaměstnanců. Je záležitostí všech manažerů a vedoucích týmů (Vetráková a kol., 2011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bývá obvykle definováno jako proces dosahování podnikových cílů prostřednictvím získávání, stabilizování, propouštění, rozvoje a optimálního využívání lidského potenciálu (Vochozka, Mulač a kol., 2012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28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LZ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78920" y="836280"/>
            <a:ext cx="820908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 manažerský přístup k využívání úsilí, schopnosti a oddanosti lidí k vykonávání požadované práce způsobem, který organizaci zajistí perspektivní budoucnost (Watson, 2010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je souhrnem metodologií a rozhodování, jejichž cílem je řídit a rozvíjet lidský potenciál ve všech druzích organizací. Řízení lidských zdrojů lze definovat jako proces dosahování podnikových cílů prostřednictvím získávání, stabilizování, propouštění, rozvoje a optimálního využívání lidí v organizaci. Tato definice ukazuje rozdílnost charakteristiky personalistiky, která je „jen“ obsazováním pozic v organizační struktuře a udržování jejich obsazení (Wagnerová a Matusiková, 200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34720" y="3207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LZ a personální říze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Obrázek 4" descr=""/>
          <p:cNvPicPr/>
          <p:nvPr/>
        </p:nvPicPr>
        <p:blipFill>
          <a:blip r:embed="rId1"/>
          <a:stretch/>
        </p:blipFill>
        <p:spPr>
          <a:xfrm>
            <a:off x="1835280" y="944640"/>
            <a:ext cx="5470560" cy="57340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ozdíly a shodné rysy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Obrázek 4" descr=""/>
          <p:cNvPicPr/>
          <p:nvPr/>
        </p:nvPicPr>
        <p:blipFill>
          <a:blip r:embed="rId1"/>
          <a:stretch/>
        </p:blipFill>
        <p:spPr>
          <a:xfrm>
            <a:off x="1692360" y="836640"/>
            <a:ext cx="6264360" cy="5832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Cíle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258560" y="1197000"/>
            <a:ext cx="734364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porovat dosahování strategických cílů organizace vytvářením a uplatňováním strategií lidských zdrojů v souladu se strategií podniku (strategické řízení lidských zdrojů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ispívat k rozvíjení kultury zaměřené na dosahování vysokého výkon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ovat organizaci talentované, kvalifikované a oddané lidi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silovat o vytváření pozitivních pracovních vztahů a navozování vzájemné důvěry mezi managementem a zaměstnanci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porovat uplatňování etického přístupu k řízení lid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Obecný cíl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403280" y="1125360"/>
            <a:ext cx="734400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 zajistit, aby byl podnik schopen prostřednictvím lidí úspěšně plnit cíle v oblastech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ování a rozvoje pracovníků – předvídat a uspokojovat budoucí potřeby pracovních sil, zvyšovat a rozvíjet podstatné schopnosti lidí, potenciál a zaměstnatelnost (příležitost k soustavnému vzdělání a rozvoji)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cenění pracovníků – zvyšovat motivaci za oddanost, znalosti, dovednosti, schopnost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tah mezi managementem a pracovníky – vytvářet ovzduší pro udržování dobrých vztahů a důvěr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lavní úkoly ŘLZ 5-9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332000" y="873000"/>
            <a:ext cx="720072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silovat o zařazení správného člověka na správné místo a snažit se o to, aby byl tento člověk neustále připraven přizpůsobovat se měnícím se požadavkům pracovního místa, uplatňuje se tzv. „tailoring“ neboli „šití“ pracovních úkolů a pracovních míst na míru pracovníkovi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timální využívání prac. sil v podniku - pracovní doby, pracovních schopnost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ování týmu, efektivního stylu vedení lidí a zdravých mezilidských vztah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ersonální a sociální rozvoj pracovníků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držování zákonů v oblasti práce, zaměstnávaní osob a lidských práv a vytváření dobré zaměstnanecké pověsti podnik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10-19T20:14:40Z</dcterms:modified>
  <cp:revision>724</cp:revision>
  <dc:subject/>
  <dc:title>mikro-P1</dc:title>
</cp:coreProperties>
</file>