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D1CF-399E-4616-A724-2A96CE4489A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26309-73BC-4452-8CA7-C81E3491DFE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43A7-E1B9-432C-AE05-421E9F84B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D720-2318-432C-B733-4BCA01FDA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4A04-D7C6-491F-8049-28481E5C9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9AC7-C842-4C41-A582-47951B598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24DFE-D36C-40D1-8F26-1D03C158A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2C193-A9E5-4976-9D58-BB54CDB2E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D75B7-ABDB-46EF-A063-A6B77FEBF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74FB8-E7B9-4B3C-A62B-10D1491A3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52FCB-1D4C-4C3D-81AD-4E488E950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6B92A-00E3-4EAA-961E-1015D6033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4DFAF-0A98-4E13-8682-55B8F2C3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C37B-634C-40D3-85B9-FB34D76F5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BF6AA-E447-4F7E-BE80-5E9D3F6E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C7FA2-FF81-469A-A9BF-1714A5C7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4BFD1-450A-4C2A-8EED-E7B460C88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2A49D-B798-4176-B98D-F25255559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290F7-9665-41D9-AAC9-47167EDD4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41AD-7453-468B-A1D8-F96571ACC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8E1E-899B-47FD-BEC6-1088596C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AE59-447B-48A2-9F32-97BF6ECF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1519-8825-493D-B405-40B269A27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4E15-FE4C-488A-9940-ABC5BC81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7BE5-64DA-4394-9A06-D3AC2F1E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D1EF-73A8-4FD7-B019-5335411C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C423A-16D1-45FD-ADDC-D34B7682005B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371BC-9274-4805-89A4-8D64C4BE4993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NIKÁNÍ                          V HOTELNICTVÍ, PODNIKAVOST, INTEGRAČNÍ PROCESY V HO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Bariéry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258920" y="1125000"/>
            <a:ext cx="707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399"/>
                </a:solidFill>
                <a:latin typeface="Comic Sans MS"/>
              </a:rPr>
              <a:t>interní bariéry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chce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umí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může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399"/>
                </a:solidFill>
                <a:latin typeface="Comic Sans MS"/>
              </a:rPr>
              <a:t>externí bariéry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- existují objektivně, nelze je ovlivnit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trž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trh je nasycený nebo neexistuj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egislativ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určitá výroba může být zakázána nebo omezena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region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některé statky nejsou v určitých regionech prodejn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ociální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pro určitou vrstvu obyvatel může být výrobek nepřijatelný nebo si jej nemohou dovolit koupit, aj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 v GA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ročné na finanční kapitál, návratnost je delš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lký počet malých provozních jednotek vyvolává vyšší potřebu pracovníků a je příčinou vyšších nákladů na zabezpečení provoz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hrnuje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travovací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lečensko-zábavní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ubytovací a hotelové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ateringové služb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rocesy sdružování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typické příklady korporací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patří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trust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– podniky ztrácejí hosp. samostatnost, cílem je dosažení dominantního postavení na trhu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artel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– smluvní spojení podniků, mají hosp. i právní samostatnost, cílem je ovlivňování cen, výše prodejů, …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oncern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spojení právně samostatných podniků, řízení je central. v rukou jednotného vedení, cílem je realizovat úspory z rozsahu výroby, koncentrovat kapitál a know-how, diverzifikovat činnosti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holding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principem je vlastnické ovládání dceřiné společnosti společností mateřskou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onsorcium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dočasné spojení právně samostatných podniků, je tvořeno za účelem splnění určitého cíle, po splnění cíle zaniká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rocesy sdružování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773000"/>
            <a:ext cx="7696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alší příklady sdružení podnik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jmová sdružení a pracovní příležitosti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ý podnik, tzv. Joint ventures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ranchising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dnárodní společnosti i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ansnacionální korpora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otivy a formy koncentr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spory z rozsahu výrob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spory při pořizování výrobních faktor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ůst podílu na trh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kapitálu a znalost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esuny da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iverzifikace činností – snižování rizika výkyvů v hospodaře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y koncentrace: akvizice, fúze sloučením, fúze splynutím nebo (vnitřní růst, vnější růst, vytlačení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ypy fúzí: horizontální, vertikální, konglomerát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Integrační procesy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3 úrovně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v omezeném geografickém prostor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v rámci jedné národní ekonom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kupina nadnárodního dosahu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ůkopník spojování hotelů -franšízingový řetězec InterContinental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liday Inn - 1200 hotelů v USA, 245 v Evropě a 74 hotelů v Asii a Pacifik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jvětší hotelový řetězec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Cendant Corp. s cca 6 300 hotely na světě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Nejdůl. sdruž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9640" y="1123560"/>
            <a:ext cx="7842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national Hotel &amp; Restaurant Association - IHRA - založena 1947 jako IHA (International Hotel Association), sdružení 147 zemí světa, resp. více než 300 tis. hotel. a rest. zaříze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national Union of National Associations of Hotels, Restaurants, Cafés Keepers - HORECA - sdružení se sídlem v Curychu - ubytovací a stravovací služb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he Confederation of National Associations of Hotels, Restaurants, Cafés and Similar Establishments in the European Union and the European Economic Area - HOTREC - víc než 1 mil. podnikatelů v 18 evr. zemích. Hlavním úkolem je monitoring legislativního procesu EU, lobbying a konzultační činnost zejména zákonodárcům při přípravě právních norem dotýkajících se podnikání v příslušejícím obor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Continental, Holiday Inn, Mövenpick, Clarion…??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rodní federace hotelů a restaurací České republiky -  NFHR (vznik - 1990 - největší zájmové sdružení hoteliérů v ČR), člen IHRA,  statut pozorovatele HOTRE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družení podnikatelů v pohostinství a cestovním ruchu - SPOLHOST (vznik 1991), smyslem činnosti - ochrana společných zájmů, specifikace problémů a hledání cest k jejich řešení, součástí sdružení je hotelová sekce, je členem IHRA a HK Č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ání, podnikavost, OSVČ, živnost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brané typy sdružování podniků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tegrační procesy v hotelnictví - ……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án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jem í byl ve 20. století předmětem vědeckých výzkumů z pohledu personálních a sociologických aspekt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T charakterizují činnosti podnikatele jako subjektů na trhu (firmy), jak využívají zdroje a mění je na statky a tím vytvářejí přidanou hodnotu a jaký to má dopad na ekonomický systém, jde o roli podnikatelů ve vztahu k utváření tržní ekonom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 psychologického hlediska je podnikání činnost, která je motivována určitými pohnutkami, pohnutkami něco získat nebo dosáhnout, něco si vyzkoušet, něco splni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le sociologického hlediska je podnikání hledání cesty k dokonalejšímu využívání zdrojů vytvářením pracovních míst a příležitostí, na jehož konci je vytvoření blahobytu pro všechny zainteresovan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statné rysy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99640" y="1052280"/>
            <a:ext cx="74818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ákladní motiv - snaha o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zhodnocení vloženého kapitálu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(v podstatě zisku)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isk se dociluje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uspokojováním potřeb zákazníků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třeby zákazníků uspokojuje statky na trhu, musí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čelit riziku,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trategii a politiku volí s cílem  snížit riziko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dnikatel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vkládá kapitál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 cílem je zhodnocení zejména vlastního kapitálu a zvyšování hodnoty firmy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isková orientace podniku by neměla zamlžovat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společenské poslání podniku -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služba zákazníkovi a všem ostatním, kteří jsou s vývojem podniku spjatí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9640" y="944280"/>
            <a:ext cx="784224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Občanském zákoníku (§421) je ve vymezení pojmu podnikatel vymezeno i podniká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telem je osoba, která má k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á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živnostenské nebo jiné oprávnění podle jiného zákon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tel, který nemá obchodní firmu, právně jedná při svém podnikání pod vlastním jménem; připojí-li k němu dodatky charakterizující blíže jeho osobu nebo obchodní závod, nesmí být klamav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á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soustavná nepřetržitá činnost, ale takovou, která je vykonávána s vidinou, že bud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konávána i nadá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9640" y="1125000"/>
            <a:ext cx="78422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innost nesmí být náhodná, nahodilá nebo příležitostná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oustavná činnost je i to, když je podnikatel zaměstnán a podniká pouze ve svém volném čase nebo podniká pouze v určité roční době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amostatnost - osoba, která činnost provozuje, může sama rozhodovat o době a místě výkonu činnosti a organizaci práce podle své vlastní svobodné úvahy a volb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soba musí finančně sama zajišťovat chod podnikání a sama čerpat a rozhodovat o použití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isku z činnosti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94920" y="726840"/>
            <a:ext cx="7986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Hlavním cílem podnikání je dosažení zisku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myslem podnikání je neustálý růst hodnoty firmy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užití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společného jmění k podnikání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jednoho z manželů upravuje § 715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dnikající osoby jsou zákonem označovány jako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SVČ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OSVČ dle zákona č. 155/1995 Sb., o důchodovém pojištění, ve znění pozdějších předpisů, je osoba, která vykonává samostatnou výdělečnou činnost, nebo spolupracuje při výkonu samostatné výdělečné činnosti, pokud podle zákona č. 586/1992 Sb., o daních z příjmů, ve znění pozdějších předpisů, lze na ni rozdělovat příjmy dosažené výkonem této činnosti a výdaje vynaložené na jejich dosažení, zajištění a udržení, ukončila povinnou školní docházku a dosáhla aspoň 15 let vě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6028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Druhy OSVČ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96960" y="1052280"/>
            <a:ext cx="80517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Česká správa soc. zabezpečení definuje druhy OSVČ, např.: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podnikání v zemědělství,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činnosti znalců, tlumočníků, zprostředkovatelů kolektivních sporů, zprostředkovatelů kolekt.a hromadných smluv podle autorského zákona, rozhodce podle zvláštních právních předpisů a správce konkursní podstaty, předběžného správce, zvláštního správce a vyrovnacího správce, aj.     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Comic Sans MS"/>
              </a:rPr>
              <a:t>OSVČ</a:t>
            </a: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 může být </a:t>
            </a:r>
            <a:r>
              <a:rPr b="1" lang="cs-CZ" sz="2100" spc="-1" strike="noStrike">
                <a:solidFill>
                  <a:srgbClr val="000000"/>
                </a:solidFill>
                <a:latin typeface="Comic Sans MS"/>
              </a:rPr>
              <a:t>živnostník</a:t>
            </a: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 podnikající dle 455/1991 Sb., zákona o živnostenském podnikání, ve znění pozdějších předpisů. § 2: Živností je soustavná činnost provozovaná samostatně, vlastním jménem, na vlastní odpovědnost, za účelem dosažení zisku a za podmínek stanovených tímto zákonem. 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Živnosti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se člení dle § 9 na: </a:t>
            </a: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ohlašovací, koncesované (řemeslné, ….., …..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vo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39640" y="1197000"/>
            <a:ext cx="78422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chopnost vidět příležitost a schopnost tuto příležitost využít a chápeme ji jako dovednost (talent), která je užitečná a nepochybně i žádaná také u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vý člověk - kdo má smysl pro iniciativu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 podnikavo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poručení Evropského parlamentu a Rady o klíčových schopnostech pro celoživotní učení z roku 2006 nalezneme kompetenci nazvanou smysl pro iniciativu a podnikavo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7T17:21:09Z</dcterms:modified>
  <cp:revision>713</cp:revision>
  <dc:subject/>
  <dc:title>mikro-P1</dc:title>
</cp:coreProperties>
</file>