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7CD62-201F-4D4E-8155-3F6C9C64B49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D923D-D7D4-4F0C-A4BF-FB2B62E9E1D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1D35-ADA2-4AF1-9F95-0C1BAB36C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D500-2B01-44B6-92F8-9F6EFD9CE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0789-F04F-43CB-89AF-43700CC08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41F5-1F0A-480C-A487-B10B37F22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8ED1A-B972-4334-B492-F03182E39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FF386-6CD1-44E4-889F-FC744FB8D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0ABB8-FC48-4207-8D7A-98EDE26EF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AB3EC-6E31-4192-9AA0-669AC2F57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5829C-F137-4687-8FEB-D0FC1F742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95C3B-7661-420C-9945-7641CCFC0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905A0-81B4-47EE-BB57-F139B5D7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ECE5-20AE-4476-8816-4FAE96BF9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7F2F7-5BFD-42E1-885D-7EB43270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01804-9E27-4820-B0C2-070DFB709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CC9A2-AE4C-402D-8F13-8FDBAF02F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6A766-2666-4852-80DF-F45A74EC7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4D54E-49A7-4A2D-90C2-2A6ED79E5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2A62-5654-4176-B91B-3F8AAFCE1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7249-4074-4582-8BE4-2B7D1A3E8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482F-B384-4A30-80DF-410BAF707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0681-B818-4154-A667-5A88FA862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A2B1-E29F-4BC0-A72C-9D1E473E8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97E6-6BA6-49F3-884A-1E97943C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BE92-7CAF-4806-BF08-531788C5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3F3BD-4A36-4648-BE7D-3A7E190BCF13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2412D-3BBD-4ED4-A0C5-46CCC781A47F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920"/>
            <a:ext cx="7574040" cy="21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RIZIKA PODNIKÁNÍ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hmotné riziko – zpravidla se dá měřit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nehmotné riziko – označované jako psychologické riziko, souvisí spíše s duševní činnost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čisté riziko – má vždy negativní dopad a manažer se mu snaží vyhnout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ekulativní riziko – podstupuje podnik záměrně s vidinou zisku z rizika, neexistuje na ně pojiště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ystematické riziko – nedá se žádným způsobem regulovat, vztahuje se k více projektům, plyne z celkového ekonomického vývoje a postihuje všechny subjekty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nesystematické riziko – váže se k jednomu projektu/subjektu, nebo k určité skupině projektů a je na ostatních nezávislé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jistitelné a nepojistitelné riziko – uplatňuje se tam, kde je možné přenést riziko za úplatu na třetí osobu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trategické riziko – můžeme najít v činnosti strategického managementu a odpovídá na otázku „co se má dělat“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perační riziko – je součást operačního managementu a jeho rozhodování v otázce „jak se to má dělat“.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116000" y="92520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obecná rizika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-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emětřesení, požáry, výbuch plynu, protržení přehradních hrází, zavalení silnic a železnic, zřícení budov, poškození energetických sítí, povodně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a související s podnikatelskou činnost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–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dodržení podmínek smlouvy, s ohledem na kvalitu a parametry produkt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dodržení dohodnutého termínu dodávky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 případě rizika poskytovatele jde o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převzetí produktu ze strany objednavatel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uhrazení kupní ceny, případně neuhrazení v pož.termín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a vyplývající z nedostatečné odbornosti provádění některých činnost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iziko nesprávného odhadu budoucího vývoje  a riziko nepřímých důsledků porušování předpisů upravujících podniká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dnoce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116000" y="92520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3 fáze analýzy rizik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dnocení rizika –správná identifikace rizika - znát strategické, taktické a operativní cíle podniku, je vhodné použít Strategickou situační analýzu podniku (vychází z PEST analýzy), nebo lze požít Paretova modelu pěti sil, analýzy pro identifikaci rizik a příležitostí nebo provést analýzu intuitivním způsobem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řízení rizika –tak, aby zajistil proces vedoucí k nastavení cílů, které odpovídají strategickým záměrům, a jsou v souladu s mírou ochoty akceptovat rizika; koncept řízení rizik vychází z 3 typů příčin rizik: riziko založené na nejistotě, riziko založené na příležitosti, riziko založené na ohrožení; rozlišujeme 2 přístupy k řízení rizik: intuitivní a systémový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formování o rizik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dnoce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116000" y="1557360"/>
            <a:ext cx="662472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rčení faktorů rizika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významnosti faktorů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rizika – to je možné určit přímo číselně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odnocení rizik a přijetí opatření na jeho snížení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prava plánu korekčních opatření -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dnocení rizika – 2 typ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115640" y="1125360"/>
            <a:ext cx="73436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valitativní hodnocení rizik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hodnotíme stupnicí rozdělenou na rizika vysoká, střední a nízká či jiné kategorie; hodnocení rizika = rozsah, jaký mohou mít potenciální události na dosažení cílů; existují dvě perspektivy: pravděpodobnost nastoupení/výskytu, dopad; při kvalitativním hodnocení pravděpodobnosti výskytu lze stanovit např. úroveň rizika 1 – téměř jisté, 2 – pravděpodobné, 3 – možné, 4 – nepravděpodobné, 5 – téměř vyloučené; u hodnocení významu vlivu lze stanovit úrovně: 1 – téměř vyloučené, 2 – nepravděpodobné, 3 – možné, 4 – pravděpodobné, 5 – katastrofické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vantitativní hodnocení rizik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hodnotí se rizika ve finančním vyjádření, tzn., že máme vytvořeny předpoklady pro hodnocení dopadu rizik ve finančním vyjádře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sk manage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115640" y="1483920"/>
            <a:ext cx="676908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e zabývá řízením rizik v 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ěřuje se jak na provozní rizika, i na strategické riziko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 podniku je nezbytné stanovit osobu nebo útvar zodpovědný za risk managemen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ěřuje se na identifikaci a kvantifikaci rizika, analýzu příčin rizika a řízení (zvládnutí) rizik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Model řízení ri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115640" y="1341360"/>
            <a:ext cx="734364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izika podnikatelského prostřed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inanční rizika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oces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erač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izika informací potřebných pro rozhodová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Systém řízení ri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115640" y="1483920"/>
            <a:ext cx="698508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  modelu řízení rizik vychází systém řízení rizika -  zahrnuje vzájemně se doplňující činnosti a tvoří cyklu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dentifiková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ěře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eše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portování o rizicíc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ři minimalizaci ri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115640" y="1125360"/>
            <a:ext cx="73436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ískejte plnohodnotné (dostačující) informa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čerpejte všechny možnosti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oveďte zhodnocení rizik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alokujte na projekt zkušené zaměstnan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pracujte projektový plán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vestujte průběžně – v jednotlivých vývojových fázích projektu, jako jsou průzkum trhu, konstrukční návrh, příprava stanoviště, objednání vybavení, instalace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a zprovoznění vybave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abudujte flexibilit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avidelně kontrolujte vývoj a sledujte informace zvenč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ozložte rizik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1699920"/>
            <a:ext cx="7124760" cy="43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definovat podnikatelské riziko a faktory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klasifikovat druhy rizik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dentifikace rizika a zhodnocení rizik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roces řízení rizik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obecný model řízení rizika a systém řízení rizik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94428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iziko - nejistota výskytu určitých událostí a/nebo jejich následků, které by mohly mít významný dopad na podnikatelské cíle společnost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ské riziko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nebezpečí, že skutečně dosažené hospodářské výsledky podnikatelské činnosti se budou odchylovat od výsledků předpokládaných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zitivní stránka – je spojována s nadějí na úspěch, s uplatněním se na trhu; spojeno s dosahováním lepších výsledků, než předpokládal podnikatelský plán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gativní – projevuje se nebezpečím dosažení horších hospodářských výsledků, než podnikatel předpokládal, vznikem ztráty, v krajním případě bankrotem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341000"/>
            <a:ext cx="69818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ignorovat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pokud vznikne malá ztráta, kterou je možné bez problémů unést, jedná se o tzv. nepojištěné riziko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akceptovat odpovědnost za výši možného rizika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– podnik má dostatečné vnitřní zdroje k pokrytí případné ztrát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ytvořit bezpečnostní systém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ující únosnou míru rizik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ři skupiny investorů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vestory s averzí k rizik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vestory s neutrálním postojem neb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vestory s vysokým sklonem k riziku s očekáváním vysokého výnos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tup jak „ovládnout riziko“, je řízení rizika, krok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ajít faktory, které významně mohou působit na výsledek podnikatelské aktivity, což současně znamená, nezabývat se dopadem méně důležitých faktor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vantifikovat možné riziko projektu a rozhodnout, zda je projekt i s tímto rizikem realizovateln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o je třeba udělat, aby se dopad ovlivnitelných faktorů minimalizoval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ízení rizika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náplň řízení rizika projektu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krok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rčení faktoru rizika projekt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významnosti faktoru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rizika projekt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odnocení rizika projektu a přijetí opatření na jeho snížen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estavování plánu korekčních opatře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aktory ovlivňující rizik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nější faktor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politické, finanční, měnové, právní, daňové, sociální, konkurence, dumpingové praktiky zahraniční konkurence, ekonomická recese v odvětví, nesolventnost odběratelů, ztráta dodavatele apod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nitřní faktor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strategické chyby, problémy růstu podniku, nesolventnost podniku, špatná organizační struktura, jednostranný výběr odběratelů nebo dodavatelů, nízká produktivita, chybně nastavená cena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440" y="1197000"/>
            <a:ext cx="71262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o tržn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riziko spojené s fungováním podniku v určitém vnějším ekonomickém prostřed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o specifické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spojené s fungováním podniku, obvykle se dělí na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ovozní (náklady) a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inanční riziko  (zapojení cizích zdrojů ve financování podniku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23T19:30:24Z</dcterms:modified>
  <cp:revision>718</cp:revision>
  <dc:subject/>
  <dc:title>mikro-P1</dc:title>
</cp:coreProperties>
</file>