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EE221-3629-4A66-9D42-73B8CF7A6C92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02154-3EDF-4A49-941B-CD6A5AF422FC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57923-E480-4534-B5AB-B1735110D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86ABA-3FA9-4C23-B41E-FC13FC61C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65A24-5EE1-40D6-BAEB-5EF750B8D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254A0-F152-4AA4-8F70-AC3BE061E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7B346-DA0B-440E-9DD4-87EF5ACC8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382BA-F935-45D7-BA88-E23D77A59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CACB2-7AE0-40CC-8584-86D69C513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DF0D9-3FDC-4D27-AB3B-66CF38A49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DD134-52BF-421E-836D-D2A91B77E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207D0-D656-4939-A263-4D30D39C2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42AE4-888F-4EC0-A659-E60ED6379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E8F36-9030-4CAC-AD0F-13DE56BDF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C5FDB-FC71-4168-BD52-38646A1AA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DB096-289D-43DB-BFE1-F860C05DB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33170-FF94-49CE-929A-485D773A6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5586C-560A-4A6C-87B8-FFDCC05D6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CB957-FFE7-48F5-957B-3047A1239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EF6F1-D3D2-4715-97A4-92CEB311D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E9CF6-A167-42D2-A5EB-C593F9423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D62C1-BCA8-4681-956B-5FD7DB834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AD143-6E57-4E61-B962-3D447493F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2244B-B8CB-49F0-89D5-DC78BEA96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B33D2-4CEC-4B71-85C0-7430692B6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77F26-2BA3-48E8-B75F-35B63D4E7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3449E-28C0-4923-8CCF-5C57F1A9C03B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43840" y="501840"/>
                  <a:ext cx="43128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40360" y="264600"/>
                  <a:ext cx="80964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40200" y="1404720"/>
                  <a:ext cx="27108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8320" y="1259640"/>
                  <a:ext cx="29016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84360" y="194760"/>
                  <a:ext cx="28728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520" y="4318920"/>
            <a:ext cx="978120" cy="1158480"/>
            <a:chOff x="7796520" y="4318920"/>
            <a:chExt cx="978120" cy="115848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520" y="4318920"/>
              <a:ext cx="978120" cy="1158480"/>
              <a:chOff x="7796520" y="4318920"/>
              <a:chExt cx="978120" cy="115848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040" y="5064120"/>
                <a:ext cx="93960" cy="9612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200" y="4652280"/>
                <a:ext cx="1058760" cy="49176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3400" y="4758120"/>
                <a:ext cx="749520" cy="2782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480"/>
                <a:ext cx="100080" cy="18612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52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83CB2-4E5E-48D9-A84F-C58DDA995F9B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10920" y="907920"/>
            <a:ext cx="7574040" cy="216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990000"/>
                </a:solidFill>
                <a:latin typeface="Comic Sans MS"/>
              </a:rPr>
              <a:t>ŘÍZENÍ LIDSKÝCH ZDROJŮ V HOTELNICTVÍ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276720" y="5444640"/>
            <a:ext cx="5472000" cy="10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5000"/>
          </a:bodyPr>
          <a:p>
            <a:pPr marL="1886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Pavlína PELLEŠOVÁ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18864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18864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18864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333000"/>
            <a:ext cx="6870600" cy="43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úkoly ŘLZ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1332000" y="873000"/>
            <a:ext cx="7200720" cy="574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 rámci jednotlivých činností řízení lidských zdrojů plní manažeři úkoly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ytváření a analýza pracovních míst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lánování lidských zdroj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bsazování volných pracovních míst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řízení pracovního výkonu a hodnocení zaměstnanc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dměňování zaměstnanc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zdělávání a rozvoj zaměstnanc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éče o zaměstnance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yužívání personálního informačního systému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4000" y="18900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Aktivity ŘLZ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1547640" y="799920"/>
            <a:ext cx="7344000" cy="523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ŘLZ se pro splnění hlavních úkolů zaměřuje na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aktivity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zdělávání a rozvoj pracovník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rganizační rozvoj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ytváření pracovních úkolů, pracovních míst a organizačních struktur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formování personálu organizace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bezpečování personálního výzkumu a funkčnosti personálního informačního systém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lánování lidských zdroj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dměňování a zaměstnanecké výhod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racovní vztahy, především pak vztahy s odbor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moc pracovníkům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úkoly personálního útvar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1115640" y="1125360"/>
            <a:ext cx="7343640" cy="523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6 kategorií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ypracování personální strategie ve spolupráci s managementem podniku, včetně principů a politiky řízení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ypracování a respektování pravidel, předpisů a zákonů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jištění operativního řízení personálu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Řízení projektů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skytování informací a vyjednávání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skytování rad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26920" y="0"/>
            <a:ext cx="687096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úkoly ŘLZ - 6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1547640" y="836640"/>
            <a:ext cx="7056720" cy="57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etráková a kol. (2011)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ytvářet v podniku prostředí, aby počet a struktura prac. míst byly v dynamickém souladu s počtem a strukturou zaměstnanců, přičemž každé prac. místo musí být obsazené zaměstnancem, který splní požadavky na výkon práce, zároveň prac. místo musí poskytovat zaměstnanci prostor na seberealizaci a při plnění cílů podniku dosáhnout i osobní cíle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neustále rozvíjet lidské zdroje a vytvářet pro ně motivující pracovní a životní podmínky, což přispěje k plnění cílů podnik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formovat týmy, efektivní styl vedení lidí a zdravé mezilidské vztahy v podnik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26920" y="0"/>
            <a:ext cx="687096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úkoly ŘLZ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971640" y="836640"/>
            <a:ext cx="7488000" cy="55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máhat podniku přizpůsobovat se různým zájmům zainteresovaných osob - vlastníků, zaměstnanců, odborových organizací, zákazníků, dodavatelů, státní správy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i samospráv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ledovat místní, celostátní i mezinárodní vývoj ovlivňující praxi zaměstnávání osob a interpretovat a objasňovat jeho důsledky pro strategii podnik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 zájmu úspěšného fungování podniku poskytovat přímo anebo nepřímo potřebné služb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26920" y="0"/>
            <a:ext cx="687096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ersonální činnosti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610920" y="611280"/>
            <a:ext cx="7848360" cy="57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Analýza pracovních míst pro stanovení specifických potřeb podniku v oblasti práce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Prognózovaní a plánování potřeby pracovních sil a pokrytí této potřeby. V této souvislosti realizaci průzkumů trhu práce, populačního vývoje a hodnotové orientace lidí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yhledávání a získávání zaměstnanců potřebných pro plnění úkolů podniku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ýběr a přijímání zaměstnanců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Orientace a adaptace zaměstnanců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Rozmísťovaní zaměstnanců tak, aby byli optimálně využité jejich pracovní schopnosti ve prospěch podniku a pro zvýšení spokojenosti samotných zaměstnanců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zdělávání a rozvoj zaměstnanců podniku, aby byli připraveni zvládnout nejen nové požadavky na pracovní místo, ale aby byli připraveni i na změnu svého pracovního zařazení v rámci podniku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ytváření a realizace programů řízení a rozvoje organizace práce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ytváření a prosazování vhodných systémů hodnocení pracovního výkonu a postojů k práci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Zabezpečování agendy penzionování a propouštění zaměstnanců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26920" y="0"/>
            <a:ext cx="687096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ersonální činnosti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10920" y="611280"/>
            <a:ext cx="8281800" cy="57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Pomoc zaměstnancům při zpracování a realizaci plánů jejich kariéry, plánů jejich personálního a sociálního rozvoje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ytváření a realizace systémů odměňování zaměstnanců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Spolupráce mezi podnikem a odbory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ytváření systémů projednávání disciplinárních záležitostí a stížností a péče o jejich fungování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Zabezpečování podmínek pro tvorbu dobrých mezilidských vztahů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ytváření a prosazování programů, které se týkají bezpečnosti a ochrany zdraví zaměstnanců při práci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ytváření a realizace systémů sociální práce v podniku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Pomoc zaměstnancům při řešení osobních problémů, které by mohly ovlivnit jejich pracovní výkon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ytváření a zabezpečování systému komunikace se zaměstnanci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ytváření personálního informačního systému, zřizování, aktualizace a uchovávání dokumentů týkajících se jednotlivých zaměstnanců, zpracovávání příslušné statistiky a analýz poskytujících údajovou základnu a pomoc při rozhodovaní, zjišťování názorů a postojů zaměstnanců k aktuálním problémům a záměrům podniku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Zabezpečování dodržování zákonů v oblasti práce, zaměstnávaní osob a lidských práv a vytváření dobré zaměstnanecké pověsti podniku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00000" y="765000"/>
            <a:ext cx="687096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hlavní činnosti řízení lidských zdrojů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1" name="Obrázek 4" descr=""/>
          <p:cNvPicPr/>
          <p:nvPr/>
        </p:nvPicPr>
        <p:blipFill>
          <a:blip r:embed="rId1"/>
          <a:stretch/>
        </p:blipFill>
        <p:spPr>
          <a:xfrm>
            <a:off x="1258920" y="1773360"/>
            <a:ext cx="7200720" cy="475128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2" name=""/>
          <p:cNvGraphicFramePr/>
          <p:nvPr/>
        </p:nvGraphicFramePr>
        <p:xfrm>
          <a:off x="31680" y="174600"/>
          <a:ext cx="8964720" cy="6665760"/>
        </p:xfrm>
        <a:graphic>
          <a:graphicData uri="http://schemas.openxmlformats.org/drawingml/2006/table">
            <a:tbl>
              <a:tblPr/>
              <a:tblGrid>
                <a:gridCol w="2519280"/>
                <a:gridCol w="6445440"/>
              </a:tblGrid>
              <a:tr h="280080"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Činnosti ŘL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Účel činnost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</a:tr>
              <a:tr h="1119240"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ytváření a analýza pracovních mí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	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efinování pracovních úkolů (a souvisejících povinností, pravomocí, odpovědnosti, podmínek a požadavků vykonané práce) a jejich seskupování do prac. míst, zpracování popisů a specifikací pracovních míst v organizaci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9d3"/>
                    </a:solidFill>
                  </a:tcPr>
                </a:tc>
              </a:tr>
              <a:tr h="559800"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lánování lidských zdrojů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lánování potřeby, pokrytí potřeby a pers. rozvoje zaměstnanců, zpracování plánů personálních činností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cea"/>
                    </a:solidFill>
                  </a:tcPr>
                </a:tc>
              </a:tr>
              <a:tr h="839520"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bsazování volných pracovních mí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bsazování nově vytvořených nebo uvolněných prac. míst v organizaci, získání vhodných uchazečů, výběr nejvhodnějších uchazečů, přijímání uchazečů, adaptace přijatých uchazečů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9d3"/>
                    </a:solidFill>
                  </a:tcPr>
                </a:tc>
              </a:tr>
              <a:tr h="1119240"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Řízení pracovního výkonu a hodnocení zaměstnanců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Usměrňování a podněcování zaměstnanců k vykonávání sjednané práce a dosahování požadovaného výkonu pomocí systematického získávání a poskytování zpětné vazby (infce o skutečném výkonu)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cea"/>
                    </a:solidFill>
                  </a:tcPr>
                </a:tc>
              </a:tr>
              <a:tr h="559800"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dměňování zaměstnanců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ceňování skutečného výkonu zaměstnanců a stimulace zaměstnanců k dosažení požadovaného výkonu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9d3"/>
                    </a:solidFill>
                  </a:tcPr>
                </a:tc>
              </a:tr>
              <a:tr h="559800"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zdělávání a rozvoj zaměstnanců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Utváření, prohlubování a rozšiřování schopností zaměstnanců k vykonávání sjednané práce a dosahování požadovaného výkonu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cea"/>
                    </a:solidFill>
                  </a:tcPr>
                </a:tc>
              </a:tr>
              <a:tr h="1119240"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éče o zaměstnan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osahování příznivých hodnot všech proměnných, které ovlivňují zaměstnance v prac. procesu při vykonávání sjednané práce a dosahování požadovaného výkonu (prac. doba, prac. prostředí, bezpečnost a ochrana zdraví při práci, pracovní vztahy apod.)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9d3"/>
                    </a:solidFill>
                  </a:tcPr>
                </a:tc>
              </a:tr>
              <a:tr h="839520"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yužívání personálního informačního systém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Zpracování pers. údajů potřebných k plnění povinností vyplývajících z právních předpisů a zabezpečování personální práce v organizaci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cea"/>
                    </a:solidFill>
                  </a:tcPr>
                </a:tc>
              </a:tr>
            </a:tbl>
          </a:graphicData>
        </a:graphic>
      </p:graphicFrame>
    </p:spTree>
  </p:cSld>
  <p:transition spd="slow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26920" y="476280"/>
            <a:ext cx="687096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Obecné strategické říze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1042560" y="1483920"/>
            <a:ext cx="7488360" cy="509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řešení těchto otázek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ou podnikatelskou filozofii si chce podnik vytvořit, jaké chce mít poslání a jakou roli si přeje hrát na trhu či ve společnosti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ým pozitivním a negativním vnějším faktorům musí podnik čelit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é jsou přednosti a nedostatky podniku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ých cílů chce podnik dosáhnout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 chce těchto cílů dosáhnout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32000" y="475920"/>
            <a:ext cx="6541920" cy="93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Comic Sans MS"/>
              </a:rPr>
              <a:t>Struktura přednášk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331640" y="1699920"/>
            <a:ext cx="7124760" cy="436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vymezit pojem řízení lidských zdrojů a odlišit od personálního řízení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popsat cíle a činnosti řízení lidských zdrojů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charakterizovat jednotlivé úkoly řízení lidských zdrojů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26920" y="0"/>
            <a:ext cx="687096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Co řeší ŘLZ nejprve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1402920" y="836640"/>
            <a:ext cx="7488360" cy="55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é míry souladu mezi prac. místy a             pracovníky chce podnik v budoucnu dosáhnout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á je současná míra souladu a z ní plynoucí úroveň produktivity práce a osobního rozvoje pracovníků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é změny v politice a praktické činnosti jsou nezbytné, aby bylo dosaženou žádoucího souladu mezi pracovními místy a pracovníky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olik a jaký druh pracovníků bude podnik potřebovat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á nabídka PS se perspektivně předpokládá v podniku i mimo něj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Co je potřeba udělat pro pokrytí potřeb pracovníků podniku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1042560" y="2276640"/>
            <a:ext cx="770436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DĚKUJI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ZA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POZORNOST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1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6" dur="5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1" dur="5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" dur="5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" dur="5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719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ŘLZ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250920" y="1413000"/>
            <a:ext cx="8130960" cy="50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řízení lidských zdrojů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(ŘLZ) je práce s lidmi takovým způsobem, který vede ke zvýšení výkonnosti podniku při dosažení osobních cílů zaměstnanců. Je záležitostí všech manažerů a vedoucích týmů (Vetráková a kol., 2011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Řízení lidských zdrojů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bývá obvykle definováno jako proces dosahování podnikových cílů prostřednictvím získávání, stabilizování, propouštění, rozvoje a optimálního využívání lidského potenciálu (Vochozka, Mulač a kol., 2012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287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ŘLZ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178920" y="836280"/>
            <a:ext cx="820908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Řízení lidských zdrojů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e manažerský přístup k využívání úsilí, schopnosti a oddanosti lidí k vykonávání požadované práce způsobem, který organizaci zajistí perspektivní budoucnost (Watson, 2010)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Řízení lidských zdrojů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je souhrnem metodologií a rozhodování, jejichž cílem je řídit a rozvíjet lidský potenciál ve všech druzích organizací. Řízení lidských zdrojů lze definovat jako proces dosahování podnikových cílů prostřednictvím získávání, stabilizování, propouštění, rozvoje a optimálního využívání lidí v organizaci. Tato definice ukazuje rozdílnost charakteristiky personalistiky, která je „jen“ obsazováním pozic v organizační struktuře a udržování jejich obsazení (Wagnerová a Matusiková, 2004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34720" y="3207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ŘLZ a personální říze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7" name="Obrázek 4" descr=""/>
          <p:cNvPicPr/>
          <p:nvPr/>
        </p:nvPicPr>
        <p:blipFill>
          <a:blip r:embed="rId1"/>
          <a:stretch/>
        </p:blipFill>
        <p:spPr>
          <a:xfrm>
            <a:off x="1835280" y="944640"/>
            <a:ext cx="5470560" cy="573408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503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Rozdíly a shodné rysy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9" name="Obrázek 4" descr=""/>
          <p:cNvPicPr/>
          <p:nvPr/>
        </p:nvPicPr>
        <p:blipFill>
          <a:blip r:embed="rId1"/>
          <a:stretch/>
        </p:blipFill>
        <p:spPr>
          <a:xfrm>
            <a:off x="1692360" y="836640"/>
            <a:ext cx="6264360" cy="583236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Cíle ŘLZ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1258560" y="1197000"/>
            <a:ext cx="7343640" cy="502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dporovat dosahování strategických cílů organizace vytvářením a uplatňováním strategií lidských zdrojů v souladu se strategií podniku (strategické řízení lidských zdrojů)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řispívat k rozvíjení kultury zaměřené na dosahování vysokého výkon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bezpečovat organizaci talentované, kvalifikované a oddané lidi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usilovat o vytváření pozitivních pracovních vztahů a navozování vzájemné důvěry mezi managementem a zaměstnanci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dporovat uplatňování etického přístupu k řízení lidí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Obecný cíl ŘLZ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403280" y="1125360"/>
            <a:ext cx="7344000" cy="501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e zajistit, aby byl podnik schopen prostřednictvím lidí úspěšně plnit cíle v oblastech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bezpečování a rozvoje pracovníků – předvídat a uspokojovat budoucí potřeby pracovních sil, zvyšovat a rozvíjet podstatné schopnosti lidí, potenciál a zaměstnatelnost (příležitost k soustavnému vzdělání a rozvoji)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cenění pracovníků – zvyšovat motivaci za oddanost, znalosti, dovednosti, schopnosti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ztah mezi managementem a pracovníky – vytvářet ovzduší pro udržování dobrých vztahů a důvěr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333000"/>
            <a:ext cx="6870600" cy="43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Hlavní úkoly ŘLZ 5-9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1332000" y="873000"/>
            <a:ext cx="7200720" cy="574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38840" indent="-43884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usilovat o zařazení správného člověka na správné místo a snažit se o to, aby byl tento člověk neustále připraven přizpůsobovat se měnícím se požadavkům pracovního místa, uplatňuje se tzv. „tailoring“ neboli „šití“ pracovních úkolů a pracovních míst na míru pracovníkovi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38840" indent="-43884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ptimální využívání prac. sil v podniku - pracovní doby, pracovních schopností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38840" indent="-43884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formování týmu, efektivního stylu vedení lidí a zdravých mezilidských vztah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38840" indent="-43884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ersonální a sociální rozvoj pracovníků podnik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38840" indent="-43884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dodržování zákonů v oblasti práce, zaměstnávaní osob a lidských práv a vytváření dobré zaměstnanecké pověsti podniku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9T11:03:34Z</dcterms:created>
  <dc:creator>Pavlína Pellešová</dc:creator>
  <dc:description/>
  <dc:language>en-US</dc:language>
  <cp:lastModifiedBy>pellesova</cp:lastModifiedBy>
  <dcterms:modified xsi:type="dcterms:W3CDTF">2017-10-19T20:14:40Z</dcterms:modified>
  <cp:revision>724</cp:revision>
  <dc:subject/>
  <dc:title>mikro-P1</dc:title>
</cp:coreProperties>
</file>