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4751-4BED-46BC-B24E-3B147100363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76C5-CA79-457A-A7C6-82B0846A113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A3ED-1E19-4F53-B4F2-89813279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4A77-6F9E-4D76-94C9-676DA94F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2390-46E9-49CC-ACEE-713902F82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7BC0-75CA-486E-AF22-F57E40A9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FC2A-7725-4DD6-A944-BA5CACC7F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BE8D-0E38-4E0E-99BA-528F92D7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42B6-0F7B-4B69-BC24-C350189F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E090-A000-4432-A021-9F032AA6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EFE2-5EF5-4A23-B48D-51777118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681A-5347-4A95-A02F-713CE985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9253-658F-4630-901C-3AD10E27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88DD-0F0F-43C2-BF43-D7AF2D8D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417B-0F8B-4F69-A758-AEC87A51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4DA8-0F46-441B-AE00-2280B2CD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DFEF-29BB-4D38-82D9-2339F62A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DB97-C5C7-42B9-B38A-54684014E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3A3A-C1BD-4E60-8A61-BB20ACE2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3A51-CEEA-4E2D-9719-22812575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4B2C-B0A2-4F71-B310-5D9B3622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B901-313A-4F9B-8023-DDB9C629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5C50-C0A6-47B3-8C25-30FF5D10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9E53-93E2-4D8F-8B72-6AB7674D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791C-A26C-412D-97F6-A0CCF201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BBEE-2FA6-40E0-840C-C9BFAFB3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C5EB-3DEA-486C-B48C-3483CE09F970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0940-F86E-4CF0-8C90-E06442DC070F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, PODNIKAVOST, INTEGRAČNÍ PROCESY V H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Bariér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58920" y="1125000"/>
            <a:ext cx="707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interní bariéry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chc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umí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můž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externí bariéry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 existují objektivně, nelze je ovlivni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rž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trh je nasycený nebo neexistuj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určitá výroba může být zakázána nebo omez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egion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některé statky nejsou v určitých regionech prodej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ociál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ro určitou vrstvu obyvatel může být výrobek nepřijatelný nebo si jej nemohou dovolit koupit, aj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 v GA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čné na finanční kapitál, návratnost je del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ký počet malých provozních jednotek vyvolává vyšší potřebu pracovníků a je příčinou vyšších nákladů na zabezpečení provoz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hrnu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travovac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o-zábavn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bytovací a hotelov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ateringové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ypické příklady korporac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patří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rust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podniky ztrácejí hosp. samostatnost, cílem je dosažení dominantního postavení na trh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artel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smluvní spojení podniků, mají hosp. i právní samostatnost, cílem je ovlivňování cen, výše prodejů,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cern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spojení právně samostatných podniků, řízení je central. v rukou jednotného vedení, cílem je realizovat úspory z rozsahu výroby, koncentrovat kapitál a know-how, diverzifikovat činnost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holding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principem je vlastnické ovládání dceřiné společnosti společností mateřsko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sorcium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dočasné spojení právně samostatných podniků, je tvořeno za účelem splnění určitého cíle, po splnění cíle zaniká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7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alší příklady sdružení podnik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jmová sdružení a pracovní příležitos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ý podnik, tzv. Joint ventur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ing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dnárodní společnosti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nsnacionální korpo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tivy a formy koncent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z rozsahu výrob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při pořizování výrobních faktor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ůst podílu na trh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kapitálu a znalost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suny da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iverzifikace činností – snižování rizika výkyvů v hospodař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y koncentrace: akvizice, fúze sloučením, fúze splynutím nebo (vnitřní růst, vnější růst, vytlačení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ypy fúzí: horizontální, vertikální, konglomerát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grační procesy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3 úr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omezeném geografickém prost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rámci jedné národ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upina nadnárodního dosah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ůkopník spojování hotelů -franšízingový řetězec InterContinental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liday Inn - 1200 hotelů v USA, 245 v Evropě a 74 hotelů v Asii a Pacifik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jvětší hotelový řetězec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Cendant Corp. s cca 6 300 hotely na světě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Nejdůl. sdruž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123560"/>
            <a:ext cx="784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Hotel &amp; Restaurant Association - IHRA - založena 1947 jako IHA (International Hotel Association), sdružení 147 zemí světa, resp. více než 300 tis. hotel. a rest. zaříz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Union of National Associations of Hotels, Restaurants, Cafés Keepers - HORECA - sdružení se sídlem v Curychu - ubytovací a stravovací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Confederation of National Associations of Hotels, Restaurants, Cafés and Similar Establishments in the European Union and the European Economic Area - HOTREC - víc než 1 mil. podnikatelů v 18 evr. zemích. Hlavním úkolem je monitoring legislativního procesu EU, lobbying a konzultační činnost zejména zákonodárcům při přípravě právních norem dotýkajících se podnikání v příslušejícím obor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Continental, Holiday Inn, Mövenpick, Clarion…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dní federace hotelů a restaurací České republiky -  NFHR (vznik - 1990 - největší zájmové sdružení hoteliérů v ČR), člen IHRA,  statut pozorovatele HOTR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družení podnikatelů v pohostinství a cestovním ruchu - SPOLHOST (vznik 1991), smyslem činnosti - ochrana společných zájmů, specifikace problémů a hledání cest k jejich řešení, součástí sdružení je hotelová sekce, je členem IHRA a HK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ání, podnikavost, OSVČ, živno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brané typy sdružování podnik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grační procesy v hotelnictví - 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em í byl ve 20. století předmětem vědeckých výzkumů z pohledu personálních a sociologických aspek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 charakterizují činnosti podnikatele jako subjektů na trhu (firmy), jak využívají zdroje a mění je na statky a tím vytvářejí přidanou hodnotu a jaký to má dopad na ekonomický systém, jde o roli podnikatelů ve vztahu k utváření tržní ekonom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psychologického hlediska je podnikání činnost, která je motivována určitými pohnutkami, pohnutkami něco získat nebo dosáhnout, něco si vyzkoušet, něco splni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le sociologického hlediska je podnikání hledání cesty k dokonalejšímu využívání zdrojů vytvářením pracovních míst a příležitostí, na jehož konci je vytvoření blahobytu pro všechny zainteresovan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statné rys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ladní motiv - snaha 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hodnocení vloženého kapitálu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(v podstatě zisku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 se dociluj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uspokojováním potřeb zákazník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třeby zákazníků uspokojuje statky na trhu, mus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čelit riziku,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trategii a politiku volí s cílem  snížit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tel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vkládá kapitál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cílem je zhodnocení zejména vlastního kapitálu a zvyšování hodnoty firm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ová orientace podniku by neměla zamlžovat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enské poslání podniku -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služba zákazníkovi a všem ostatním, kteří jsou s vývojem podniku spjatí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Občanském zákoníku (§421) je ve vymezení pojmu podnikatel vymezeno i podniká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em je osoba, která má k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živnostenské nebo jiné oprávnění podle jiného záko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, který nemá obchodní firmu, právně jedná při svém podnikání pod vlastním jménem; připojí-li k němu dodatky charakterizující blíže jeho osobu nebo obchodní závod, nesmí být klamav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oustavná nepřetržitá činnost, ale takovou, která je vykonávána s vidinou, že b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konávána i nadá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125000"/>
            <a:ext cx="784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innost nesmí být náhodná, nahodilá nebo příležitostná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oustavná činnost je i to, když je podnikatel zaměstnán a podniká pouze ve svém volném čase nebo podniká pouze v určité roční dob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amostatnost - osoba, která činnost provozuje, může sama rozhodovat o době a místě výkonu činnosti a organizaci práce podle své vlastní svobodné úvahy a vol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a musí finančně sama zajišťovat chod podnikání a sama čerpat a rozhodovat o použit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isku z činnos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Hlavním cílem podnikání je dosažení zisk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myslem podnikání je neustálý růst hodnoty firm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užit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ného jmění k podnikán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dnoho z manželů upravuje § 715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jící osoby jsou zákonem označovány jak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SVČ dle zákona č. 155/1995 Sb., o důchodovém pojištění, ve znění pozdějších předpisů, je osoba, která vykonává samostatnou výdělečnou činnost, nebo spolupracuje při výkonu samostatné výdělečné činnosti, pokud podle zákona č. 586/1992 Sb., o daních z příjmů, ve znění pozdějších předpisů, lze na ni rozdělovat příjmy dosažené výkonem této činnosti a výdaje vynaložené na jejich dosažení, zajištění a udržení, ukončila povinnou školní docházku a dosáhla aspoň 15 let vě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6028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Druhy OSV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6960" y="1052280"/>
            <a:ext cx="8051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eská správa soc. zabezpečení definuje druhy OSVČ, např.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podnikání v zemědělství,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innosti znalců, tlumočníků, zprostředkovatelů kolektivních sporů, zprostředkovatelů kolekt.a hromadných smluv podle autorského zákona, rozhodce podle zvláštních právních předpisů a správce konkursní podstaty, předběžného správce, zvláštního správce a vyrovnacího správce, aj.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může být </a:t>
            </a: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živnostník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podnikající dle 455/1991 Sb., zákona o živnostenském podnikání, ve znění pozdějších předpisů. § 2: Živností je soustavná činnost provozovaná samostatně, vlastním jménem, na vlastní odpovědnost, za účelem dosažení zisku a za podmínek stanovených tímto zákonem.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Živ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se člení dle § 9 na: </a:t>
            </a: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ohlašovací, koncesované (řemeslné, ….., ….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v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7842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chopnost vidět příležitost a schopnost tuto příležitost využít a chápeme ji jako dovednost (talent), která je užitečná a nepochybně i žádaná také u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vý člověk - kdo má smysl pro iniciativ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 podnikav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poručení Evropského parlamentu a Rady o klíčových schopnostech pro celoživotní učení z roku 2006 nalezneme kompetenci nazvanou smysl pro iniciativu a podnikav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7:21:09Z</dcterms:modified>
  <cp:revision>713</cp:revision>
  <dc:subject/>
  <dc:title>mikro-P1</dc:title>
</cp:coreProperties>
</file>