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91756-9CBB-41AF-A0AC-0D6694C3E3C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31961-793D-4D3C-ACBE-2B676A82CA3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ADAA-F394-488D-BE6B-9F05722EF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F478-3882-461F-B90B-BA705FDAF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FB58-6E81-49D5-9DCA-422471E77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C7F1-FE07-4289-96AB-C02FBCD4D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04569-D300-4A4D-B82C-4C327EB82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565C6-E5CC-4987-BA06-23EBF7FA0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47F66-83E5-47CA-9E68-D6E955C1F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266D4-5CB5-4699-9DB5-CD9623C4F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56FB8-6490-4A09-B83F-8D9D7D119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25251-8288-432A-85E0-FC4F32D10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B415F-9764-487A-B597-6F75A63E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5EBE-1E77-46CA-B082-42FEAFDE7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E5D30-F279-449B-83C1-5A2190FFB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0F2D2-511D-46E3-9B35-AF9D4E43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8B83C-884B-4AC4-9D0A-94F112E5A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44C52-5184-4E59-AEF4-298D5DD57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9CB69-1C53-43AA-9757-172FFD9A2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C907-8DE5-42BB-B6A3-2E5A3ECEC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9430-5B28-489B-A6B4-1E0BA7F55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4239-D28E-4426-AD30-A71D1E4A3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FF07-01E7-490B-87D7-5D7AD83B3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B85F-8E21-459F-8A63-732CBD4C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1353-DA59-46E7-BE06-B913074E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13EB-35F9-41A6-9197-B9133587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D4863-C886-4DC5-9B67-0BB3D71680F5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FFA4F-93F8-441B-B420-2D0305FF8CBF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764640"/>
            <a:ext cx="75740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PODNIKÁNÍ                          V HOTELNICTVÍ</a:t>
            </a: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660033"/>
                </a:solidFill>
                <a:latin typeface="Comic Sans MS"/>
              </a:rPr>
              <a:t>Podnikatelské prostředí v hotelovém průmyslu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Vnější prostřed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ekonomické činitel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ekonomická situace země, její vývoj, růst ekonomiky, inflační tendence, nezaměstnanost, úroveň příjmů, struktura výdajů ve státním rozpočtu, daňové a celní podmínky, úrokové sazby aj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technologické činitel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technologický rozvoj v zemi, zavádění nových technologií, tempo technologických změn, inovační potenciál země aj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řírodní faktor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podnebí, přír.zdroje, ŽP, aj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olitickou situaci a její předpokládaný vývoj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egislativní podmínk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nější prostředí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ako prostředí zahrnuje veškeré vlivy působící na organizaci z jejího okolí, zahrnuje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zákazníky,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nkurent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dodavatelé 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idské zdroj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Vnější prostřed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akubíková  -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nější prostředí firmy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makroprostředí 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mikroprostřed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technologie informačních sít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globaliz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eregul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rivatiz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výšená konkuren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konvergence odvětv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řeměna maloobchodu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eliminace prostředník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kupní síla spotřebitel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informovanost spotřebitel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účast spotřebitel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zdor spotřebitel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Činitelé okolí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čerová, Strašík a Šebová (2010)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ekolog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kvalita životního prostředí, legislativní úprava v oblasti ochrany ŽP, úroveň environmentálního uvědomění návštěvníků, negativní vlivy znečištění životního prostředí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technolog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informační technologie, dopravních technologií, technologií používaných při výrobě jídel a nápojů, technologií používaných při výstavbě a provozu zařízení CR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ekonom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například úroveň vývoje ekonomiky státu, míra inflace, vývoj úrokové míry, vývoj HDP, zapojení do integračních procesů, vývoj veřejných financí, úroveň a zaměření státní pomoci, úroveň minimální mzdy, systém sociálního zabezpečení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společensko – polit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stabilita politického prostředí, image země, jak země uznávající hodnoty demokracie a svobody, úroveň kriminality a bezpečnosti, úroveň všeobecného zdraví, výskyt etnických, náboženských a rasových konfliktů, hrozba terorizmu, apod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Geografic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85800" y="1700280"/>
            <a:ext cx="7696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o značné míry předurčuje jeho logistiku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řírodní podmínky, klimatické podmínky, kulturní zvyklosti atd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valita dopravní infrastruktur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ologické a ekonomické podmínky daného stát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elá řada dalších faktorů a prakticky všechny následující roviny.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62064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litic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184428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jzávažnější politickou podmínkou je politická stabilita a mír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apříklad politickou kulturu, volební chování a jednání, důvěru obyvatel v politiku a personální vztahy mezi jednotlivými politi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ůležitou roli hraje i hospodářská politika daného státu, členství v mezinárodních organizacích, členství v EU, programy na podporu podnikání, …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62064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Ekonomic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85800" y="1844280"/>
            <a:ext cx="74865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ostupnost a ceny výrobních faktor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aňová zátěž podniků - daňová politika státu u nás hledá cestu mezi dvěma póly - musí zajistit takový daňový výnos a současně nezatížil podniky tak, aby ztratily motivaci k podnikání. Sazby  DPH a spotřební daně působí i na chování spotřebitelů, mají i přímý dopad na poptávku po zbož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spodářský růst, měnový a devizový vývoj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 ekonomickému okolí patří také odběratelé (zákazníci) a dodavatelé podniku a finanční instituce (zejména banky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998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Interakce podniku a okol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5800" y="1197000"/>
            <a:ext cx="74865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e zákazníky - komunikace prostřednictvím celé řady komunikačních kanál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 dodavateli - je možné použít marketingové nástroje (tzv. nákupní marketing), management rozhoduje, zda bude nákup uskutečněn, či nikoliv, nemusí tomu tak však být vžd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 konkurencí - se vyznačují jistou mírou vzájemné rivality, vzájemné spolupráce, oborové asociace a podobné institu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e státní správou a dozorovými orgány, vztahy s místní samosprávou - mohou ovlivnit chod podniku,  dodržení předepsaných postupů, legislativy a  kompetence jednotlivých orgán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e širším okolím (neziskový sektor, občanská společnost a další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31808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635"/>
                </a:solidFill>
                <a:latin typeface="Comic Sans MS"/>
              </a:rPr>
              <a:t>Hodnocení kvality podnik.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23640" y="765000"/>
            <a:ext cx="82803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iturka a kol. (2010) šestnáct faktorů - šest skupin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obchod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největší význam, tvoří 4 faktory: blízkost trhů, koncentrace významných podniků, přítomnost zahraničních podniků, podpůrné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racov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3 faktory: dostupnost pracovních sil, kvalita pracovních sil a flexibilita pracovních sil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infrastruktur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3 faktory: kvalita silnic a železnic, kvalita informačních a komunikačních technologií, blízkost mezinárodních letišť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okál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voří - podnikové a znalostní báze a  asistence veřejné správ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cenové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povídají o úrovni D a S na relevantních trzích, zahrnují faktor ceny práce a faktor ceny nemovitostí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environmentál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povídají o specifických stránkách kvality života, které spoluvytvářejí podnikatelské prostředí a zahrnují faktor urbanistické a přírodní atraktivity území a faktor environmentální kvality územ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atels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85800" y="1700280"/>
            <a:ext cx="7696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lavní rysy podnikatelského prostředí v Č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konomické a finanční fakto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litické fakto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ské legislativní prostřed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enské faktor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Zdroje informací pro podni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ynek, Kislingerová a kol., 2010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vládní a jiné prognózy střednědobého a krátkodobého vývoje ekonomiky (ekonomický růst, inflace, měnový kurz atd.)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formace produkované zájmovými průmyslovými a podnikatelskými svazy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vlastní historické a prognostické informace o situaci na trhu, cenách, zákaznících a jejich potřebách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formace o vývoji technik a technologie v daném oboru, získané na veletrzích, výstavách, z nabídkových katalogů atd.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formace o situaci v konkurenčních firmách a jeho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očekávaném chování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82964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30a0"/>
                </a:solidFill>
                <a:latin typeface="Comic Sans MS"/>
              </a:rPr>
              <a:t>Podmínky absolvování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971280" y="1557360"/>
            <a:ext cx="788508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ypracování sem. práce a její úspěšná obhajoba – 15 b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60% povinná účast na seminářích – 10 b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růběžný test – 15 b, TERMÍN </a:t>
            </a:r>
            <a:r>
              <a:rPr b="1" lang="cs-CZ" sz="2000" spc="-1" strike="noStrike">
                <a:solidFill>
                  <a:srgbClr val="ff0000"/>
                </a:solidFill>
                <a:latin typeface="Comic Sans MS"/>
              </a:rPr>
              <a:t>21.11.2017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ísemná zkouška - 60 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_____________________________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Celkové hodnocení: 100 bodů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835280" y="4508640"/>
          <a:ext cx="2160360" cy="1957320"/>
        </p:xfrm>
        <a:graphic>
          <a:graphicData uri="http://schemas.openxmlformats.org/drawingml/2006/table">
            <a:tbl>
              <a:tblPr/>
              <a:tblGrid>
                <a:gridCol w="811080"/>
                <a:gridCol w="1349280"/>
              </a:tblGrid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91-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1-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71-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1-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51-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0-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09280" y="115920"/>
            <a:ext cx="6588360" cy="78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30a0"/>
                </a:solidFill>
                <a:latin typeface="Comic Sans MS"/>
              </a:rPr>
              <a:t>Literatur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186920" y="904680"/>
            <a:ext cx="7705800" cy="54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RYGLOVÁ, K., BURIAN, M.a I.VAJČNEROVÁ, 2011. Cestovní ruch - podnikatelské přístupy apříležitosti v praxi. Praha: Grada Publishing. ISBN 978-80-247-4039-3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SMÁK, P., 2005. Hotelové podnikání a integrační procesy. Praha: VŠH. ISBN 80-86578-50-X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RÁB, V., PETERKA, J. a M. REŽŇÁKOVÁ, 2007. Podnikatelský plán. Brno: Computer Press. ISBN 978-80-251-1605-0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BERÁNEK, J. Provozujeme pohostinství a ubytování. Praha: Grada Publishing, 2004. ISBN 80-86724-02-6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UBEK, J., 2007. Řízení lidských zdrojů - základy moderní personalistiky. Praha: Management Press.ISBN 978-80-7261-168-3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NOVACKÁ, L. a kol.,2013. Cestovný ruch, udržateľnosť a zodpovednosť na medzinárodnom trhu.Bratislava: EKONÓM. ISBN 978-80-225-3475-8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4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Struktura předmětu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" y="620640"/>
            <a:ext cx="79819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é prostředí v hotelovém průmysl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ání v hotelnictví, podnikavost, integrační procesy v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harakteristika podnikatelského subjektu, typy a vlastnost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ákladní principy a právní aspekty založení podniku, činnosti podniku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Formy podnikatelských struktur v gastro., hotel. a lázeňs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ý zámě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izika podnikán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odukt v gastronomii, hotelnictví a lázeňství, jeho vlastnost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valita produktu, standardy kvality, hodnocení kvality služe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Řízení lidských zdrojů v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á etika a společensky zodpovědné podnikání v podmínkách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Analýza konkurence a formy spolupráce v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pora podnikání v České republi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26948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s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nější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Hodnocení kvality podnikatelského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ské prostředí v Č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atelské prostřed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odnikatelské prostřed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jako soubor vnějších faktorů ovlivňujících ekon. postavení, motivaci a chování konkrétních podnikat. subjektů (Vochozka, Mulač a kol., 2012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é prostředí je blíže konkretizováno především zákonodárnými sbory a ministerstvy, orgány státní správy, státem zřízenými nebo státem podporovanými institucemi a agenturami, soudy, orgány veřejné samosprávy, vzdělávacími zařízeními všech typů, výzkumnými a vývojovými pracovišti, subjekty působícími v oblasti peněžnictví, institucemi kapitálového trhu, leasingovými společnostmi, podnikatelskou samosprávou (komory, svazy, asociace, spolky, a další)a poradenskými, zprostředkovatelskými a jinými organizacemi, dále také pochopitelně tržními subjekty, kterými jsou současní a potenciální konkurenti a současní a potenciální spolupracující subjekt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atelské prostřed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Grublová a kol. (2001) - souhrn podstatných vlivů působících jak na podnikatele, tak i na podnik a podnikání. Podnikatelské prostředí tedy zahrnuje vlivy, které působí na soustavnou činnost prováděnou podnikatelem nebo podnikem vlastním jménem a na jeho vlastní zodpovědnost za účelem zhodnocení podnikatelského potenciálu, např. v podobě dosaženého zisku. Vedle složek ek. a přír. v podnikatelském prostředí mají významnou roli i složky nehmotného prostředí (kultura, právo, sociální vztahy, vědecké poznatky apod.)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Ludvík, 2005 - souhrn podstatných vlivů působících na podnikatele, podnik a podnikání.  Podnikatelské prostředí představuje prostředí života podnikatelských subjektů a vztahů s ostatními subjekty. Zároveň je součástí životního prostředí a nedílnou součástí života každého člověka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atelské prostřed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nitřní (interní) podnikatelské prostředí – mikropodnikatelské prostředí je plně v kompetenci podnikatele, je základním stavebním prvkem podnikání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nější (externí) podnikatelské prostředí je vhodné pro účely podnikání rozčlenit do dvou vrstev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jvzdálenější vrstva – makropodnikatelské prostředí (makroprostředí) – „celkový obal“, celospolečenské podnikatelské klima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ruhá vrstva – mezzopodnikatelské prostředí (mezzoprostředí) – je spojena s působením regionálních a místních faktorů, firma ho spoluvytváří, má možnost zasahovat a ovlivňovat h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Vnější prostředí – okolí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980640"/>
            <a:ext cx="7696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nější prostředí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liticko-práv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nom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echnolog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log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ál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lturní a etick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Okolí podniku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má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rvk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geograf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ál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litické a práv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nom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logické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t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lturně historick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17T16:05:13Z</dcterms:modified>
  <cp:revision>701</cp:revision>
  <dc:subject/>
  <dc:title>mikro-P1</dc:title>
</cp:coreProperties>
</file>