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0CB2-C89E-460D-85EB-46938DABB74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1F4E-6DE2-40B7-8F0C-8456D56698B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37FA-0A90-499F-8E35-6E64003DB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8696-10A6-4E8D-A8DF-9AA801B4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54A9-7BEF-45A5-8E44-5B524C08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CC23-1B41-4452-81D3-A74B747EB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31DB-666E-4017-90D8-4C895A96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7883-3BC6-4BF3-B954-62D67ED5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FC91-0CA7-4D7C-8DCD-AD280FDE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A8E5-3CFB-4DF5-B57C-2041B180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8A0D-FA96-4670-8257-02F7717E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7722-BC76-4B4D-9C79-D566F181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EEB9-ECAE-42BC-9A3B-B7C97995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F4AB-A8BD-4AD1-B236-4E260247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138B-0A7D-4B80-9BAF-9998AC16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6504-3713-410C-8737-33E69AAD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35A6-950B-4B4E-8B3D-44E5301D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2BA4-2748-4651-BFB1-AE38F5C8D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E062-7881-4981-A03A-663E01BC4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D96E-2336-4D59-BA4D-823A4305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7998-2A8B-4DF1-B545-3BF30249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312F-D559-469D-81B2-B9BC92E2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99DD-96AA-4412-8E8D-B0DCBC5E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3C1F-1F75-4324-A93C-89A1CB47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B621-D4B8-4F1A-9DDB-E8C4F0BF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A361-7707-485E-8366-81226630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6756-7B3D-49F8-A135-9545F99F98B3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B947-58F4-45B4-92B6-95F29CF709F0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CHARAKTERISTIKA PODNIKATELSKÉHO SUBJEKTU, </a:t>
            </a:r>
            <a:br>
              <a:rPr sz="4000"/>
            </a:b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JEHO TYPY A VLASTNOST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0920" y="1483920"/>
            <a:ext cx="72738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chodními korporacemi jso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chodní společ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 Společnostmi jsou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řejná obchodní společnos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(jen „osobní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s ručením omezený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kciová společnost (jen „kapitálová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é hospodářské zájmové sdruž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0920" y="1773360"/>
            <a:ext cx="7273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dle § 1 odst. 3 zákona o obchodních společnostech a družstvech jsou družstvo a evropská družstevní společno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 evropské hospodářské zájmové sdružení a evropská družstevní společnost se řídí ustanoveními tohoto zákon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rozsahu, v jakém to připouštějí přímo použitelné předpisy EU upravující evropskou společnost, evropské hospodářské zájmové sdružení nebo evropskou družstevní společn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pecifické znak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052280"/>
            <a:ext cx="7696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kytují relativně široký sortiment služeb v podmínkách často se měnící D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tenzita D po jejich službách se často mění v závislosti na jejich lokalizaci a sezóně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jich kapacita, standard a komplexnost poskytovaných služeb ovlivňuje i lokalizac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jí vysoké nároky na lidské zdroje, poskytují prac. místa i pro nekvalifikované pracovníky, osobní náklady tvoří vysoký podíl na jejich celkových náklade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ři poskytování služeb jsou omezené možnosti substituce lidské práce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nohé z nich vyžadují vysoký podnikatelský kapitál a mají vysoký podíl dlouhodobého hmotného majetku (zejména hotelové, restaurační, lázeňské podniky) – to ovlivňuje jejich ekonomi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 jako stakehol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 lze vnímat jako koalici zainteresovaných stran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skupiny či osoby, které ovlivňují daný podnik nebo jsou jednáním podniku samy dotčen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interesované stra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azníci - tvorba hodnoty pro zákazníka a vytvoření dlouhodobě udržitelné konkurenční výhod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aměstnanci - konkurenční výhoda spočívá ve vytvoření učící se organizace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ěřitelé - poskytují podniku na určitou dobu kapitál - odpovídající výnos -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nagement, dodavatele, stát, místní a regionální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práv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abezpečení dlouhodobé prosperity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e měříme ukazateli EPS, ROE, ROI, MVA, E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ové cíle mají tvořit uspořádaný systém, aby vypovídal o vlastnostech jednotlivých cí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poslání podniků je vyrábět ekonomické statky a nabízet je zákazníkům, klient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závisí na účelu, pro který byl podnik založen; malé firmy x velké firmy -  jiné cí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řadí jejich významu (hierarchie): vrcholové (primární) a podřazené (dílčí)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ikosti (rozsahu) cíle: neomezené a omezené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ého hlediska: krátkodobé, střednědobé a dlouhodobé někdy jen krátkodobé (obvykle do 1 roku, někdy do 3 let) a dlouhodobé (delší než 1 rok, resp. 3 roky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u mezi cíli: komplementární (dosahování 1 vede k dosahování druhého), konkurenční, protikladné a indiferentní (plnění 1 cíle nemá vliv na plnění ostatních cílů)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hu cíle: ekonomické, technické a sociál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ulace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sně vymezený obsah cíle, aby všichni zainteresovaní pochopili cíl stejn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á velikost cíle v naturálních nebo hodnotových jednotkách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ý časový horizont dosažení cíle, který je pokud možno co nejreálněj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jasně zdokumentovaný – srozumitelně popsaný, písemně dokladova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mají bý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rét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itelné a hodnotitel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ě ohraniče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stanovena zodpovědnost za splně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ýrobní - výroba, produkce určitého výrobku nebo služb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davatelská - uspokojuje určité potřeby tr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ědeckotechnická -snaží se využívat nových vědeckých poznatků, nových technologi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á - tvorba zisku cestou uspokojování cizích potřeb a ve vytváření předpokladů pro další roz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 - na fungování podniku závisí příjmy zaměstnanc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á - posiluje, či oslabuje politická rozhodnut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dělávací a kultur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ezpečnostní - zahrnuje bezpečnost práce, ochranu majetku, životního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á odpovědnost (CSR) – dobrovolně integruje sociální a ekologické dopady do podnikatelské činnosti firmy, a to ve spolupráci se zainteresovanými stranami podniku a stakeholder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podnikatels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užívání příležitostí na trhu CR pro dosahování cílů zhodnocení vlastního kapitál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konomic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konávání činností spojených s poskytováním služe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organizač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nitřní uspořádání výrobních faktorů a vztahů mezi nim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nvironment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ostavení a činnosti podniku v souvislosti s jeho vlivem na kvalitu a ochranu ŽP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technická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– vybavenost základními výrobními faktory a vytváření technicko-technologických podmínek pro svoji činnos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soci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éče o zaměstnance podniku a vztahy mezi nimi, i vliv podniku na ekonomický a sociální rozvoj obcí, měst a regionů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02920" y="944280"/>
            <a:ext cx="6978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právní fo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jednotliv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sobní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apitálové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ružstv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vropské společnosti a sdruže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eřejné (státní) podniky, neziskové organ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sektorů a hospodářských odvětví, tradičně do 3 sektorů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prim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sekundár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terci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velikosti - velké, střední a malé podn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typu výroby, sdružení podniků;  podle typů výroby rozlišují výrobu: hromadnou, vázanou, druhovou, sériovou, plynulou, kusovo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bdélník 1"/>
          <p:cNvSpPr/>
          <p:nvPr/>
        </p:nvSpPr>
        <p:spPr>
          <a:xfrm>
            <a:off x="-518040" y="4795920"/>
            <a:ext cx="24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Comic Sans MS"/>
              </a:rPr>
              <a:t>Typy podni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, podnik, závod, provozovn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íle a funkce podni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otlivé typy podnikatelských subjekt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76500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) podniky vztahující se k objektu, jedná se 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a stravovací služby: hotel, motel, penzion, turistická ubytovn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služby: chalupy, chaty, ubytování v soukromí, campingy, chatové osad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stravovací služby: restaurace, specializované restaurace, vinárny, čajovny, kavárny, cukrárny, bar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lázeňsko-léčebné podniky: lázeňský dům, lázeňská léčebna, lázeňsko-léčebné procedur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ací instituce: společensko-zábavní a kulturní podnik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ě rekreační zařízení: umělá ledová dráha, koupaliště, plovárna, tenisové kurty, golfové hřiště, minigolf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í školy: lyžování, tenisu, plavání, potápění, závěsného létá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pravní podniky CR: speciální dopravní prostředky jako např. osobní horské dopravní zařízení, koňské spřežení, úzkokolejná železnice, historická železnice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robní, obchodní podniky a podniky služeb orientující se na C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podniky CR vztahující se k subjekt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klamní podniky a agentury zaměřené na propagaci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ací podniky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instituce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) podniky vytvářející vztahy mezi objektem a subjektem C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stovní kanceláře a cestovní agen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uristické informační kanceláře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87096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7030a0"/>
                </a:solidFill>
                <a:latin typeface="Comic Sans MS"/>
              </a:rPr>
              <a:t>Vývoj podniků v hotelnictví v Č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Obrázek 3" descr=""/>
          <p:cNvPicPr/>
          <p:nvPr/>
        </p:nvPicPr>
        <p:blipFill>
          <a:blip r:embed="rId1"/>
          <a:stretch/>
        </p:blipFill>
        <p:spPr>
          <a:xfrm>
            <a:off x="1069920" y="1628640"/>
            <a:ext cx="68626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ecné označení pro ekonomicko-právní subjekt, jednu za základních forem institucionálního uspořádá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ekonom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ubjekt, ve kterém dochází k přeměně vstupů na výstupy, tj. zboží a služ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právn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yl podnik dle obchodního zákoníku definován jako soubor hmotných, nehmotných, jakožto i osobních složek podnik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kladními znak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ekonomická samostatnost a právní subjektiv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aždý subjekt, který vykonává hospodářskou činnost bez ohledu na jeho právní form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ladní prvek NH, tvoří jej (Vochozka, Mulač a kol, 2012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motné složky podnikání (movitý a nemovitý majetek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ní složky podnikání (zaměstnanci a zaměstnavatelé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hmotné složky podnikání (obchodní jméno, patenty, licence, ochranné známky, know-how atd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finice evropského práva, Nařízení Komise 800/2008  ze dne 6. srpna 2008, kterým se v souladu s články 87 a 88 Smlouvy o ES prohlašují určité kategorie za slučitelné se společným trhem (obecné nařízení o blokových výjimkách):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každý subjekt vykonávající hospodářskou činnost, bez ohledu na jeho právní formu. K těmto subjektům patř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soby samostatně výdělečně čin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dinné podniky vykonávající řemeslné či jiné činnost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bchodní společnosti nebo sdružení, která běžně vykonávají hospodářskou činn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765000"/>
            <a:ext cx="7842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on č. 90/2012 Sb., Občanský zákoník, díl 5, § 420: Podnikatel je ten, kdo samostatně vykonává na vlastní účet a odpovědnost výdělečnou činnost živnostenským nebo obdobným způsobem se záměrem činit tak soustavně za účelem dosažení zisku, je považován se zřetelem k této činnosti za podnikate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 účely ochrany spotřebitele a pro účely § 1963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také každá osoba, která uzavírá smlouvy související s vlastní obchodní, výrobní nebo obdobnou činností či při samostatném výkonu svého povolání, popřípadě osoba, která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jménem nebo na účet podnikate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§ 421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osoba zapsaná v obchodním rejstří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ídlo podnikatele se určí adresou zapsanou ve veřejném rejstří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astoupení podnikatele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pověří-li podnikatel někoho při provozu obchodního závodu určitou činností, zastupuje tato osoba podnikatele ve všech jednáních, k nimž při této činnosti obvykle dochází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 organizovaný soubor jmění, který podnikatel vytvořil a který z jeho vůle slouží k provozování jeho činnosti. Má se za to, že závod tvoří vše, co zpravidla slouží k jeho provoz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rodinný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závod, ve kterém společně pracují manželé nebo alespoň s jedním z manželů i jejich příbuzní až do třetího stupně nebo osoby s manžely sešvagřené až do druhého stupně a který je ve vlastnictví některé z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těchto osob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412640"/>
            <a:ext cx="74167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em provozovna: Podnikatele zavazuje i jednání jiné osoby v jeho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ě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okud byla třetí osoba v dobré víře, že jednající osoba je k jednání oprávně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ísto plnění je uvedeno: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vod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lní se dluh v místě závodu. To platí obdobně,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727200"/>
            <a:ext cx="741672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§ 423 -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firma - j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e to jméno, pod kterým je podnikatel zapsán do obchodního rejstříku. Podnikatel nesmí mít víc obchodních firem. Obchodní firma nesmí být zaměnitelná s jinou obchodní firmou ani nesmí působit klamavě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Člověk se zapíše do obchodního rejstříku pod obchodní firmou tvořenou zpravidla jeho jménem. Změní-li se jeho jméno, může používat v obchodní firmě i nadále své dřívější jméno; změnu jména však uveřej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-li víc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ch závod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několika podnikatelů spojeno do podnikatelského seskupení, mohou jejich jména nebo obchodní firmy obsahovat shodné prvky; veřejnost však musí být schopna je odliši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9T16:35:06Z</dcterms:modified>
  <cp:revision>721</cp:revision>
  <dc:subject/>
  <dc:title>mikro-P1</dc:title>
</cp:coreProperties>
</file>