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5123-82A5-4FEE-9D94-756DF972667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8DA4-0435-4971-AC87-A3E3E01F903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5D38-0B02-41EF-B022-EDD85C0C4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17CE-CDEF-43A6-9D84-3A67C890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CAEA-8011-4E44-B2AA-EB2458089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65B7-0F55-448E-B9A3-3BCBED4D4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FF4F-5A27-4152-AD68-A27DF2AA7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099A-3093-48DB-8EB0-4B6309AB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B6EB0-D45C-426D-809A-B4982D46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8DA42-28B8-48F6-9149-36CA0195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63BA-F320-493E-91C8-6A6F975D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A883-BBD9-4AC9-A5EB-A7342543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626B-46F8-43B4-A8C1-FBFA29A4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DA22-6440-464B-B3F0-BBF6C4F5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6E98-D638-47F9-8EE9-E855EF3C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7A2C-6DE5-49D0-B525-6B3162EB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E7F1-0582-4A83-A0F4-46A20E67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63ED-BBD0-4907-B5A9-7208DE52A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59337-B0E2-4E53-B67D-69C1EC16D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6E6E-7880-4BFC-BD32-F6BED62D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9D35-4AE8-44D0-A196-513306AF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E302-4751-4529-95C5-B5B3D056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588D-158D-43C7-B8DE-FFA02EA3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491D-9D25-42FC-9EAC-EFEFF010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531E-60A0-4E64-9F35-78DFC559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B2BC-8D20-4539-A5ED-D03E913B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2521-EF06-40DC-BB87-C3652D854C85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428F-B230-47BB-B671-19B240D5F507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ŘÍZENÍ LIDSKÝCH ZDROJŮ V HOTELNICTV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76720" y="5444640"/>
            <a:ext cx="5472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Pavlína PELLEŠOV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rámci jednotlivých činností řízení lidských zdrojů plní manažeři úkol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a analýza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zování volných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acovního výkonu a hodnoce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éče o zaměstnan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personálního informačního systém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ktivit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547640" y="799920"/>
            <a:ext cx="734400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LZ se pro splnění hlavních úkolů zaměřuje n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tivit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pracovní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rganizační rozvoj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pracovních úkolů, pracovních míst a organizačních struktu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personálu organiza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personálního výzkumu a funkčnosti personálního informačního systém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a zaměstnanecké výhod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covní vztahy, především pak vztahy s odb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oc pracovníků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personálního útvar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 kategori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personální strategie ve spolupráci s managementem podniku, včetně principů a politiky říz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a respektování pravidel, předpisů a zákon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jištění operativního řízení personál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ojek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informací a vyjedná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ra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 - 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47640" y="836640"/>
            <a:ext cx="705672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tráková a kol. (2011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t v podniku prostředí, aby počet a struktura prac. míst byly v dynamickém souladu s počtem a strukturou zaměstnanců, přičemž každé prac. místo musí být obsazené zaměstnancem, který splní požadavky na výkon práce, zároveň prac. místo musí poskytovat zaměstnanci prostor na seberealizaci a při plnění cílů podniku dosáhnout i osobní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ustále rozvíjet lidské zdroje a vytvářet pro ně motivující pracovní a životní podmínky, což přispěje k plnění cíl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at týmy, efektivní styl vedení lidí a zdravé mezilidské vztahy v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71640" y="836640"/>
            <a:ext cx="74880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áhat podniku přizpůsobovat se různým zájmům zainteresovaných osob - vlastníků, zaměstnanců, odborových organizací, zákazníků, dodavatelů, státní správ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 samospráv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ledovat místní, celostátní i mezinárodní vývoj ovlivňující praxi zaměstnávání osob a interpretovat a objasňovat jeho důsledky pro strategii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zájmu úspěšného fungování podniku poskytovat přímo anebo nepřímo potřeb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10920" y="611280"/>
            <a:ext cx="784836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Analýza pracovních míst pro stanovení specifických potřeb podniku v oblasti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ognózovaní a plánování potřeby pracovních sil a pokrytí této potřeby. V této souvislosti realizaci průzkumů trhu práce, populačního vývoje a hodnotové orientace lid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hledávání a získávání zaměstnanců potřebných pro plnění úkolů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běr a přijím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rientace a adaptace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Rozmísťovaní zaměstnanců tak, aby byli optimálně využité jejich pracovní schopnosti ve prospěch podniku a pro zvýšení spokojenosti samotných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ání a rozvoj zaměstnanců podniku, aby byli připraveni zvládnout nejen nové požadavky na pracovní místo, ale aby byli připraveni i na změnu svého pracovního zařazení v rámc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programů řízení a rozvoje organizace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vhodných systémů hodnocení pracovního výkonu a postojů k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agendy penzionování a propouště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10920" y="611280"/>
            <a:ext cx="828180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zpracování a realizaci plánů jejich kariéry, plánů jejich personálního a sociálního rozvoj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odměňov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lupráce mezi podnikem a odbor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systémů projednávání disciplinárních záležitostí a stížností a péče o jejich fungován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podmínek pro tvorbu dobrých mezilidských vztah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programů, které se týkají bezpečnosti a ochrany zdraví zaměstnanců při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sociální práce v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řešení osobních problémů, které by mohly ovlivnit jejich pracovní výk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zabezpečování systému komunikace se zaměstnan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personálního informačního systému, zřizování, aktualizace a uchovávání dokumentů týkajících se jednotlivých zaměstnanců, zpracovávání příslušné statistiky a analýz poskytujících údajovou základnu a pomoc při rozhodovaní, zjišťování názorů a postojů zaměstnanců k aktuálním problémům a záměrům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dodržování zákonů v oblasti práce, zaměstnávaní osob a lidských práv a vytváření dobré zaměstnanecké pověst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činnosti řízení lidských zdroj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Obrázek 4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720072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31680" y="174600"/>
          <a:ext cx="8964720" cy="6665760"/>
        </p:xfrm>
        <a:graphic>
          <a:graphicData uri="http://schemas.openxmlformats.org/drawingml/2006/table">
            <a:tbl>
              <a:tblPr/>
              <a:tblGrid>
                <a:gridCol w="2519280"/>
                <a:gridCol w="6445440"/>
              </a:tblGrid>
              <a:tr h="28008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Činnosti ŘL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Účel čin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tváření a analýza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ování pracovních úkolů (a souvisejících povinností, pravomocí, odpovědnosti, podmínek a požadavků vykonané práce) a jejich seskupování do prac. míst, zpracování popisů a specifikací pracovních míst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lidských zdroj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potřeby, pokrytí potřeby a pers. rozvoje zaměstnanců, zpracování plánů personálních činnost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volných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nově vytvořených nebo uvolněných prac. míst v organizaci, získání vhodných uchazečů, výběr nejvhodnějších uchazečů, přijímání uchazečů, adaptace přijatých uchazeč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Řízení pracovního výkonu a hodnoce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měrňování a podněcování zaměstnanců k vykonávání sjednané práce a dosahování požadovaného výkonu pomocí systematického získávání a poskytování zpětné vazby (infce o skutečném výkon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dměňová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eňování skutečného výkonu zaměstnanců a stimulace zaměstnanců k dosaže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zdělávání a rozvoj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tváření, prohlubování a rozšiřování schopností zaměstnanců k vykonávání sjednané práce a dosahová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éče o zaměst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ahování příznivých hodnot všech proměnných, které ovlivňují zaměstnance v prac. procesu při vykonávání sjednané práce a dosahování požadovaného výkonu (prac. doba, prac. prostředí, bezpečnost a ochrana zdraví při práci, pracovní vztahy apod.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užívání personálního informačního systém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pracování pers. údajů potřebných k plnění povinností vyplývajících z právních předpisů a zabezpečování personální práce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é strategické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560" y="1483920"/>
            <a:ext cx="748836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těchto otázek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ou podnikatelskou filozofii si chce podnik vytvořit, jaké chce mít poslání a jakou roli si přeje hrát na trhu či ve společnosti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m pozitivním a negativním vnějším faktorům musí podnik čeli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přednosti a nedostatky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ch cílů chce podnik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chce těchto cílů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mezit pojem řízení lidských zdrojů a odlišit od personálního řízen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psat cíle a činnosti řízení lidských zdroj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harakterizovat jednotlivé úkoly řízení lidských zdrojů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o řeší ŘLZ nejprv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2920" y="836640"/>
            <a:ext cx="74883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míry souladu mezi prac. místy a             pracovníky chce podnik v budoucnu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je současná míra souladu a z ní plynoucí úroveň produktivity práce a osobního rozvoje pracovníků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změny v politice a praktické činnosti jsou nezbytné, aby bylo dosaženou žádoucího souladu mezi pracovními místy a pracovník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lik a jaký druh pracovníků bude podnik potřebova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nabídka PS se perspektivně předpokládá v podniku i mimo něj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potřeba udělat pro pokrytí potřeb pracovníků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413000"/>
            <a:ext cx="813096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(ŘLZ) je práce s lidmi takovým způsobem, který vede ke zvýšení výkonnosti podniku při dosažení osobních cílů zaměstnanců. Je záležitostí všech manažerů a vedoucích týmů (Vetráková a kol., 2011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bývá obvykle definováno jako proces dosahování podnikových cílů prostřednictvím získávání, stabilizování, propouštění, rozvoje a optimálního využívání lidského potenciálu (Vochozka, Mulač a kol., 2012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2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78920" y="836280"/>
            <a:ext cx="82090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manažerský přístup k využívání úsilí, schopnosti a oddanosti lidí k vykonávání požadované práce způsobem, který organizaci zajistí perspektivní budoucnost (Watson, 2010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souhrnem metodologií a rozhodování, jejichž cílem je řídit a rozvíjet lidský potenciál ve všech druzích organizací. Řízení lidských zdrojů lze definovat jako proces dosahování podnikových cílů prostřednictvím získávání, stabilizování, propouštění, rozvoje a optimálního využívání lidí v organizaci. Tato definice ukazuje rozdílnost charakteristiky personalistiky, která je „jen“ obsazováním pozic v organizační struktuře a udržování jejich obsazení (Wagnerová a Matusiková, 20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34720" y="3207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a personální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Obrázek 4" descr=""/>
          <p:cNvPicPr/>
          <p:nvPr/>
        </p:nvPicPr>
        <p:blipFill>
          <a:blip r:embed="rId1"/>
          <a:stretch/>
        </p:blipFill>
        <p:spPr>
          <a:xfrm>
            <a:off x="1835280" y="944640"/>
            <a:ext cx="5470560" cy="5734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ozdíly a shodné rys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Obrázek 4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626436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58560" y="119700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dosahování strategických cílů organizace vytvářením a uplatňováním strategií lidských zdrojů v souladu se strategií podniku (strategické řízení lidských zdrojů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ispívat k rozvíjení kultury zaměřené na dosahování vysokého výkon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at organizaci talentované, kvalifikované a oddané lid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vytváření pozitivních pracovních vztahů a navozování vzájemné důvěry mezi managementem a zaměstnanc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uplatňování etického přístupu k řízení lid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ý cíl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403280" y="1125360"/>
            <a:ext cx="734400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zajistit, aby byl podnik schopen prostřednictvím lidí úspěšně plnit cíle v oblastec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a rozvoje pracovníků – předvídat a uspokojovat budoucí potřeby pracovních sil, zvyšovat a rozvíjet podstatné schopnosti lidí, potenciál a zaměstnatelnost (příležitost k soustavnému vzdělání a rozvoji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cenění pracovníků – zvyšovat motivaci za oddanost, znalosti, dovednosti, schop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 mezi managementem a pracovníky – vytvářet ovzduší pro udržování dobrých vztahů a důvě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úkoly ŘLZ 5-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zařazení správného člověka na správné místo a snažit se o to, aby byl tento člověk neustále připraven přizpůsobovat se měnícím se požadavkům pracovního místa, uplatňuje se tzv. „tailoring“ neboli „šití“ pracovních úkolů a pracovních míst na míru pracovníkov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timální využívání prac. sil v podniku - pracovní doby, pracovních schopnost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týmu, efektivního stylu vedení lidí a zdravých mezilidských vztah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ersonální a sociální rozvoj pracovník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držování zákonů v oblasti práce, zaměstnávaní osob a lidských práv a vytváření dobré zaměstnanecké pověsti podni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0-19T20:14:40Z</dcterms:modified>
  <cp:revision>724</cp:revision>
  <dc:subject/>
  <dc:title>mikro-P1</dc:title>
</cp:coreProperties>
</file>