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7F33-6C16-4E29-83CA-D13C9750105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Zástupný symbol pro číslo snímku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93C2-63B1-48A5-8E7F-B54FCD8E1F1C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3496-B7D0-41C6-B12C-898D7CE26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9308-22BD-49DA-ABDA-FB8FD74E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C228-789E-43EF-9062-4E36A0D90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11EA-01AC-4A28-8E0F-B35B76589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1171-5799-4712-8FA3-A3C844683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5F5DA-5122-4517-9364-5B6098C8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835E-1AAE-4DD1-81BE-D0CC0443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D9E8-D52B-4694-B944-7BFDA366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75719-7E01-4405-8D2C-AE709D67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B042-DFBE-437E-A451-CB9C4705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D27EB-7B17-47A3-B277-A528B249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80E2-406B-4656-BEFB-CD59A914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336C9-B884-4460-AB2A-2BD61F56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699B-1F94-406C-B1FB-EBB2057BF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43F3-96B6-4BAE-891A-A271B445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E99A-B809-4151-8115-5D3A331CA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5E28-5F16-4D68-B185-1F6AA16D7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4844-8D4F-4C85-9D28-B96649D7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9E3F-855B-4F63-B770-9CBA0729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A2D1-3702-498D-9938-BFE9B5AF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95C6-6F22-49EF-8D69-34408A0D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5BF8-C3DA-4BB9-AEEB-CBDA37C7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305E-8542-4623-B5FC-DA2FDB77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665E-4071-45BD-AD6A-2BA91FC04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DD84-9D02-4CC4-99C8-C15F5988D3A7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43840" y="501840"/>
                  <a:ext cx="43128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40360" y="264600"/>
                  <a:ext cx="80964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40200" y="1404720"/>
                  <a:ext cx="2710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8320" y="1259640"/>
                  <a:ext cx="2901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84360" y="194760"/>
                  <a:ext cx="28728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520" y="4318920"/>
            <a:ext cx="978120" cy="1158480"/>
            <a:chOff x="7796520" y="4318920"/>
            <a:chExt cx="978120" cy="115848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520" y="4318920"/>
              <a:ext cx="978120" cy="1158480"/>
              <a:chOff x="7796520" y="4318920"/>
              <a:chExt cx="978120" cy="115848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040" y="5064120"/>
                <a:ext cx="93960" cy="9612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200" y="4652280"/>
                <a:ext cx="1058760" cy="4917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3400" y="4758120"/>
                <a:ext cx="749520" cy="2782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480"/>
                <a:ext cx="100080" cy="18612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5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7D4AC-D200-4F78-8BD4-2184566B2947}" type="slidenum">
              <a:rPr b="0" lang="cs-CZ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0920" y="764640"/>
            <a:ext cx="7574040" cy="324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990000"/>
                </a:solidFill>
                <a:latin typeface="Comic Sans MS"/>
              </a:rPr>
              <a:t>PODNIKÁNÍ                          V HOTELNICTVÍ</a:t>
            </a:r>
            <a:br>
              <a:rPr sz="4000"/>
            </a:br>
            <a:br>
              <a:rPr sz="4000"/>
            </a:br>
            <a:r>
              <a:rPr b="1" lang="cs-CZ" sz="4000" spc="-1" strike="noStrike">
                <a:solidFill>
                  <a:srgbClr val="660033"/>
                </a:solidFill>
                <a:latin typeface="Comic Sans MS"/>
              </a:rPr>
              <a:t>Podnikatelské prostředí v hotelovém průmyslu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00000" y="4868640"/>
            <a:ext cx="784872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doc. Ing. Pavlína PELLEŠOVÁ, Ph.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r>
              <a:rPr b="1" i="1" lang="cs-CZ" sz="3200" spc="-1" strike="noStrike">
                <a:solidFill>
                  <a:srgbClr val="0000f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konom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ekonomická situace země, její vývoj, růst ekonomiky, inflační tendence, nezaměstnanost, úroveň příjmů, struktura výdajů ve státním rozpočtu, daňové a celní podmínky, úrokové sazby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technologické činitel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technologický rozvoj v zemi, zavádění nových technologií, tempo technologických změn, inovační potenciál země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řírodní faktor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- podnebí, přír.zdroje, ŽP, aj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litickou situaci a její předpokládaný vývoj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egislativní podmín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o prostředí zahrnuje veškeré vlivy působící na organizaci z jejího okolí, zahrnuje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zákazníky,     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nkurent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dodavatelé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idské zdroje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Jakubíková  -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nější prostředí firmy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akroprostředí a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mikro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technologie informačních sít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global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deregul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rivatiza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zvýšená konkurence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onvergence odvětví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přeměna maloobchodu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eliminace prostředník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kupní síla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informovano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účast spotřebitelů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vzdor spotřebitelů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Činitelé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čerová, Strašík a Šebová (2010)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kvalita životního prostředí, legislativní úprava v oblasti ochrany ŽP, úroveň environmentálního uvědomění návštěvníků, negativní vlivy znečištění životního prostředí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technolog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informační technologie, dopravních technologií, technologií používaných při výrobě jídel a nápojů, technologií používaných při výstavbě a provozu zařízení CR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ekonom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například úroveň vývoje ekonomiky státu, míra inflace, vývoj úrokové míry, vývoj HDP, zapojení do integračních procesů, vývoj veřejných financí, úroveň a zaměření státní pomoci, úroveň minimální mzdy, systém sociálního zabezpečení, apod.,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mic Sans MS"/>
              </a:rPr>
              <a:t>společensko – politické</a:t>
            </a:r>
            <a:r>
              <a:rPr b="0" lang="cs-CZ" sz="1800" spc="-1" strike="noStrike">
                <a:solidFill>
                  <a:srgbClr val="000000"/>
                </a:solidFill>
                <a:latin typeface="Comic Sans MS"/>
              </a:rPr>
              <a:t> – stabilita politického prostředí, image země, jak země uznávající hodnoty demokracie a svobody, úroveň kriminality a bezpečnosti, úroveň všeobecného zdraví, výskyt etnických, náboženských a rasových konfliktů, hrozba terorizmu, apo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Geograf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 značné míry předurčuje jeho logistiku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řírodní podmínky, klimatické podmínky, kulturní zvyklosti atd.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dopravní infrastruktur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ologické a ekonomické podmínky daného státu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elá řada dalších faktorů a prakticky všechny následující roviny.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lit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84428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závažnější politickou podmínkou je politická stabilita a mír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apříklad politickou kulturu, volební chování a jednání, důvěru obyvatel v politiku a personální vztahy mezi jednotlivými politik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ůležitou roli hraje i hospodářská politika daného státu, členství v mezinárodních organizacích, členství v EU, programy na podporu podnikání, …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62064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Ekonomic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844280"/>
            <a:ext cx="74865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ostupnost a ceny výrobních faktor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aňová zátěž podniků - daňová politika státu u nás hledá cestu mezi dvěma póly - musí zajistit takový daňový výnos a současně nezatížil podniky tak, aby ztratily motivaci k podnikání. Sazby  DPH a spotřební daně působí i na chování spotřebitelů, mají i přímý dopad na poptávku po zbož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Hospodářský růst, měnový a devizový vývoj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 ekonomickému okolí patří také odběratelé (zákazníci) a dodavatelé podniku a finanční instituce (zejména banky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998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Interakce podniku a okol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5800" y="1197000"/>
            <a:ext cx="74865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zákazníky - komunikace prostřednictvím celé řady komunikačních kanál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dodavateli - je možné použít marketingové nástroje (tzv. nákupní marketing), management rozhoduje, zda bude nákup uskutečněn, či nikoliv, nemusí tomu tak však být vždy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 konkurencí - se vyznačují jistou mírou vzájemné rivality, vzájemné spolupráce, oborové asociace a podobné instituce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státní správou a dozorovými orgány, vztahy s místní samosprávou - mohou ovlivnit chod podniku,  dodržení předepsaných postupů, legislativy a  kompetence jednotlivých orgánů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ztahy se širším okolím (neziskový sektor, občanská společnost a další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73180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635"/>
                </a:solidFill>
                <a:latin typeface="Comic Sans MS"/>
              </a:rPr>
              <a:t>Hodnocení kvality podnik.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23640" y="765000"/>
            <a:ext cx="82803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iturka a kol. (2010) šestnáct faktorů - šest skupin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bchod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největší význam, tvoří 4 faktory: blízkost trhů, koncentrace významných podniků, přítomnost zahraničních podniků, podpůrné služb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acov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dostupnost pracovních sil, kvalita pracovních sil a flexibilita pracovních sil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infrastruktur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- 3 faktory: kvalita silnic a železnic, kvalita informačních a komunikačních technologií, blízkost mezinárodních letišť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lok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voří - podnikové a znalostní báze a  asistence veřejné správy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nové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úrovni D a S na relevantních trzích, zahrnují faktor ceny práce a faktor ceny nemovitostí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environmentální faktory 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ypovídají o specifických stránkách kvality života, které spoluvytvářejí podnikatelské prostředí a zahrnují faktor urbanistické a přírodní atraktivity území a faktor environmentální kvality území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85800" y="1700280"/>
            <a:ext cx="7696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hlavní rysy podnikatelského prostředí v Č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ekonomické a finanční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politické faktory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české legislativní prostředí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společenské faktor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030a0"/>
                </a:solidFill>
                <a:latin typeface="Comic Sans MS"/>
              </a:rPr>
              <a:t>Zdroje informací pro podni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85800" y="1197000"/>
            <a:ext cx="7696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Synek, Kislingerová a kol., 2010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ádní a jiné prognózy střednědobého a krátkodobého vývoje ekonomiky (ekonomický růst, inflace, měnový kurz atd.)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produkované zájmovými průmyslovými a podnikatelskými svazy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vlastní historické a prognostické informace o situaci na trhu, cenách, zákaznících a jejich potřebách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vývoji technik a technologie v daném oboru, získané na veletrzích, výstavách, z nabídkových katalogů atd.,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informace o situaci v konkurenčních firmách a jeho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Comic Sans MS"/>
              </a:rPr>
              <a:t>očekávaném chování.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82964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Podmínky absolvování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971280" y="1557360"/>
            <a:ext cx="78850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vypracování sem. práce a její úspěšná obhajoba – 15 b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60% povinná účast na seminářích – 10 b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ůběžný test – 15 b, TERMÍN </a:t>
            </a:r>
            <a:r>
              <a:rPr b="1" lang="cs-CZ" sz="2000" spc="-1" strike="noStrike">
                <a:solidFill>
                  <a:srgbClr val="ff0000"/>
                </a:solidFill>
                <a:latin typeface="Comic Sans MS"/>
              </a:rPr>
              <a:t>21.11.201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ísemná zkouška - 60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_____________________________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Celkové hodnocení: 100 bodů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835280" y="4508640"/>
          <a:ext cx="2160360" cy="1957320"/>
        </p:xfrm>
        <a:graphic>
          <a:graphicData uri="http://schemas.openxmlformats.org/drawingml/2006/table">
            <a:tbl>
              <a:tblPr/>
              <a:tblGrid>
                <a:gridCol w="811080"/>
                <a:gridCol w="1349280"/>
              </a:tblGrid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91-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-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71-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1-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7030a0"/>
                          </a:solidFill>
                          <a:latin typeface="Comic Sans MS"/>
                        </a:rPr>
                        <a:t>51-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6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0-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42560" y="2276640"/>
            <a:ext cx="77043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DĚKUJI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ZA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	</a:t>
            </a:r>
            <a:r>
              <a:rPr b="1" i="1" lang="cs-CZ" sz="4000" spc="-1" strike="noStrike">
                <a:solidFill>
                  <a:srgbClr val="0000fc"/>
                </a:solidFill>
                <a:latin typeface="Comic Sans MS"/>
              </a:rPr>
              <a:t>POZORNOST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1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51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09280" y="115920"/>
            <a:ext cx="6588360" cy="789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030a0"/>
                </a:solidFill>
                <a:latin typeface="Comic Sans MS"/>
              </a:rPr>
              <a:t>Literatur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86920" y="904680"/>
            <a:ext cx="7705800" cy="54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RYGLOVÁ, K., BURIAN, M.a I.VAJČNEROVÁ, 2011. Cestovní ruch - podnikatelské přístupy apříležitosti v praxi. Praha: Grada Publishing. ISBN 978-80-247-4039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SMÁK, P., 2005. Hotelové podnikání a integrační procesy. Praha: VŠH. ISBN 80-86578-50-X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RÁB, V., PETERKA, J. a M. REŽŇÁKOVÁ, 2007. Podnikatelský plán. Brno: Computer Press. ISBN 978-80-251-1605-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BERÁNEK, J. Provozujeme pohostinství a ubytování. Praha: Grada Publishing, 2004. ISBN 80-86724-02-6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KOUBEK, J., 2007. Řízení lidských zdrojů - základy moderní personalistiky. Praha: Management Press.ISBN 978-80-7261-168-3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NOVACKÁ, L. a kol.,2013. Cestovný ruch, udržateľnosť a zodpovednosť na medzinárodnom trhu.Bratislava: EKONÓM. ISBN 978-80-225-3475-8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4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Struktura předmět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620640"/>
            <a:ext cx="79819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v hotelovém průmyslu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ání v hotelnictví, podnikavost, integrační procesy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Charakteristika podnikatelského subjektu, typy a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Základní principy a právní aspekty založení podniku, činnosti podniku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Formy podnikatelských struktur v gastro., hotel. a lázeňs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ý zámě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Rizika podnikán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rodukt v gastronomii, hotelnictví a lázeňství, jeho vlastnos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valita produktu, standardy kvality, hodnocení kvality služe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Řízení lidských zdrojů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á etika a společensky zodpovědné podnikání v podmínkách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Analýza konkurence a formy spolupráce v hotelnictví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pora podnikání v České republ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6541920" cy="93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Comic Sans MS"/>
              </a:rPr>
              <a:t>Struktura přednášk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6920" y="2060640"/>
            <a:ext cx="7269480" cy="40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Vnější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Hodnocení kvality podnikatelského prostředí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omic Sans MS"/>
              </a:rPr>
              <a:t>Podnikatelské prostředí v Č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odnikatelské prostředí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jako soubor vnějších faktorů ovlivňujících ekon. postavení, motivaci a chování konkrétních podnikat. subjektů (Vochozka, Mulač a kol., 2012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dnikatelské prostředí je blíže konkretizováno především zákonodárnými sbory a ministerstvy, orgány státní správy, státem zřízenými nebo státem podporovanými institucemi a agenturami, soudy, orgány veřejné samosprávy, vzdělávacími zařízeními všech typů, výzkumnými a vývojovými pracovišti, subjekty působícími v oblasti peněžnictví, institucemi kapitálového trhu, leasingovými společnostmi, podnikatelskou samosprávou (komory, svazy, asociace, spolky, a další)a poradenskými, zprostředkovatelskými a jinými organizacemi, dále také pochopitelně tržními subjekty, kterými jsou současní a potenciální konkurenti a současní a potenciální spolupracující subjekty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rublová a kol. (2001) - souhrn podstatných vlivů působících jak na podnikatele, tak i na podnik a podnikání. Podnikatelské prostředí tedy zahrnuje vlivy, které působí na soustavnou činnost prováděnou podnikatelem nebo podnikem vlastním jménem a na jeho vlastní zodpovědnost za účelem zhodnocení podnikatelského potenciálu, např. v podobě dosaženého zisku. Vedle složek ek. a přír. v podnikatelském prostředí mají významnou roli i složky nehmotného prostředí (kultura, právo, sociální vztahy, vědecké poznatky apod.)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Ludvík, 2005 - souhrn podstatných vlivů působících na podnikatele, podnik a podnikání.  Podnikatelské prostředí představuje prostředí života podnikatelských subjektů a vztahů s ostatními subjekty. Zároveň je součástí životního prostředí a nedílnou součástí života každého člověka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70c0"/>
                </a:solidFill>
                <a:latin typeface="Comic Sans MS"/>
              </a:rPr>
              <a:t>Podnikatelské prostřed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981000"/>
            <a:ext cx="7696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itřní (interní) podnikatelské prostředí – mikropodnikatelské prostředí je plně v kompetenci podnikatele, je základním stavebním prvkem podnikání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(externí) podnikatelské prostředí je vhodné pro účely podnikání rozčlenit do dvou vrstev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nejvzdálenější vrstva – makropodnikatelské prostředí (makroprostředí) – „celkový obal“, celospolečenské podnikatelské klima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druhá vrstva – mezzopodnikatelské prostředí (mezzoprostředí) – je spojena s působením regionálních a místních faktorů, firma ho spoluvytváří, má možnost zasahovat a ovlivňovat h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1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70c0"/>
                </a:solidFill>
                <a:latin typeface="Comic Sans MS"/>
              </a:rPr>
              <a:t>Vnější prostředí – okolí podnik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980640"/>
            <a:ext cx="7696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Vnější prostředí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o-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techn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í a et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Okolí podniku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 má </a:t>
            </a:r>
            <a:r>
              <a:rPr b="1" lang="cs-CZ" sz="2000" spc="-1" strike="noStrike">
                <a:solidFill>
                  <a:srgbClr val="000000"/>
                </a:solidFill>
                <a:latin typeface="Comic Sans MS"/>
              </a:rPr>
              <a:t>prvky</a:t>
            </a: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geograf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sociál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politické a právní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nom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kologické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etické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omic Sans MS"/>
              </a:rPr>
              <a:t>kulturně historické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9T11:03:34Z</dcterms:created>
  <dc:creator>Pavlína Pellešová</dc:creator>
  <dc:description/>
  <dc:language>en-US</dc:language>
  <cp:lastModifiedBy>pellesova</cp:lastModifiedBy>
  <dcterms:modified xsi:type="dcterms:W3CDTF">2017-09-17T16:05:13Z</dcterms:modified>
  <cp:revision>701</cp:revision>
  <dc:subject/>
  <dc:title>mikro-P1</dc:title>
</cp:coreProperties>
</file>