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B0B43-6D5B-4824-85E6-F9823ADA0F7A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6BDA9-31C5-42B4-9C9A-583D28DBB780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D5D70-6022-4BDE-8D4E-8EDE1B0EB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45778-8625-4790-904A-A28275400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92AA5-AC3C-4F13-8767-762202CE7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F780F-5CCB-4008-833E-55CFA9F0B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A393E-2C15-4E82-8B97-EBA0319DA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B63B8-6326-4B78-832E-B51080DFD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80808-89CA-402E-8960-555F0FF61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E2010-4F88-410E-9A44-AA4F7388F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4ECD5-8368-4A09-94FB-4CFA33BE5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90AB7-E858-4D49-ABA5-61F42B161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4081F-5EED-49DD-A77A-85B3151E5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B2469-F984-44FE-BCA4-B867C0693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45375-7DC7-41E3-87B1-CD97CA7B8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D11A5-2227-4119-8CA1-A24261557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63905-8D94-40D4-964F-1EA9F26AD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390F9-B3E2-42DA-A931-B2745FF06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B4943-47E8-42D6-BF07-72614149C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A4D5B-DEAB-46D9-899D-B16BE1B07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76028-92EE-4B81-8F99-9A86069C2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F53F0-B512-4F05-924F-466BCB718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38662-46D2-480D-B300-349168F9B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17666-B24E-46ED-9751-8F2392DC3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0C194-2359-40D4-8439-E8EDC5711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28AD3-A09F-43A1-BBD9-0953AE50C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29F2C-A5DF-4475-B75F-9F1C1F0A4CD6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43840" y="501840"/>
                  <a:ext cx="43128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40360" y="264600"/>
                  <a:ext cx="80964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40200" y="1404720"/>
                  <a:ext cx="27108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8320" y="1259640"/>
                  <a:ext cx="29016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84360" y="194760"/>
                  <a:ext cx="28728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520" y="4318920"/>
            <a:ext cx="978120" cy="1158480"/>
            <a:chOff x="7796520" y="4318920"/>
            <a:chExt cx="978120" cy="115848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520" y="4318920"/>
              <a:ext cx="978120" cy="1158480"/>
              <a:chOff x="7796520" y="4318920"/>
              <a:chExt cx="978120" cy="115848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040" y="5064120"/>
                <a:ext cx="93960" cy="9612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200" y="4652280"/>
                <a:ext cx="1058760" cy="49176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3400" y="4758120"/>
                <a:ext cx="749520" cy="2782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480"/>
                <a:ext cx="100080" cy="18612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52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80E6A-79C1-40B0-8B1A-8ED09AE5D1E9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10920" y="907560"/>
            <a:ext cx="7574040" cy="259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990000"/>
                </a:solidFill>
                <a:latin typeface="Comic Sans MS"/>
              </a:rPr>
              <a:t>Analýza konkurence a formy spolupráce v hotelnictví</a:t>
            </a:r>
            <a:br>
              <a:rPr sz="4000"/>
            </a:br>
            <a:br>
              <a:rPr sz="4000"/>
            </a:br>
            <a:r>
              <a:rPr b="1" lang="cs-CZ" sz="4000" spc="-1" strike="noStrike">
                <a:solidFill>
                  <a:srgbClr val="990000"/>
                </a:solidFill>
                <a:latin typeface="Comic Sans MS"/>
              </a:rPr>
              <a:t>Podpora podnikání v ČR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00000" y="4868640"/>
            <a:ext cx="784872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doc. Ing. Pavlína PELLEŠOVÁ, Ph.D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Formy spoluprác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1422360" y="1773000"/>
            <a:ext cx="769608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vznik hotelových řetězců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spolupráce formou manažerské smlouvy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licenční smlouvy nebo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franšízové smlouv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hotelový řetězec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571320" y="1196640"/>
            <a:ext cx="774540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= hotely vzájemně propojené různou formou spolupráce, typem poskytovaných služeb a vlastnických vztahů, které mají typický výcvik zaměstnanců, propagace, vybavení hotelů, společný informačně-rezervační systém, marketing atd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kládá se z portfolia hotelů, provozovaných pod jednou značko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= hotelové skupiny - organizační složka, několik jednotlivých hotelů nebo hotelových řetězců vystupuje pod jednotným názvem a jsou provozovány v rámci této hotelové skupin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hotelový řetězec - výhod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571320" y="1197000"/>
            <a:ext cx="77454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yužívání společných rezervačních systém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polečná propagace, průzkumy trhu a jiné marketingové aktivity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onkurenční výhody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ožnosti společného investování a úvěrování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nožstevní výhody při výběru společných dodavatelů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vádění metod řízení a kvality služeb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užívání loga a značky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ekonomické analýzy vedoucí k efektivnímu provozu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hotelový řetězec - nevýhod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571320" y="1557000"/>
            <a:ext cx="774540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trátu určité samostatnosti v rozhodování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lnění direktiv a standardů daných řetězcem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lnění finančních závazků – platby za služby, členství, příspěvky do společných fondů, za rezervace, franchising (prodeji práva používat obchodní jméno, design nebo značku), …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333000"/>
            <a:ext cx="687060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hotelový řetězec – systémy fungová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440" y="1412640"/>
            <a:ext cx="774540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franchisová smlouva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mlouva o řízení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rezervační systém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rezervační a marketingový systém, síť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lastnictví jednotlivých objekt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trategické aliance, podobou je „Joint ventures“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onsorcium - volné sdružení nezávislých organizací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lastry - Klastr cestovního ruchu resort Luhačovic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Podpora podniká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692280" y="1268280"/>
            <a:ext cx="769608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dle charakteru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patření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finanční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- konkrétní programy, pomocí kterých lze získat finanční podporu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měřenou např. na projekty zaměřené na investice, hospodářské a technické poradenství, získávání informací o podnikání, projekty výzkumu a vývoje, nová pracovní místa, účast na veletrzích atd.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nefinanční opatření -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formování příznivého podnikatelského prostředí – omezování byrokratické zátěže apo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Podpora podniká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92280" y="1341000"/>
            <a:ext cx="769608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koncepce podpory malých a středních podnikatelů na období let 2014–2020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50 konkrétních opatření, jejichž cílem je efektivní fungování a celkový rozvoj malých a středních podnikatel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patření budou financována ze strukturálních fondů EU (zejména z Evropského fondu regionálního rozvoje a ESF) a z národních prostředk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790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Cíle Koncepce podpory MSP 2014-2020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971640" y="1267920"/>
            <a:ext cx="76960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Posílení postavení MSP v české ekonomice a růst konkurenceschopnosti MSP v evropském a světovém kontextu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Rozvoj a zkvalitňování podnikatelského prostředí a zvyšování kvality poradenských služeb pro MSP, včetně zvýšení atraktivity technického a přírodovědného vzdělávání, posílení a rozvoje technické inteligence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Posílení inovační schopnosti a efektivního nakládání s duševním vlastnictvím MSP a rozvoj podnikatelské a inovační infrastruktury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Snižování energetické a materiálové náročnosti při podnikání malých a středních firem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486560" cy="790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Koncepce podpory MSP </a:t>
            </a:r>
            <a:br>
              <a:rPr sz="3200"/>
            </a:b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2014-2020 –strategické priorit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971640" y="1483920"/>
            <a:ext cx="76960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ultivace podnikatelského prostředí, rozvoj poradenských služeb a vzdělávání pro podnikání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Rozvoj podnikání založeného na podpoře výzkumu, vývoje a inovací, včetně inovační a podnikatelské infrastruktury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dpora internacionalizace MSP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Udržitelné hospodaření s energií a rozvoj inovací v energetice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486560" cy="790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Koncepce podpory MSP </a:t>
            </a:r>
            <a:br>
              <a:rPr sz="3200"/>
            </a:b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2014-2020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971640" y="1483920"/>
            <a:ext cx="76960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ydefinovány sektory, které jsou vhodné pro veřejnou podporu ze strukturálních fondů a státního rozpočtu a které budou takto zohledněny při tvorbě nového Operačního programu Podnikání a inovace pro konkurenceschopnost a i nových národních program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podporovaná odvětví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-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odvětví Ubytování, Stravování i Pohostinství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32000" y="475920"/>
            <a:ext cx="6541920" cy="93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Comic Sans MS"/>
              </a:rPr>
              <a:t>Struktura přednášk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331640" y="2349360"/>
            <a:ext cx="7124760" cy="37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konkurenční prostředí v oblasti hotelnictví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Formy spolupráce v hotelnictví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Podpora podnikání v ČR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Podpora podniká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692280" y="1341000"/>
            <a:ext cx="769608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Asociace hotelů a restaurací České Republiky - 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bčanské sdružení, profesní a nepolitická organizace. Hlavním jejím cílem je podpora podnikatelů v oboru hotelnictví a gastronomie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Podnikatelské inkubátory, vědeckotechnické parky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, které jsou převážně určeny začínajícím podnikatelům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Food Incubator,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terý představuje jedinečný projekt, který podporuje začínající podnikatele v oblasti gastronomi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790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Podpora podnikání </a:t>
            </a:r>
            <a:br>
              <a:rPr sz="3200"/>
            </a:br>
            <a:r>
              <a:rPr b="1" lang="cs-CZ" sz="3200" spc="-1" strike="noStrike">
                <a:solidFill>
                  <a:srgbClr val="c00000"/>
                </a:solidFill>
                <a:latin typeface="Comic Sans MS"/>
              </a:rPr>
              <a:t>– vládní organizac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1115640" y="1123560"/>
            <a:ext cx="783756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CzechInvest -  státní příspěvková organizace podřízená MPO ČR, posiluje konkurenceschopnost české ekonomiky prostřednictvím podpory MSP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Českomoravská záruční a rozvojová banka, a. s. - napomáhá rozvoji MSP, infrastruktury a dalších sektorů ekonomiky vyžadujících veřejnou podpor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Česká exportní banka, a.s. - specializovaná bankovní instituce pro státní podporu vývozu přímo, součást systému státní proexportní politik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-3052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Exportní garanční a pojišťovací společnost, a. s. (EGAP) - státní úvěrová pojišťovna se zaměřením na tržně nepojistitelná politická a komerční rizika spojená s financováním vývozu zboží, služeb a investic z ČR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1042560" y="2276640"/>
            <a:ext cx="770436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DĚKUJI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ZA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POZORNOST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1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6" dur="50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1" dur="50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" dur="50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" dur="50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Konkurence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1341000"/>
            <a:ext cx="7696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dvě situace na trhu nebo v daném oboru, konkrétně (Blechová, 2015)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onkurence již existuje na trhu, do kterého podnikáním firma vstupuje, je to tedy konkurenční tržní prostředí, nebo také stávající konkurenc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onkurence neexistuje, lze ale predikovat, že v době vstupu firmy na trh, nebo segment trhu se začne objevovat nová konkurence ze strany odběratele a dodavatele, a také konkurence ze strany substitutů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Konkurenční prostředí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1341000"/>
            <a:ext cx="7696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trh světový či národní, lze jej chápat i v rámci regionu či menších celků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užívá se termín relevantního trhu - vymezujeme podle povahy odvětví, nejbližších konkurentů a možných substitutů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onkurenční okolí - ovlivňováno různými faktory, jakými jsou konkurenti, dodavatelé a zákazníci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 HOT podniká řada subjektů - provozují restaurační i ubytovací zařízení různých kategorií, a tím vytvářejí silnou konkurenci, která vedla ke snížení průměrné cen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04520" y="18900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Konkurence – jak ji stanovit?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1403280" y="842760"/>
            <a:ext cx="82072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ubytovací zařízení musí být stejné kategori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usí se nacházet ve stejné lokalitě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usí mít stejný počet pokojů či lůžek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usí poskytovat stejné služb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budeme sledovat ukazatele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Cenové strategie na denní bázi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arketingové strategi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Rozdíly v doplňkových službách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ý má konkurence podíl na trhu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ý má věrnostní program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 posiluje svou značku a pověs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é jsou jejich silné a slabé stránky (SWOT analýza), apod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Analýza konkurence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1341000"/>
            <a:ext cx="7696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myslet se nad výhodami, které můžeme mít vůči svým konkurentům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Dobrá pověst a kvalita služeb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Unikátní produkt nebo lokalita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nadno zapamatovatelný název a logo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Atraktivní věrnostní program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Tradice na trhu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Individuální přístup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Dobrý poměr kvalita vs. cena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Široká nabídka doplňkových služeb apod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Konkurenční strategi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704880" y="1267920"/>
            <a:ext cx="769608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Cíl = získání konkurenční výhody na trh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trategie musí být utvářena v souvislosti s fungováním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ravidel konkurenčního chování firem na trhu a v daném segmentu trh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usí být zohledněna pravidla tvořená etickými normami a veřejnou politikou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musí efektivně reagovat na nové výzvy trhu a konkurenčně je využívat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návrh strategie musí být pružný a efektivní pro potřeby firmy i do budoucna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Struktura konkurenční strategi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701640" y="1915920"/>
            <a:ext cx="769608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slání konkurenční strategie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Analýza okolí firmy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Analýza interního prostředí firmy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trategické cíle firmy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Utvoření a stanovení konkurenční strategie na základě analyzovaných informací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Metody analyzující okolí podnik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899640" y="944640"/>
            <a:ext cx="769644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Porterův model 5 konkurenčních sil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- analýzy konkurentů v odvětví, zákazníků, potenciálních konkurentů, stávajících i potenciálních dodavatelů, blízkých možných konkurentů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77560" indent="-27756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PEST analýza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-  analýza polit., ekon., soc., technol. faktorů, je součástí strateg. Managementu, u velkých projektů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77560" indent="-27756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PESTLE analýza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je analytická technika, analýze okolí,                + legislativní, ekologické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77560" indent="-27756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SPACE analýza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-analytická technika, ve strategickém Ř a plánování, představa o vhodné podnikatelské strategii, analýza hodnotí vnitřní a vnější prostřed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77560" indent="-27756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Situační analýza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- komplexní analýza zachycuje informace a faktory (vnitřní i vnější), které ovlivňují současnou i budoucí situaci organizace, informace o silných a slabých stránkách, příležitostech a hrozbách. Její obsah je různý, nejčastěji se používá struktura 5C ( 4C nebo 7C). Company (podnik), Customers (zákazníci), Competitors (konkurence), Collaborators (spolupracující firmy, osoby), Climate/ Context (makroekonomické faktory vnějšího prostředí) …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9T11:03:34Z</dcterms:created>
  <dc:creator>Pavlína Pellešová</dc:creator>
  <dc:description/>
  <dc:language>en-US</dc:language>
  <cp:lastModifiedBy>pellesova</cp:lastModifiedBy>
  <dcterms:modified xsi:type="dcterms:W3CDTF">2017-11-01T08:53:12Z</dcterms:modified>
  <cp:revision>729</cp:revision>
  <dc:subject/>
  <dc:title>mikro-P1</dc:title>
</cp:coreProperties>
</file>