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6680-8DA6-4C2A-9B48-67F011CB2AB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9893C-7D6B-4A8B-887D-E7012ADB21F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333C-C1C2-4F46-8B91-F2EA7B9F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7D05-5FB4-404E-83BC-9E33D5CE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376A-302C-42EC-9A03-E403602C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449B-DBA3-4E85-BBE4-8B92BDFAB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C9C2D-38EC-4172-BF24-9CEE21E45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D635-A2FD-4B94-BF1C-002E1CE5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63D79-93BB-4724-99AC-48C96E78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A4EF-3181-40D8-A0E4-011190DF3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8278B-830A-44C3-9FB9-22D598C6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2310-6130-4E91-B703-A918966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6CC56-24F7-4BFA-8671-C3B0D045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B06-BF81-4DA5-8D7F-7C27D6436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92AFA-7CDA-4180-B3DE-F67186196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1D1F6-B14D-4BCF-BC3A-E974D09A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82A0F-07A9-4932-8DA1-7CB5499BE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E5F4-498E-4A5E-9FC3-F8A889F3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5233-850B-4A45-89C5-8C9FCDD08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CD87-07CA-4D53-A0B3-4F63E7152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5F01-076C-4AD8-9D74-E8AA184A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DC7D-2207-4333-A965-A54F251C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D24B-AF58-4CAE-8C74-22C0B09D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DE9A-1C83-470A-92EF-C369E6C1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162-8B92-4FF2-8691-AB5296F92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8470-B127-4018-89F5-F8F4C88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634E2-8D1E-41E8-976E-C06ABFE3EA20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632E-6D91-45ED-9C48-1648CD9561A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, PODNIKAVOST, INTEGRAČNÍ PROCESY V HO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Bariér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58920" y="1125000"/>
            <a:ext cx="707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interní bariéry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chc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umí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člověk nemůže podnika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3399"/>
                </a:solidFill>
                <a:latin typeface="Comic Sans MS"/>
              </a:rPr>
              <a:t>externí bariéry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- existují objektivně, nelze je ovlivnit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rž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– trh je nasycený nebo neexistuj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určitá výroba může být zakázána nebo omezena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egionáln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některé statky nejsou v určitých regionech prodejn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ociáln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pro určitou vrstvu obyvatel může být výrobek nepřijatelný nebo si jej nemohou dovolit koupit, aj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 v GA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čné na finanční kapitál, návratnost je delš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lký počet malých provozních jednotek vyvolává vyšší potřebu pracovníků a je příčinou vyšších nákladů na zabezpečení provoz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hrnuj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travovac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polečensko-zábavní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ubytovací a hotelov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ateringové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ypické příklady korporac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patří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trust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podniky ztrácejí hosp. samostatnost, cílem je dosažení dominantního postavení na trh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artel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– smluvní spojení podniků, mají hosp. i právní samostatnost, cílem je ovlivňování cen, výše prodejů, …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cern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spojení právně samostatných podniků, řízení je central. v rukou jednotného vedení, cílem je realizovat úspory z rozsahu výroby, koncentrovat kapitál a know-how, diverzifikovat činnosti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holding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principem je vlastnické ovládání dceřiné společnosti společností mateřskou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konsorcium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– dočasné spojení právně samostatných podniků, je tvořeno za účelem splnění určitého cíle, po splnění cíle zaniká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rocesy sdružování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1773000"/>
            <a:ext cx="7696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Další příklady sdružení podnik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ájmová sdružení a pracovní příležitosti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ý podnik, tzv. Joint ventures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ing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dnárodní společnosti 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nsnacionální korpor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otivy a formy koncentr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z rozsahu výrob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úspory při pořizování výrobních faktor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ůst podílu na trh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kapitálu a znalost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esuny da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iverzifikace činností – snižování rizika výkyvů v hospodaře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y koncentrace: akvizice, fúze sloučením, fúze splynutím nebo (vnitřní růst, vnější růst, vytlačení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ypy fúzí: horizontální, vertikální, konglomerát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grační procesy v H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85800" y="1268280"/>
            <a:ext cx="7696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3 úrovně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omezeném geografickém prost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centrace v rámci jedné národní ekonom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upina nadnárodního dosahu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ůkopník spojování hotelů -franšízingový řetězec InterContinental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liday Inn - 1200 hotelů v USA, 245 v Evropě a 74 hotelů v Asii a Pacifik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jvětší hotelový řetězec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Cendant Corp. s cca 6 300 hotely na světě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Nejdůl. sdruž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9640" y="1123560"/>
            <a:ext cx="7842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Hotel &amp; Restaurant Association - IHRA - založena 1947 jako IHA (International Hotel Association), sdružení 147 zemí světa, resp. více než 300 tis. hotel. a rest. zařízen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national Union of National Associations of Hotels, Restaurants, Cafés Keepers - HORECA - sdružení se sídlem v Curychu - ubytovací a stravovací služb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he Confederation of National Associations of Hotels, Restaurants, Cafés and Similar Establishments in the European Union and the European Economic Area - HOTREC - víc než 1 mil. podnikatelů v 18 evr. zemích. Hlavním úkolem je monitoring legislativního procesu EU, lobbying a konzultační činnost zejména zákonodárcům při přípravě právních norem dotýkajících se podnikání v příslušejícím obor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InterContinental, Holiday Inn, Mövenpick, Clarion…??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rodní federace hotelů a restaurací České republiky -  NFHR (vznik - 1990 - největší zájmové sdružení hoteliérů v ČR), člen IHRA,  statut pozorovatele HOTRE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družení podnikatelů v pohostinství a cestovním ruchu - SPOLHOST (vznik 1991), smyslem činnosti - ochrana společných zájmů, specifikace problémů a hledání cest k jejich řešení, součástí sdružení je hotelová sekce, je členem IHRA a HK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ání, podnikavost, OSVČ, živnost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brané typy sdružování podnik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integrační procesy v hotelnictví - 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án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jem í byl ve 20. století předmětem vědeckých výzkumů z pohledu personálních a sociologických aspek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 charakterizují činnosti podnikatele jako subjektů na trhu (firmy), jak využívají zdroje a mění je na statky a tím vytvářejí přidanou hodnotu a jaký to má dopad na ekonomický systém, jde o roli podnikatelů ve vztahu k utváření tržní ekonom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 psychologického hlediska je podnikání činnost, která je motivována určitými pohnutkami, pohnutkami něco získat nebo dosáhnout, něco si vyzkoušet, něco splnit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le sociologického hlediska je podnikání hledání cesty k dokonalejšímu využívání zdrojů vytvářením pracovních míst a příležitostí, na jehož konci je vytvoření blahobytu pro všechny zainteresovan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statné rysy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899640" y="1052280"/>
            <a:ext cx="7481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ákladní motiv - snaha 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zhodnocení vloženého kapitálu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(v podstatě zisku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 se dociluje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uspokojováním potřeb zákazníků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třeby zákazníků uspokojuje statky na trhu, mus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čelit riziku,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trategii a politiku volí s cílem  snížit riziko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tel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vkládá kapitál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 cílem je zhodnocení zejména vlastního kapitálu a zvyšování hodnoty firm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zisková orientace podniku by neměla zamlžovat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enské poslání podniku -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služba zákazníkovi a všem ostatním, kteří jsou s vývojem podniku spjatí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9640" y="944280"/>
            <a:ext cx="784224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Občanském zákoníku (§421) je ve vymezení pojmu podnikatel vymezeno i podnikán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em je osoba, která má k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živnostenské nebo jiné oprávnění podle jiného zákon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tel, který nemá obchodní firmu, právně jedná při svém podnikání pod vlastním jménem; připojí-li k němu dodatky charakterizující blíže jeho osobu nebo obchodní závod, nesmí být klamavé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án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– soustavná nepřetržitá činnost, ale takovou, která je vykonávána s vidinou, že bu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konávána i nadá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9640" y="1125000"/>
            <a:ext cx="7842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innost nesmí být náhodná, nahodilá nebo příležitostná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oustavná činnost je i to, když je podnikatel zaměstnán a podniká pouze ve svém volném čase nebo podniká pouze v určité roční době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amostatnost - osoba, která činnost provozuje, může sama rozhodovat o době a místě výkonu činnosti a organizaci práce podle své vlastní svobodné úvahy a volb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soba musí finančně sama zajišťovat chod podnikání a sama čerpat a rozhodovat o použití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isku z činnosti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4920" y="726840"/>
            <a:ext cx="7986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Hlavním cílem podnikání je dosažení zisku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myslem podnikání je neustálý růst hodnoty firmy,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užití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společného jmění k podnikání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jednoho z manželů upravuje § 715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dnikající osoby jsou zákonem označovány jako </a:t>
            </a:r>
            <a:r>
              <a:rPr b="1" lang="cs-CZ" sz="22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SVČ dle zákona č. 155/1995 Sb., o důchodovém pojištění, ve znění pozdějších předpisů, je osoba, která vykonává samostatnou výdělečnou činnost, nebo spolupracuje při výkonu samostatné výdělečné činnosti, pokud podle zákona č. 586/1992 Sb., o daních z příjmů, ve znění pozdějších předpisů, lze na ni rozdělovat příjmy dosažené výkonem této činnosti a výdaje vynaložené na jejich dosažení, zajištění a udržení, ukončila povinnou školní docházku a dosáhla aspoň 15 let věk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6028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Druhy OSVČ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96960" y="1052280"/>
            <a:ext cx="805176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eská správa soc. zabezpečení definuje druhy OSVČ, např.: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podnikání v zemědělství,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činnosti znalců, tlumočníků, zprostředkovatelů kolektivních sporů, zprostředkovatelů kolekt.a hromadných smluv podle autorského zákona, rozhodce podle zvláštních právních předpisů a správce konkursní podstaty, předběžného správce, zvláštního správce a vyrovnacího správce, aj.    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OSVČ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může být </a:t>
            </a:r>
            <a:r>
              <a:rPr b="1" lang="cs-CZ" sz="2100" spc="-1" strike="noStrike">
                <a:solidFill>
                  <a:srgbClr val="000000"/>
                </a:solidFill>
                <a:latin typeface="Comic Sans MS"/>
              </a:rPr>
              <a:t>živnostník</a:t>
            </a: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 podnikající dle 455/1991 Sb., zákona o živnostenském podnikání, ve znění pozdějších předpisů. § 2: Živností je soustavná činnost provozovaná samostatně, vlastním jménem, na vlastní odpovědnost, za účelem dosažení zisku a za podmínek stanovených tímto zákonem.  </a:t>
            </a:r>
            <a:endParaRPr b="0" lang="en-US" sz="21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Živnosti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se člení dle § 9 na: </a:t>
            </a: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ohlašovací, koncesované (řemeslné, ….., …..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vo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39640" y="1197000"/>
            <a:ext cx="7842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chopnost vidět příležitost a schopnost tuto příležitost využít a chápeme ji jako dovednost (talent), která je užitečná a nepochybně i žádaná také u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nikavý člověk - kdo má smysl pro iniciativu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 podnikavo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poručení Evropského parlamentu a Rady o klíčových schopnostech pro celoživotní učení z roku 2006 nalezneme kompetenci nazvanou smysl pro iniciativu a podnikavo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7:21:09Z</dcterms:modified>
  <cp:revision>713</cp:revision>
  <dc:subject/>
  <dc:title>mikro-P1</dc:title>
</cp:coreProperties>
</file>