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92FD-86DE-411E-919C-10D7649C6107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6C70-DC3D-4CF2-B373-7F92444B953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833B-2EC8-4E6C-9260-240CCF7D6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FA85-1436-41B9-BA02-AF628543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A893-11F7-44F5-8B73-85D17BB1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9731-AE6E-4244-A84F-27F5233E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5D55E-4E80-4F7A-BAA4-FEC08105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9B08-B038-488D-ADC3-C1086E3D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36BB-2E42-4F20-8DBB-CA2E747E7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24EE-1CEC-432C-A1C0-1EF7A7B7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D73E-E7D2-4F85-9803-2EA36CEC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BCF6-8C34-409D-B824-A9F40258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1492-88D3-4E14-8F4A-B55FE812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FFEB-D6BD-449C-979A-81F2C33B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878F-23F0-4281-BE08-494DB218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9AC4F-4905-47A6-B74B-B99C5156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6988-3EA5-4DB0-A5B9-E469C1B9D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861D-D415-4662-A728-FFBE0924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BC94-F61F-4585-992B-D4039867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8397-BB44-4373-B63E-05273152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DFEB-BBC9-426E-86D8-218B24D7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3185-F339-46B2-9F37-8A93598A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95E9-50C6-4E5F-8057-A16A17A9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01B9-F2FA-470D-A8E2-116911E9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70F9-84B1-4B29-BEC2-9EC915D6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729D-7E13-4896-8F41-F6949EE3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8055-D80E-483C-8468-14A0A7E211F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056D-7462-4198-9230-F5FEA948AC6F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CHARAKTERISTIKA PODNIKATELSKÉHO SUBJEKTU, </a:t>
            </a:r>
            <a:br>
              <a:rPr sz="4000"/>
            </a:br>
            <a:r>
              <a:rPr b="1" lang="en-GB" sz="4000" spc="-1" strike="noStrike">
                <a:solidFill>
                  <a:srgbClr val="c00000"/>
                </a:solidFill>
                <a:latin typeface="Comic Sans MS"/>
              </a:rPr>
              <a:t>JEHO TYPY A VLASTNOSTI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10920" y="1483920"/>
            <a:ext cx="7273800" cy="558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chodními korporacemi jso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bchodní společnosti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a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 Společnostmi jsou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řejná obchodní společnost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(jen „osobní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ost s ručením omezený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kciová společnost (jen „kapitálová společnost“)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é hospodářské zájmové sdruž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6341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Zákon č. 90/2012 Sb., o obchodních společnostech a družstve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10920" y="1773360"/>
            <a:ext cx="727380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ružstv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dle § 1 odst. 3 zákona o obchodních společnostech a družstvech jsou družstvo a evropská družstevní společnos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vropská společnost, evropské hospodářské zájmové sdružení a evropská družstevní společnost se řídí ustanoveními tohoto zákon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rozsahu, v jakém to připouštějí přímo použitelné předpisy EU upravující evropskou společnost, evropské hospodářské zájmové sdružení nebo evropskou družstevní společn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pecifické znak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052280"/>
            <a:ext cx="7696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kytují relativně široký sortiment služeb v podmínkách často se měnící D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tenzita D po jejich službách se často mění v závislosti na jejich lokalizaci a sezóně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jich kapacita, standard a komplexnost poskytovaných služeb ovlivňuje i lokalizac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jí vysoké nároky na lidské zdroje, poskytují prac. místa i pro nekvalifikované pracovníky, osobní náklady tvoří vysoký podíl na jejich celkových náklade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ři poskytování služeb jsou omezené možnosti substituce lidské práce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nohé z nich vyžadují vysoký podnikatelský kapitál a mají vysoký podíl dlouhodobého hmotného majetku (zejména hotelové, restaurační, lázeňské podniky) – to ovlivňuje jejich ekonomi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 jako stakehold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 lze vnímat jako koalici zainteresovaných stran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skupiny či osoby, které ovlivňují daný podnik nebo jsou jednáním podniku samy dotčen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interesované stran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azníci - tvorba hodnoty pro zákazníka a vytvoření dlouhodobě udržitelné konkurenční výhod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aměstnanci - konkurenční výhoda spočívá ve vytvoření učící se organizace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ěřitelé - poskytují podniku na určitou dobu kapitál - odpovídající výnos -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management, dodavatele, stát, místní a regionální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práva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abezpečení dlouhodobé prosperity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imární cíle měříme ukazateli EPS, ROE, ROI, MVA, E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ové cíle mají tvořit uspořádaný systém, aby vypovídal o vlastnostech jednotlivých cí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poslání podniků je vyrábět ekonomické statky a nabízet je zákazníkům, klient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závisí na účelu, pro který byl podnik založen; malé firmy x velké firmy -  jiné cí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lenění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řadí jejich významu (hierarchie): vrcholové (primární) a podřazené (dílčí)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ikosti (rozsahu) cíle: neomezené a omezené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ého hlediska: krátkodobé, střednědobé a dlouhodobé někdy jen krátkodobé (obvykle do 1 roku, někdy do 3 let) a dlouhodobé (delší než 1 rok, resp. 3 roky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u mezi cíli: komplementární (dosahování 1 vede k dosahování druhého), konkurenční, protikladné a indiferentní (plnění 1 cíle nemá vliv na plnění ostatních cílů)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hu cíle: ekonomické, technické a sociál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ulace cílů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sně vymezený obsah cíle, aby všichni zainteresovaní pochopili cíl stejn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rčená velikost cíle v naturálních nebo hodnotových jednotkách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anovený časový horizont dosažení cíle, který je pokud možno co nejreálněj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jasně zdokumentovaný – srozumitelně popsaný, písemně dokladovaný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e mají bý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rét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ěřitelné a hodnotitel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asově ohraničené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stanovena zodpovědnost za splně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ýrobní - výroba, produkce určitého výrobku nebo služb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davatelská - uspokojuje určité potřeby trh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ědeckotechnická -snaží se využívat nových vědeckých poznatků, nových technologi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á - tvorba zisku cestou uspokojování cizích potřeb a ve vytváření předpokladů pro další roz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 - na fungování podniku závisí příjmy zaměstnanc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á - posiluje, či oslabuje politická rozhodnut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dělávací a kultur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Bezpečnostní - zahrnuje bezpečnost práce, ochranu majetku, životního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á odpovědnost (CSR) – dobrovolně integruje sociální a ekologické dopady do podnikatelské činnosti firmy, a to ve spolupráci se zainteresovanými stranami podniku a stakeholder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unkce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944280"/>
            <a:ext cx="769608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podnikatels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užívání příležitostí na trhu CR pro dosahování cílů zhodnocení vlastního kapitál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konomická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ykonávání činností spojených s poskytováním služe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organizač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vnitřní uspořádání výrobních faktorů a vztahů mezi nimi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environment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ostavení a činnosti podniku v souvislosti s jeho vlivem na kvalitu a ochranu ŽP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technická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– vybavenost základními výrobními faktory a vytváření technicko-technologických podmínek pro svoji činnos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499"/>
              </a:spcBef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c00000"/>
                </a:solidFill>
                <a:latin typeface="Comic Sans MS"/>
              </a:rPr>
              <a:t>soci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péče o zaměstnance podniku a vztahy mezi nimi, i vliv podniku na ekonomický a sociální rozvoj obcí, měst a regionů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7030a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402920" y="944280"/>
            <a:ext cx="6978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právní fo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jednotliv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sobní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apitálové společnosti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ružstv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vropské společnosti a sdruže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eřejné (státní) podniky, neziskové organ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sektorů a hospodářských odvětví, tradičně do 3 sektorů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prim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sekundární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ektor terciárn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velikosti - velké, střední a malé podn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47840" indent="-447840"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y podle typu výroby, sdružení podniků;  podle typů výroby rozlišují výrobu: hromadnou, vázanou, druhovou, sériovou, plynulou, kusovo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Obdélník 1"/>
          <p:cNvSpPr/>
          <p:nvPr/>
        </p:nvSpPr>
        <p:spPr>
          <a:xfrm>
            <a:off x="-518040" y="4795920"/>
            <a:ext cx="240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7030a0"/>
                </a:solidFill>
                <a:latin typeface="Comic Sans MS"/>
              </a:rPr>
              <a:t>Typy podniků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, podnik, závod, provozovna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íle a funkce podniku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jednotlivé typy podnikatelských subjekt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85800" y="765000"/>
            <a:ext cx="7696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) podniky vztahující se k objektu, jedná se 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a stravovací služby: hotel, motel, penzion, turistická ubytovna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ubytovací služby: chalupy, chaty, ubytování v soukromí, campingy, chatové osad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dniky poskytující stravovací služby: restaurace, specializované restaurace, vinárny, čajovny, kavárny, cukrárny, bary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lázeňsko-léčebné podniky: lázeňský dům, lázeňská léčebna, lázeňsko-léčebné procedur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ací instituce: společensko-zábavní a kulturní podniky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ě rekreační zařízení: umělá ledová dráha, koupaliště, plovárna, tenisové kurty, golfové hřiště, minigolf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rtovní školy: lyžování, tenisu, plavání, potápění, závěsného létá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opravní podniky CR: speciální dopravní prostředky jako např. osobní horské dopravní zařízení, koňské spřežení, úzkokolejná železnice, historická železnice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robní, obchodní podniky a podniky služeb orientující se na CR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7240" y="260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Typy podniků C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) podniky CR vztahující se k subjekt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klamní podniky a agentury zaměřené na propagaci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išťovací podniky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inanční instituce zaměřené na C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) podniky vytvářející vztahy mezi objektem a subjektem CR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stovní kanceláře a cestovní agen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uristické informační kanceláře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6870960" cy="61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7030a0"/>
                </a:solidFill>
                <a:latin typeface="Comic Sans MS"/>
              </a:rPr>
              <a:t>Vývoj podniků v hotelnictví v ČR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rázek 3" descr=""/>
          <p:cNvPicPr/>
          <p:nvPr/>
        </p:nvPicPr>
        <p:blipFill>
          <a:blip r:embed="rId1"/>
          <a:stretch/>
        </p:blipFill>
        <p:spPr>
          <a:xfrm>
            <a:off x="1069920" y="1628640"/>
            <a:ext cx="6862680" cy="3529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ecné označení pro ekonomicko-právní subjekt, jednu za základních forem institucionálního uspořádá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ekonom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subjekt, ve kterém dochází k přeměně vstupů na výstupy, tj. zboží a služ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 právnického hlediska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yl podnik dle obchodního zákoníku definován jako soubor hmotných, nehmotných, jakožto i osobních složek podnik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kladními znaky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ekonomická samostatnost a právní subjektiv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aždý subjekt, který vykonává hospodářskou činnost bez ohledu na jeho právní form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ladní prvek NH, tvoří jej (Vochozka, Mulač a kol, 2012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motné složky podnikání (movitý a nemovitý majetek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ní složky podnikání (zaměstnanci a zaměstnavatelé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hmotné složky podnikání (obchodní jméno, patenty, licence, ochranné známky, know-how atd.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efinice evropského práva, Nařízení Komise 800/2008  ze dne 6. srpna 2008, kterým se v souladu s články 87 a 88 Smlouvy o ES prohlašují určité kategorie za slučitelné se společným trhem (obecné nařízení o blokových výjimkách):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každý subjekt vykonávající hospodářskou činnost, bez ohledu na jeho právní formu. K těmto subjektům patř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soby samostatně výdělečně čin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odinné podniky vykonávající řemeslné či jiné činnost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obchodní společnosti nebo sdružení, která běžně vykonávají hospodářskou činn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765000"/>
            <a:ext cx="78422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kon č. 90/2012 Sb., Občanský zákoník, díl 5, § 420: Podnikatel je ten, kdo samostatně vykonává na vlastní účet a odpovědnost výdělečnou činnost živnostenským nebo obdobným způsobem se záměrem činit tak soustavně za účelem dosažení zisku, je považován se zřetelem k této činnosti za podnikatel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o účely ochrany spotřebitele a pro účely § 1963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také každá osoba, která uzavírá smlouvy související s vlastní obchodní, výrobní nebo obdobnou činností či při samostatném výkonu svého povolání, popřípadě osoba, která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dná jménem nebo na účet podnikate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§ 421 se z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e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považuje osoba zapsaná v obchodním rejstří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ídlo podnikatele se určí adresou zapsanou ve veřejném rejstří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astoupení podnikatele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pověří-li podnikatel někoho při provozu obchodního závodu určitou činností, zastupuje tato osoba podnikatele ve všech jednáních, k nimž při této činnosti obvykle dochází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 organizovaný soubor jmění, který podnikatel vytvořil a který z jeho vůle slouží k provozování jeho činnosti. Má se za to, že závod tvoří vše, co zpravidla slouží k jeho provoz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rodinný závod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- závod, ve kterém společně pracují manželé nebo alespoň s jedním z manželů i jejich příbuzní až do třetího stupně nebo osoby s manžely sešvagřené až do druhého stupně a který je ve vlastnictví některé z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těchto osob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412640"/>
            <a:ext cx="74167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jem provozovna: Podnikatele zavazuje i jednání jiné osoby v jeho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ě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okud byla třetí osoba v dobré víře, že jednající osoba je k jednání oprávně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ísto plnění je uvedeno: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závodu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plní se dluh v místě závodu. To platí obdobně, vznikl-li závazek při provozu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rovozovn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Občanský zákoní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360" y="727200"/>
            <a:ext cx="7416720" cy="63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§ 423 -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 firma - j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e to jméno, pod kterým je podnikatel zapsán do obchodního rejstříku. Podnikatel nesmí mít víc obchodních firem. Obchodní firma nesmí být zaměnitelná s jinou obchodní firmou ani nesmí působit klamavě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Člověk se zapíše do obchodního rejstříku pod obchodní firmou tvořenou zpravidla jeho jménem. Změní-li se jeho jméno, může používat v obchodní firmě i nadále své dřívější jméno; změnu jména však uveřej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Je-li víc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bchodních závod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několika podnikatelů spojeno do podnikatelského seskupení, mohou jejich jména nebo obchodní firmy obsahovat shodné prvky; veřejnost však musí být schopna je odliši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9T16:35:06Z</dcterms:modified>
  <cp:revision>721</cp:revision>
  <dc:subject/>
  <dc:title>mikro-P1</dc:title>
</cp:coreProperties>
</file>