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6523F-D126-4CEB-976D-3A268A45595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F17B-D486-4ED3-B48F-18DB6475ABD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7D7F-638B-48A0-9B5B-DB24F1C1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C7CF-95C8-4C22-BE25-8FECF00D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C98-B4AC-4FF9-B04C-DBE4549BA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7DB-7CDE-4512-A53A-41D48B6E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11BC-9B36-42A3-981B-971EDE605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F567-C82F-4646-819D-E6955D4D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4917C-0D1E-4968-AC13-98F4371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E8419-5373-4758-836C-E024072A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7339-F257-4323-AAE6-6D559102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0617-B331-4352-9817-506C44DC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DD20-08CF-4AA1-BBB8-D04BCDE0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DD5-9F84-4337-8D1A-9EAB85D1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4F19-74C9-4D29-87A6-54596F3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53BDF-F8C4-45D6-A2AA-AEE22E64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B929-13BF-41F4-AD99-D3EDDC37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C804-DD59-4644-B3ED-C0419936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E7D2-7CDB-4773-A8D6-262EC103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12E4-2D77-4F49-9B80-CC24E8A9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6456-BA40-4516-9332-27E3C873A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F1E-0D98-4E7C-81A6-1734CA29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35B-B76B-4C99-8C63-5A2DD3D4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0025-B1DC-4991-A3BC-1BEC5042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5C6-59B4-453C-B918-FE6EF43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DBB4-D50D-4569-9DED-1885183C8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4281-7C41-4845-AFCC-4F328E63B3E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D9F6F-AED8-42A0-985B-B40D65C6E9F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RIZIKA PODNIKÁN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hmotné riziko – zpravidla se dá měři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hmotné riziko – označované jako psychologické riziko, souvisí spíše s duševní činnos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čisté riziko – má vždy negativní dopad a manažer se mu snaží vyhnout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ekulativní riziko – podstupuje podnik záměrně s vidinou zisku z rizika, neexistuje na ně pojiště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ystematické riziko – nedá se žádným způsobem regulovat, vztahuje se k více projektům, plyne z celkového ekonomického vývoje a postihuje všechny subjekt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nesystematické riziko – váže se k jednomu projektu/subjektu, nebo k určité skupině projektů a je na ostatních nezávislé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jistitelné a nepojistitelné riziko – uplatňuje se tam, kde je možné přenést riziko za úplatu na třetí osob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trategické riziko – můžeme najít v činnosti strategického managementu a odpovídá na otázku „co se má dělat“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perační riziko – je součást operačního managementu a jeho rozhodování v otázce „jak se to má dělat“.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ecná rizik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emětřesení, požáry, výbuch plynu, protržení přehradních hrází, zavalení silnic a železnic, zřícení budov, poškození energetických sítí, povodně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související s podnikatelskou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podmínek smlouvy, s ohledem na kvalitu a parametry produk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dodržení dohodnutého termínu dodávky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 případě rizika poskytovatele jde 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převzetí produktu ze strany objednavatel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uhrazení kupní ceny, případně neuhrazení v pož.termín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a vyplývající z nedostatečné odbornosti provádění některých činnost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o nesprávného odhadu budoucího vývoje  a riziko nepřímých důsledků porušování předpisů upravujících podniká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6000" y="92520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3 fáze analýzy rizik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dnocení rizika –správná identifikace rizika - znát strategické, taktické a operativní cíle podniku, je vhodné použít Strategickou situační analýzu podniku (vychází z PEST analýzy), nebo lze požít Paretova modelu pěti sil, analýzy pro identifikaci rizik a příležitostí nebo provést analýzu intuitivním způsobem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rizika –tak, aby zajistil proces vedoucí k nastavení cílů, které odpovídají strategickým záměrům, a jsou v souladu s mírou ochoty akceptovat rizika; koncept řízení rizik vychází z 3 typů příčin rizik: riziko založené na nejistotě, riziko založené na příležitosti, riziko založené na ohrožení; rozlišujeme 2 přístupy k řízení rizik: intuitivní a systémový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formování o rizik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116000" y="1557360"/>
            <a:ext cx="66247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ů rizik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ů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– to je možné určit přímo číselně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 a přijetí opatření na jeho snížen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íprava plánu korekčních opatření -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dnocení rizika – 2 ty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l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me stupnicí rozdělenou na rizika vysoká, střední a nízká či jiné kategorie; hodnocení rizika = rozsah, jaký mohou mít potenciální události na dosažení cílů; existují dvě perspektivy: pravděpodobnost nastoupení/výskytu, dopad; při kvalitativním hodnocení pravděpodobnosti výskytu lze stanovit např. úroveň rizika 1 – téměř jisté, 2 – pravděpodobné, 3 – možné, 4 – nepravděpodobné, 5 – téměř vyloučené; u hodnocení významu vlivu lze stanovit úrovně: 1 – téměř vyloučené, 2 – nepravděpodobné, 3 – možné, 4 – pravděpodobné, 5 – katastrofické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vantitativní hodnocení rizik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hodnotí se rizika ve finančním vyjádření, tzn., že máme vytvořeny předpoklady pro hodnocení dopadu rizik ve finančním vyjádř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sk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115640" y="1483920"/>
            <a:ext cx="6769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 zabývá řízením rizik v 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jak na provozní rizika, i na strategick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podniku je nezbytné stanovit osobu nebo útvar zodpovědný za risk managemen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uje se na identifikaci a kvantifikaci rizika, analýzu příčin rizika a řízení (zvládnutí)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del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15640" y="134136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podnikatelského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a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ces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erač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a informací potřebných pro rozhodo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ystém řízení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15640" y="1483920"/>
            <a:ext cx="6985080" cy="48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  modelu řízení rizik vychází systém řízení rizika -  zahrnuje vzájemně se doplňující činnosti a tvoří cyklu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dentifiková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portování o rizicí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ři minimalizaci riz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ískejte plnohodnotné (dostačující) informa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čerpejte všechny možnost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veďte zhodnocení rizik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lokujte na projekt zkušené zaměstnan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pracujte projektov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vestujte průběžně – v jednotlivých vývojových fázích projektu, jako jsou průzkum trhu, konstrukční návrh, příprava stanoviště, objednání vybavení, instalace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 zprovoznění vybave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abudujte flexibili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avidelně kontrolujte vývoj a sledujte informace zvenč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zložte rizik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definovat podnikatelské riziko a faktory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lasifikovat druhy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dentifikace rizika a zhodnoc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roces řízení rizik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obecný model řízení rizika a systém řízení rizika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4428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iziko - nejistota výskytu určitých událostí a/nebo jejich následků, které by mohly mít významný dopad na podnikatelské cíle společ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riziko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nebezpečí, že skutečně dosažené hospodářské výsledky podnikatelské činnosti se budou odchylovat od výsledků předpokládaných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zitivní stránka – je spojována s nadějí na úspěch, s uplatněním se na trhu; spojeno s dosahováním lepších výsledků, než předpokládal podnikatelský plán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gativní – projevuje se nebezpečím dosažení horších hospodářských výsledků, než podnikatel předpokládal, vznikem ztráty, v krajním případě bankrote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69818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ignorovat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pokud vznikne malá ztráta, kterou je možné bez problémů unést, jedná se o tzv. nepojištěné riziko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ceptovat odpovědnost za výši možného rizi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– podnik má dostatečné vnitřní zdroje k pokrytí případné ztrát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ytvořit bezpečnostní systém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ující únosnou míru rizik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ři skupiny investorů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averzí k rizik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neutrálním postojem neb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vestory s vysokým sklonem k riziku s očekáváním vysokého výnos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izik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tup jak „ovládnout riziko“, je řízení rizika,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jít faktory, které významně mohou působit na výsledek podnikatelské aktivity, což současně znamená, nezabývat se dopadem méně důležitých faktor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vantifikovat možné riziko projektu a rozhodnout, zda je projekt i s tímto rizikem realizovatel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třeba udělat, aby se dopad ovlivnitelných faktorů minimalizov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ízení rizika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áplň řízení rizika projekt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krok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í faktoru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významnosti faktoru rizik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í rizika projekt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odnocení rizika projektu a přijetí opatření na jeho sníž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estavování plánu korekčních opatř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aktory ovlivňující rizik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ějš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politické, finanční, měnové, právní, daňové, sociální, konkurence, dumpingové praktiky zahraniční konkurence, ekonomická recese v odvětví, nesolventnost odběratelů, ztráta dodavatele apo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nitřní faktor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trategické chyby, problémy růstu podniku, nesolventnost podniku, špatná organizační struktura, jednostranný výběr odběratelů nebo dodavatelů, nízká produktivita, chybně nastavená cena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rizik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440" y="1197000"/>
            <a:ext cx="71262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trž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riziko spojené s fungováním podniku v určitém vnějším ekonomickém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riziko specifické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pojené s fungováním podniku, obvykle se dělí n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vozní (náklady) 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riziko  (zapojení cizích zdrojů ve financování podniku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23T19:30:24Z</dcterms:modified>
  <cp:revision>718</cp:revision>
  <dc:subject/>
  <dc:title>mikro-P1</dc:title>
</cp:coreProperties>
</file>