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F99-88FD-4471-AC8C-E3A2B3AA39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AFEA4-5CB7-4556-A2B8-14801F184B33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2B77-16E5-4F7D-993E-3283B5D7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36D-E19F-4B69-AADB-5ED28C8B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4AEA-F872-434E-A2EE-615F0727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34D-5F0C-449A-AE58-A3A89D852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7F9B-F849-426A-96C3-43D2219F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3F38E-6CB3-42D0-8E40-404DA953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9826-3833-4669-8337-9AB3855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0E94D-DC95-4CE4-BFC9-94D5866B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84096-2296-490F-AF3A-82F5FD3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E2A5-BC37-489D-802C-331C53FA9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88A8-4A62-4A17-A8B9-D6E0CA94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C45-AB5B-44AE-8B28-1A93DFD1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0EE2-C3DF-4328-9DF8-5D18A745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F223-A441-4F88-9DD1-55D2DAAFB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05572-3D70-40ED-9D76-FCEE6B35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71FA2-741B-43AD-9C9C-7F6BAC97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9F5D-3B10-445B-B700-8C4C5AD7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38A6-F45A-46B9-8B03-68C2489D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682-EF8B-4F15-810D-0A0C4D9FF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AB72-21FB-4C1E-91A2-641040F4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CBAB-EF5B-4765-B319-0624F21B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FFC0-C0A3-4FD6-803D-FAF79EDD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340-5571-43B0-BD13-05CCE5FD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BDB0-7291-446B-A901-AEE4EA63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9A49-B9F4-402E-87B6-4972868FA509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280E-58A6-46BA-9DDC-4C3444B82401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574040" cy="21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ŘÍZENÍ LIDSKÝCH ZDROJŮ V HOTELNICTVÍ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76720" y="5444640"/>
            <a:ext cx="54720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1886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Pavlína PELLEŠOVÁ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188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 rámci jednotlivých činností řízení lidských zdrojů plní manažeři úkoly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a analýza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bsazování volných pracovních míst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acovního výkonu a hodnoce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zaměstnanc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éče o zaměstnan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užívání personálního informačního systém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Aktivit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547640" y="799920"/>
            <a:ext cx="734400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LZ se pro splnění hlavních úkolů zaměřuje na </a:t>
            </a: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aktivity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dělávání a rozvoj pracovník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rganizační rozvoj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ní pracovních úkolů, pracovních míst a organizačních struktur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personálu organizac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personálního výzkumu a funkčnosti personálního informačního systém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lánování lidských zdroj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dměňování a zaměstnanecké výhod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racovní vztahy, především pak vztahy s odb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oc pracovníků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personálního útvar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115640" y="1125360"/>
            <a:ext cx="7343640" cy="52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6 kategorií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personální strategie ve spolupráci s managementem podniku, včetně principů a politiky říze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pracování a respektování pravidel, předpisů a zákon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jištění operativního řízení personál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ízení projektů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informací a vyjednáván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skytování ra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 - 6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547640" y="836640"/>
            <a:ext cx="70567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etráková a kol. (2011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ytvářet v podniku prostředí, aby počet a struktura prac. míst byly v dynamickém souladu s počtem a strukturou zaměstnanců, přičemž každé prac. místo musí být obsazené zaměstnancem, který splní požadavky na výkon práce, zároveň prac. místo musí poskytovat zaměstnanci prostor na seberealizaci a při plnění cílů podniku dosáhnout i osobní cíle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eustále rozvíjet lidské zdroje a vytvářet pro ně motivující pracovní a životní podmínky, což přispěje k plnění cíl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at týmy, efektivní styl vedení lidí a zdravé mezilidské vztahy v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úkoly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971640" y="836640"/>
            <a:ext cx="74880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máhat podniku přizpůsobovat se různým zájmům zainteresovaných osob - vlastníků, zaměstnanců, odborových organizací, zákazníků, dodavatelů, státní správy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i samospráv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ledovat místní, celostátní i mezinárodní vývoj ovlivňující praxi zaměstnávání osob a interpretovat a objasňovat jeho důsledky pro strategii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 zájmu úspěšného fungování podniku poskytovat přímo anebo nepřímo potřebné služb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10920" y="611280"/>
            <a:ext cx="784836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Analýza pracovních míst pro stanovení specifických potřeb podniku v oblasti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ognózovaní a plánování potřeby pracovních sil a pokrytí této potřeby. V této souvislosti realizaci průzkumů trhu práce, populačního vývoje a hodnotové orientace lid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hledávání a získávání zaměstnanců potřebných pro plnění úkolů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ýběr a přijím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Orientace a adaptace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Rozmísťovaní zaměstnanců tak, aby byli optimálně využité jejich pracovní schopnosti ve prospěch podniku a pro zvýšení spokojenosti samotných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ělávání a rozvoj zaměstnanců podniku, aby byli připraveni zvládnout nejen nové požadavky na pracovní místo, ale aby byli připraveni i na změnu svého pracovního zařazení v rámc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programů řízení a rozvoje organizace prá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vhodných systémů hodnocení pracovního výkonu a postojů k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agendy penzionování a propouště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ersonální činnos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10920" y="611280"/>
            <a:ext cx="82818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zpracování a realizaci plánů jejich kariéry, plánů jejich personálního a sociálního rozvoj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odměňování zaměstnanc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Spolupráce mezi podnikem a odbo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systémů projednávání disciplinárních záležitostí a stížností a péče o jejich fungování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podmínek pro tvorbu dobrých mezilidských vztah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prosazování programů, které se týkají bezpečnosti a ochrany zdraví zaměstnanců při prá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realizace systémů sociální práce v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omoc zaměstnancům při řešení osobních problémů, které by mohly ovlivnit jejich pracovní výko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a zabezpečování systému komunikace se zaměstnanc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ytváření personálního informačního systému, zřizování, aktualizace a uchovávání dokumentů týkajících se jednotlivých zaměstnanců, zpracovávání příslušné statistiky a analýz poskytujících údajovou základnu a pomoc při rozhodovaní, zjišťování názorů a postojů zaměstnanců k aktuálním problémům a záměrům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Comic Sans MS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abezpečování dodržování zákonů v oblasti práce, zaměstnávaní osob a lidských práv a vytváření dobré zaměstnanecké pověsti podniku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76500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činnosti řízení lidských zdrojů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Obrázek 4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7200720" cy="4751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31680" y="174600"/>
          <a:ext cx="8964720" cy="6665760"/>
        </p:xfrm>
        <a:graphic>
          <a:graphicData uri="http://schemas.openxmlformats.org/drawingml/2006/table">
            <a:tbl>
              <a:tblPr/>
              <a:tblGrid>
                <a:gridCol w="2519280"/>
                <a:gridCol w="6445440"/>
              </a:tblGrid>
              <a:tr h="28008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Činnosti ŘL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Účel činnos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tváření a analýza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efinování pracovních úkolů (a souvisejících povinností, pravomocí, odpovědnosti, podmínek a požadavků vykonané práce) a jejich seskupování do prac. míst, zpracování popisů a specifikací pracovních míst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lidských zdroj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lánování potřeby, pokrytí potřeby a pers. rozvoje zaměstnanců, zpracování plánů personálních činnost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volných pracovních mí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bsazování nově vytvořených nebo uvolněných prac. míst v organizaci, získání vhodných uchazečů, výběr nejvhodnějších uchazečů, přijímání uchazečů, adaptace přijatých uchazeč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Řízení pracovního výkonu a hodnoce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směrňování a podněcování zaměstnanců k vykonávání sjednané práce a dosahování požadovaného výkonu pomocí systematického získávání a poskytování zpětné vazby (infce o skutečném výkon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dměňování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ceňování skutečného výkonu zaměstnanců a stimulace zaměstnanců k dosaže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5598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zdělávání a rozvoj zaměstnanců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tváření, prohlubování a rozšiřování schopností zaměstnanců k vykonávání sjednané práce a dosahování požadovaného výkonu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  <a:tr h="111924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éče o zaměstn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sahování příznivých hodnot všech proměnných, které ovlivňují zaměstnance v prac. procesu při vykonávání sjednané práce a dosahování požadovaného výkonu (prac. doba, prac. prostředí, bezpečnost a ochrana zdraví při práci, pracovní vztahy apod.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9d3"/>
                    </a:solidFill>
                  </a:tcPr>
                </a:tc>
              </a:tr>
              <a:tr h="8395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yužívání personálního informačního systém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2307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Zpracování pers. údajů potřebných k plnění povinností vyplývajících z právních předpisů a zabezpečování personální práce v organizac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54360" marR="54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cea"/>
                    </a:solidFill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6920" y="47628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é strategické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42560" y="1483920"/>
            <a:ext cx="748836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řešení těchto otáze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ou podnikatelskou filozofii si chce podnik vytvořit, jaké chce mít poslání a jakou roli si přeje hrát na trhu či ve společnosti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m pozitivním a negativním vnějším faktorům musí podnik čeli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jsou přednosti a nedostatky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ých cílů chce podnik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 chce těchto cílů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31640" y="1699920"/>
            <a:ext cx="712476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ymezit pojem řízení lidských zdrojů a odlišit od personálního řízení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psat cíle a činnosti řízení lidských zdrojů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charakterizovat jednotlivé úkoly řízení lidských zdrojů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87096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o řeší ŘLZ nejp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402920" y="836640"/>
            <a:ext cx="748836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míry souladu mezi prac. místy a             pracovníky chce podnik v budoucnu dosáhnou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je současná míra souladu a z ní plynoucí úroveň produktivity práce a osobního rozvoje pracovníků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é změny v politice a praktické činnosti jsou nezbytné, aby bylo dosaženou žádoucího souladu mezi pracovními místy a pracovníky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Kolik a jaký druh pracovníků bude podnik potřebov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aká nabídka PS se perspektivně předpokládá v podniku i mimo něj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Co je potřeba udělat pro pokrytí potřeb pracovníků podniku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0920" y="1413000"/>
            <a:ext cx="8130960" cy="50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(ŘLZ) je práce s lidmi takovým způsobem, který vede ke zvýšení výkonnosti podniku při dosažení osobních cílů zaměstnanců. Je záležitostí všech manažerů a vedoucích týmů (Vetráková a kol., 2011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bývá obvykle definováno jako proces dosahování podnikových cílů prostřednictvím získávání, stabilizování, propouštění, rozvoje a optimálního využívání lidského potenciálu (Vochozka, Mulač a kol., 2012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28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78920" y="836280"/>
            <a:ext cx="820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 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manažerský přístup k využívání úsilí, schopnosti a oddanosti lidí k vykonávání požadované práce způsobem, který organizaci zajistí perspektivní budoucnost (Watson, 2010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omic Sans MS"/>
              </a:rPr>
              <a:t>Řízení lidských zdrojů</a:t>
            </a: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 je souhrnem metodologií a rozhodování, jejichž cílem je řídit a rozvíjet lidský potenciál ve všech druzích organizací. Řízení lidských zdrojů lze definovat jako proces dosahování podnikových cílů prostřednictvím získávání, stabilizování, propouštění, rozvoje a optimálního využívání lidí v organizaci. Tato definice ukazuje rozdílnost charakteristiky personalistiky, která je „jen“ obsazováním pozic v organizační struktuře a udržování jejich obsazení (Wagnerová a Matusiková, 200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34720" y="3207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ŘLZ a personální řízen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Obrázek 4" descr=""/>
          <p:cNvPicPr/>
          <p:nvPr/>
        </p:nvPicPr>
        <p:blipFill>
          <a:blip r:embed="rId1"/>
          <a:stretch/>
        </p:blipFill>
        <p:spPr>
          <a:xfrm>
            <a:off x="1835280" y="944640"/>
            <a:ext cx="5470560" cy="5734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Rozdíly a shodné rys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Obrázek 4" descr=""/>
          <p:cNvPicPr/>
          <p:nvPr/>
        </p:nvPicPr>
        <p:blipFill>
          <a:blip r:embed="rId1"/>
          <a:stretch/>
        </p:blipFill>
        <p:spPr>
          <a:xfrm>
            <a:off x="1692360" y="836640"/>
            <a:ext cx="626436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Cíle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58560" y="1197000"/>
            <a:ext cx="7343640" cy="50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dosahování strategických cílů organizace vytvářením a uplatňováním strategií lidských zdrojů v souladu se strategií podniku (strategické řízení lidských zdrojů)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řispívat k rozvíjení kultury zaměřené na dosahování vysokého výkon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at organizaci talentované, kvalifikované a oddané lid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vytváření pozitivních pracovních vztahů a navozování vzájemné důvěry mezi managementem a zaměstnanc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dporovat uplatňování etického přístupu k řízení lidí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Obecný cíl ŘLZ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403280" y="1125360"/>
            <a:ext cx="73440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je zajistit, aby byl podnik schopen prostřednictvím lidí úspěšně plnit cíle v oblastech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Zabezpečování a rozvoje pracovníků – předvídat a uspokojovat budoucí potřeby pracovních sil, zvyšovat a rozvíjet podstatné schopnosti lidí, potenciál a zaměstnatelnost (příležitost k soustavnému vzdělání a rozvoji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cenění pracovníků – zvyšovat motivaci za oddanost, znalosti, dovednosti, schopnos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Vztah mezi managementem a pracovníky – vytvářet ovzduší pro udržování dobrých vztahů a důvě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33300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Hlavní úkoly ŘLZ 5-9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332000" y="873000"/>
            <a:ext cx="720072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usilovat o zařazení správného člověka na správné místo a snažit se o to, aby byl tento člověk neustále připraven přizpůsobovat se měnícím se požadavkům pracovního místa, uplatňuje se tzv. „tailoring“ neboli „šití“ pracovních úkolů a pracovních míst na míru pracovníkovi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optimální využívání prac. sil v podniku - pracovní doby, pracovních schopnost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formování týmu, efektivního stylu vedení lidí a zdravých mezilidských vztahů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ersonální a sociální rozvoj pracovníků podniku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držování zákonů v oblasti práce, zaměstnávaní osob a lidských práv a vytváření dobré zaměstnanecké pověsti podnik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10-19T20:14:40Z</dcterms:modified>
  <cp:revision>724</cp:revision>
  <dc:subject/>
  <dc:title>mikro-P1</dc:title>
</cp:coreProperties>
</file>