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043E-70ED-4DFC-A059-E656616CB32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4F4C-56EB-45C6-9F88-2B273F2CA20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0612-5E46-4A53-B6DF-9032B70C5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AFDA-F9F1-4652-AB59-21660D9F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E9E8-1D17-4D91-98A5-7CFB4EAA6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050D-4955-41CB-9FDA-0620721D9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192D-F05F-47CC-AACD-2BC7C886C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DFE0-5ABB-4F30-BACC-96B605E1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A7F5-1694-48F2-9275-5CB841D1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DF7C-5DDE-485D-9A19-4A6DA3B6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1E07-479B-4056-8F10-50E6BD91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9D5B7-5304-4AB4-B361-E220EBA8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187B1-1C9F-41D1-8233-89047060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6ECE-63A7-4D8D-8383-8952B162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162B-CE06-4E61-913B-C1E591AB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1CF2-4AA3-4CC7-805A-F6D36560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1566E-9637-44AA-B1C6-FF9B399E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91DB-13C1-4E96-9A40-F10961D2B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F6D2-5924-47FB-B19B-BB172696D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E163-B2C6-4844-9AFE-0507ABBA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B8EA-0A61-43EC-A418-F83F86DE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7945-A7A3-474C-86C8-0F9ACC63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AC81-1DA2-4A76-AAC3-D446652F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9043-E386-49CB-BEF5-87E7E4BA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5CE2-648C-4166-94D9-79AB2F00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CA18-FA39-4F14-803B-C7EF15ED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B5B7-9431-4887-BAD1-C43855510621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D8F4-BF68-48A6-B393-0E848B6B93CB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RIZIKA PODNIKÁN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hmotné riziko – zpravidla se dá měři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hmotné riziko – označované jako psychologické riziko, souvisí spíše s duševní činnos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čisté riziko – má vždy negativní dopad a manažer se mu snaží vyhnou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ekulativní riziko – podstupuje podnik záměrně s vidinou zisku z rizika, neexistuje na ně pojiště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ystematické riziko – nedá se žádným způsobem regulovat, vztahuje se k více projektům, plyne z celkového ekonomického vývoje a postihuje všechny subjekt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systematické riziko – váže se k jednomu projektu/subjektu, nebo k určité skupině projektů a je na ostatních nezávislé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jistitelné a nepojistitelné riziko – uplatňuje se tam, kde je možné přenést riziko za úplatu na třetí osob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rategické riziko – můžeme najít v činnosti strategického managementu a odpovídá na otázku „co se má dělat“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perační riziko – je součást operačního managementu a jeho rozhodování v otázce „jak se to má dělat“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ecná rizik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emětřesení, požáry, výbuch plynu, protržení přehradních hrází, zavalení silnic a železnic, zřícení budov, poškození energetických sítí, povodně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související s podnikatelskou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podmínek smlouvy, s ohledem na kvalitu a parametry produk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dohodnutého termínu dodávky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 případě rizika poskytovatele jde 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převzetí produktu ze strany objednavatel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uhrazení kupní ceny, případně neuhrazení v pož.termín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vyplývající z nedostatečné odbornosti provádění některých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o nesprávného odhadu budoucího vývoje  a riziko nepřímých důsledků porušování předpisů upravujících podniká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3 fáze analýzy rizik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dnocení rizika –správná identifikace rizika - znát strategické, taktické a operativní cíle podniku, je vhodné použít Strategickou situační analýzu podniku (vychází z PEST analýzy), nebo lze požít Paretova modelu pěti sil, analýzy pro identifikaci rizik a příležitostí nebo provést analýzu intuitivním způsobem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rizika –tak, aby zajistil proces vedoucí k nastavení cílů, které odpovídají strategickým záměrům, a jsou v souladu s mírou ochoty akceptovat rizika; koncept řízení rizik vychází z 3 typů příčin rizik: riziko založené na nejistotě, riziko založené na příležitosti, riziko založené na ohrožení; rozlišujeme 2 přístupy k řízení rizik: intuitivní a systémový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formování o rizik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116000" y="1557360"/>
            <a:ext cx="662472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ů rizik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ů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– to je možné určit přímo číselně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 a přijetí opatření na jeho snížen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prava plánu korekčních opatření -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 – 2 typ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l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me stupnicí rozdělenou na rizika vysoká, střední a nízká či jiné kategorie; hodnocení rizika = rozsah, jaký mohou mít potenciální události na dosažení cílů; existují dvě perspektivy: pravděpodobnost nastoupení/výskytu, dopad; při kvalitativním hodnocení pravděpodobnosti výskytu lze stanovit např. úroveň rizika 1 – téměř jisté, 2 – pravděpodobné, 3 – možné, 4 – nepravděpodobné, 5 – téměř vyloučené; u hodnocení významu vlivu lze stanovit úrovně: 1 – téměř vyloučené, 2 – nepravděpodobné, 3 – možné, 4 – pravděpodobné, 5 – katastrofické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nt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 se rizika ve finančním vyjádření, tzn., že máme vytvořeny předpoklady pro hodnocení dopadu rizik ve finančním vyjádř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sk manag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5640" y="1483920"/>
            <a:ext cx="6769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 zabývá řízením rizik v 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jak na provozní rizika, i na strategick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podniku je nezbytné stanovit osobu nebo útvar zodpovědný za risk managemen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na identifikaci a kvantifikaci rizika, analýzu příčin rizika a řízení (zvládnutí)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del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15640" y="134136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podnikatelského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a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ces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erač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informací potřebných pro rozhodo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ystém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15640" y="1483920"/>
            <a:ext cx="6985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  modelu řízení rizik vychází systém řízení rizika -  zahrnuje vzájemně se doplňující činnosti a tvoří cyklu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dentifiková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portování o rizicí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ři minimalizaci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ískejte plnohodnotné (dostačující) informa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čerpejte všechny možnost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veďte zhodnocení rizik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lokujte na projekt zkušené zaměstnan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pracujte projektov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vestujte průběžně – v jednotlivých vývojových fázích projektu, jako jsou průzkum trhu, konstrukční návrh, příprava stanoviště, objednání vybavení, instalace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 zprovoznění vybave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abudujte flexibili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avidelně kontrolujte vývoj a sledujte informace zvenč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zložte rizik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efinovat podnikatelské riziko a faktory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lasifikovat druhy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dentifikace rizika a zhodnoc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roces říz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becný model řízení rizika a systém řízení rizik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4428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o - nejistota výskytu určitých událostí a/nebo jejich následků, které by mohly mít významný dopad na podnikatelské cíle společ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riziko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nebezpečí, že skutečně dosažené hospodářské výsledky podnikatelské činnosti se budou odchylovat od výsledků předpokládaných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zitivní stránka – je spojována s nadějí na úspěch, s uplatněním se na trhu; spojeno s dosahováním lepších výsledků, než předpokládal podnikatelsk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gativní – projevuje se nebezpečím dosažení horších hospodářských výsledků, než podnikatel předpokládal, vznikem ztráty, v krajním případě bankrote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69818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ignorovat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pokud vznikne malá ztráta, kterou je možné bez problémů unést, jedná se o tzv. nepojištěn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ceptovat odpovědnost za výši možného rizi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– podnik má dostatečné vnitřní zdroje k pokrytí případné ztrát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ytvořit bezpečnostní systém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ující únosnou míru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ři skupiny investorů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averzí k rizik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neutrálním postojem neb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vysokým sklonem k riziku s očekáváním vysokého výnos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tup jak „ovládnout riziko“, je řízení rizika,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jít faktory, které významně mohou působit na výsledek podnikatelské aktivity, což současně znamená, nezabývat se dopadem méně důležitých faktor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vantifikovat možné riziko projektu a rozhodnout, zda je projekt i s tímto rizikem realizovatel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třeba udělat, aby se dopad ovlivnitelných faktorů minimalizova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ízení rizik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áplň řízení rizika projekt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u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u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a projektu a přijetí opatření na jeho sníž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stavování plánu korekčních opatř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aktory ovlivňující rizik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ějš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politické, finanční, měnové, právní, daňové, sociální, konkurence, dumpingové praktiky zahraniční konkurence, ekonomická recese v odvětví, nesolventnost odběratelů, ztráta dodavatele apo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itřn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trategické chyby, problémy růstu podniku, nesolventnost podniku, špatná organizační struktura, jednostranný výběr odběratelů nebo dodavatelů, nízká produktivita, chybně nastavená cena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440" y="1197000"/>
            <a:ext cx="7126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trž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riziko spojené s fungováním podniku v určitém vnějším ekonomickém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specifické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pojené s fungováním podniku, obvykle se dělí n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vozní (náklady) 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o  (zapojení cizích zdrojů ve financování podniku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23T19:30:24Z</dcterms:modified>
  <cp:revision>718</cp:revision>
  <dc:subject/>
  <dc:title>mikro-P1</dc:title>
</cp:coreProperties>
</file>