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6FDA-9492-4A13-939B-39D08244BB4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4987-1EC6-45A1-9DE4-7378903A0E9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80E4-6BFE-4F50-B454-0B6472661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2AFF-13DB-43ED-B04E-9FD557C5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0A82-C30C-4329-AB0D-99231BBDF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6C09-ECD2-4071-801D-1EE3E124A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2664-D847-4D47-9DEA-490E6F2A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8E30-8433-4C53-A64C-A478F9EA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B3A7-FADE-4D21-8E5A-87709F41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0A24-D213-4DE6-9C73-83B2CE09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7947-45D9-44FF-BC3E-FE409FC7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F0EF-59F5-4543-9080-286D35F1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398B-B075-4642-94E2-10A29F7A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F8C4-3F25-4D5E-9ACC-62F49C80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6EC4-F154-48F4-9843-D97373FC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8D84-AEF2-4112-A7D2-104C1A8D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A4B0-5323-4896-8B1D-05C874C2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B2D3-09DE-4A17-AB8D-314526DC0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0A07-39A9-442C-8485-A21174377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3E85-C68D-40F9-897F-339BDF17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BA17-2D3B-4896-834F-13CE0A23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568B-6EF1-447B-A3E2-A040F439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B852-2414-44BE-B15B-4568554D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2154-EFFA-4130-A983-C7AF7F4D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5980-24EB-4BC7-A5E5-717C3A08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0441-B3A8-45FF-83DB-BBE3E9E1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A26D-D268-4E1A-9818-E86468FCE281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6CC9-34EE-461B-BEA9-07C9DF6AB033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, PODNIKAVOST, INTEGRAČNÍ PROCESY V H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Bariér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58920" y="1125000"/>
            <a:ext cx="707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interní bariéry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chc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umí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můž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externí bariéry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 existují objektivně, nelze je ovlivni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rž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trh je nasycený nebo neexistuj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určitá výroba může být zakázána nebo omez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egion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některé statky nejsou v určitých regionech prodej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ociál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ro určitou vrstvu obyvatel může být výrobek nepřijatelný nebo si jej nemohou dovolit koupit, aj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 v GA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čné na finanční kapitál, návratnost je del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ký počet malých provozních jednotek vyvolává vyšší potřebu pracovníků a je příčinou vyšších nákladů na zabezpečení provoz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hrnu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travovac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o-zábavn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bytovací a hotelov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ateringové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ypické příklady korporac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patří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rust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podniky ztrácejí hosp. samostatnost, cílem je dosažení dominantního postavení na trh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artel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smluvní spojení podniků, mají hosp. i právní samostatnost, cílem je ovlivňování cen, výše prodejů,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cern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spojení právně samostatných podniků, řízení je central. v rukou jednotného vedení, cílem je realizovat úspory z rozsahu výroby, koncentrovat kapitál a know-how, diverzifikovat činnost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holding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principem je vlastnické ovládání dceřiné společnosti společností mateřsko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sorcium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dočasné spojení právně samostatných podniků, je tvořeno za účelem splnění určitého cíle, po splnění cíle zaniká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7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alší příklady sdružení podnik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jmová sdružení a pracovní příležitos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ý podnik, tzv. Joint ventur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ing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dnárodní společnosti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nsnacionální korpo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tivy a formy koncent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z rozsahu výrob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při pořizování výrobních faktor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ůst podílu na trh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kapitálu a znalost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suny da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iverzifikace činností – snižování rizika výkyvů v hospodař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y koncentrace: akvizice, fúze sloučením, fúze splynutím nebo (vnitřní růst, vnější růst, vytlačení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ypy fúzí: horizontální, vertikální, konglomerát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grační procesy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3 úr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omezeném geografickém prost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rámci jedné národ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upina nadnárodního dosah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ůkopník spojování hotelů -franšízingový řetězec InterContinental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liday Inn - 1200 hotelů v USA, 245 v Evropě a 74 hotelů v Asii a Pacifik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jvětší hotelový řetězec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Cendant Corp. s cca 6 300 hotely na světě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Nejdůl. sdruž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123560"/>
            <a:ext cx="784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Hotel &amp; Restaurant Association - IHRA - založena 1947 jako IHA (International Hotel Association), sdružení 147 zemí světa, resp. více než 300 tis. hotel. a rest. zaříz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Union of National Associations of Hotels, Restaurants, Cafés Keepers - HORECA - sdružení se sídlem v Curychu - ubytovací a stravovací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Confederation of National Associations of Hotels, Restaurants, Cafés and Similar Establishments in the European Union and the European Economic Area - HOTREC - víc než 1 mil. podnikatelů v 18 evr. zemích. Hlavním úkolem je monitoring legislativního procesu EU, lobbying a konzultační činnost zejména zákonodárcům při přípravě právních norem dotýkajících se podnikání v příslušejícím obor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Continental, Holiday Inn, Mövenpick, Clarion…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dní federace hotelů a restaurací České republiky -  NFHR (vznik - 1990 - největší zájmové sdružení hoteliérů v ČR), člen IHRA,  statut pozorovatele HOTR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družení podnikatelů v pohostinství a cestovním ruchu - SPOLHOST (vznik 1991), smyslem činnosti - ochrana společných zájmů, specifikace problémů a hledání cest k jejich řešení, součástí sdružení je hotelová sekce, je členem IHRA a HK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ání, podnikavost, OSVČ, živno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brané typy sdružování podnik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grační procesy v hotelnictví - 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em í byl ve 20. století předmětem vědeckých výzkumů z pohledu personálních a sociologických aspek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 charakterizují činnosti podnikatele jako subjektů na trhu (firmy), jak využívají zdroje a mění je na statky a tím vytvářejí přidanou hodnotu a jaký to má dopad na ekonomický systém, jde o roli podnikatelů ve vztahu k utváření tržní ekonom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psychologického hlediska je podnikání činnost, která je motivována určitými pohnutkami, pohnutkami něco získat nebo dosáhnout, něco si vyzkoušet, něco splni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le sociologického hlediska je podnikání hledání cesty k dokonalejšímu využívání zdrojů vytvářením pracovních míst a příležitostí, na jehož konci je vytvoření blahobytu pro všechny zainteresovan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statné rys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ladní motiv - snaha 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hodnocení vloženého kapitálu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(v podstatě zisku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 se dociluj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uspokojováním potřeb zákazník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třeby zákazníků uspokojuje statky na trhu, mus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čelit riziku,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trategii a politiku volí s cílem  snížit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tel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vkládá kapitál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cílem je zhodnocení zejména vlastního kapitálu a zvyšování hodnoty firm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ová orientace podniku by neměla zamlžovat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enské poslání podniku -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služba zákazníkovi a všem ostatním, kteří jsou s vývojem podniku spjatí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Občanském zákoníku (§421) je ve vymezení pojmu podnikatel vymezeno i podniká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em je osoba, která má k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živnostenské nebo jiné oprávnění podle jiného záko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, který nemá obchodní firmu, právně jedná při svém podnikání pod vlastním jménem; připojí-li k němu dodatky charakterizující blíže jeho osobu nebo obchodní závod, nesmí být klamav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oustavná nepřetržitá činnost, ale takovou, která je vykonávána s vidinou, že b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konávána i nadá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125000"/>
            <a:ext cx="784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innost nesmí být náhodná, nahodilá nebo příležitostná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oustavná činnost je i to, když je podnikatel zaměstnán a podniká pouze ve svém volném čase nebo podniká pouze v určité roční dob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amostatnost - osoba, která činnost provozuje, může sama rozhodovat o době a místě výkonu činnosti a organizaci práce podle své vlastní svobodné úvahy a vol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a musí finančně sama zajišťovat chod podnikání a sama čerpat a rozhodovat o použit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isku z činnos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Hlavním cílem podnikání je dosažení zisk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myslem podnikání je neustálý růst hodnoty firm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užit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ného jmění k podnikán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dnoho z manželů upravuje § 715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jící osoby jsou zákonem označovány jak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SVČ dle zákona č. 155/1995 Sb., o důchodovém pojištění, ve znění pozdějších předpisů, je osoba, která vykonává samostatnou výdělečnou činnost, nebo spolupracuje při výkonu samostatné výdělečné činnosti, pokud podle zákona č. 586/1992 Sb., o daních z příjmů, ve znění pozdějších předpisů, lze na ni rozdělovat příjmy dosažené výkonem této činnosti a výdaje vynaložené na jejich dosažení, zajištění a udržení, ukončila povinnou školní docházku a dosáhla aspoň 15 let vě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6028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Druhy OSV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6960" y="1052280"/>
            <a:ext cx="8051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eská správa soc. zabezpečení definuje druhy OSVČ, např.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podnikání v zemědělství,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innosti znalců, tlumočníků, zprostředkovatelů kolektivních sporů, zprostředkovatelů kolekt.a hromadných smluv podle autorského zákona, rozhodce podle zvláštních právních předpisů a správce konkursní podstaty, předběžného správce, zvláštního správce a vyrovnacího správce, aj.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může být </a:t>
            </a: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živnostník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podnikající dle 455/1991 Sb., zákona o živnostenském podnikání, ve znění pozdějších předpisů. § 2: Živností je soustavná činnost provozovaná samostatně, vlastním jménem, na vlastní odpovědnost, za účelem dosažení zisku a za podmínek stanovených tímto zákonem.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Živ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se člení dle § 9 na: </a:t>
            </a: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ohlašovací, koncesované (řemeslné, ….., ….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v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7842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chopnost vidět příležitost a schopnost tuto příležitost využít a chápeme ji jako dovednost (talent), která je užitečná a nepochybně i žádaná také u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vý člověk - kdo má smysl pro iniciativ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 podnikav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poručení Evropského parlamentu a Rady o klíčových schopnostech pro celoživotní učení z roku 2006 nalezneme kompetenci nazvanou smysl pro iniciativu a podnikav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7:21:09Z</dcterms:modified>
  <cp:revision>713</cp:revision>
  <dc:subject/>
  <dc:title>mikro-P1</dc:title>
</cp:coreProperties>
</file>