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A8A04-C7D1-4AD3-966E-7F558E2612CD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38BD5-780B-4E0E-8EA6-9C8087621B63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34362-31DE-43FA-87FC-2714ED5DF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56037-C9E7-4B7F-AE0F-3C2999DD4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1CF24-EF0F-4CE3-8B64-114020777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D739A-BDCD-40CA-A6D0-15A701915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2CB9F-AF16-480B-AD77-2B7149459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A04F1-CE36-45C0-9080-640450182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343F0-5380-4541-8AC1-81D354B01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CA952-F0CB-4C06-BF62-A9C20B4DD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45415-EFA7-4AF4-95FE-D8E15634D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3671D-F2C2-4BC9-AB43-D5A355D29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1BF4A-FB55-4C7A-8E2B-7F8509EE0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7D33A-A9F3-4685-B81A-9D68A213B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E0D83-871A-4FB1-9AD8-BC4A9AF09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93BFC-AB08-49CF-B826-8ABFF1F6D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E2943-7A86-45AC-A620-1F62D522F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99CFA-B137-4EE0-9FCC-5B1DB7C5C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CC6D0-8953-42D3-B537-00188E64B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A93FF-6984-44D7-A66C-889FAE7A7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2BB46-5CBF-477D-A614-FB0C5BDD4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3BB30-0E8D-4A74-830C-FD91A70F4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80384-A576-4293-A451-74C1601F4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E20A0-1640-400B-869F-8AF50DCEA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C86EC-2294-44EB-A62F-5239DC92A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6DE33-9809-402D-8DF4-26E0E9CB8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6647F-5BAD-4634-976B-286C4216E61D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43840" y="501840"/>
                  <a:ext cx="43128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40360" y="264600"/>
                  <a:ext cx="80964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40200" y="1404720"/>
                  <a:ext cx="27108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8320" y="1259640"/>
                  <a:ext cx="29016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84360" y="194760"/>
                  <a:ext cx="28728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520" y="4318920"/>
            <a:ext cx="978120" cy="1158480"/>
            <a:chOff x="7796520" y="4318920"/>
            <a:chExt cx="978120" cy="115848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520" y="4318920"/>
              <a:ext cx="978120" cy="1158480"/>
              <a:chOff x="7796520" y="4318920"/>
              <a:chExt cx="978120" cy="115848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040" y="5064120"/>
                <a:ext cx="93960" cy="9612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200" y="4652280"/>
                <a:ext cx="1058760" cy="49176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3400" y="4758120"/>
                <a:ext cx="749520" cy="2782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480"/>
                <a:ext cx="100080" cy="18612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52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4B814-AB64-4F81-A473-C1CC70B0E1DD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10920" y="907560"/>
            <a:ext cx="7574040" cy="324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990000"/>
                </a:solidFill>
                <a:latin typeface="Comic Sans MS"/>
              </a:rPr>
              <a:t>PODNIKÁNÍ                          V HOTELNICTVÍ, PODNIKAVOST, INTEGRAČNÍ PROCESY V HOT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00000" y="4868640"/>
            <a:ext cx="784872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doc. Ing. Pavlína PELLEŠOVÁ, Ph.D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Bariéry podniká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1258920" y="1125000"/>
            <a:ext cx="70740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3399"/>
                </a:solidFill>
                <a:latin typeface="Comic Sans MS"/>
              </a:rPr>
              <a:t>interní bariéry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člověk nechce podnikat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člověk neumí podnikat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člověk nemůže podnikat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3399"/>
                </a:solidFill>
                <a:latin typeface="Comic Sans MS"/>
              </a:rPr>
              <a:t>externí bariéry 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- existují objektivně, nelze je ovlivnit: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tržní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– trh je nasycený nebo neexistuje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legislativní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- určitá výroba může být zakázána nebo omezena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regionální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- některé statky nejsou v určitých regionech prodejné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sociální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- pro určitou vrstvu obyvatel může být výrobek nepřijatelný nebo si jej nemohou dovolit koupit, aj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dnikání v GAHO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685800" y="1341000"/>
            <a:ext cx="7696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náročné na finanční kapitál, návratnost je delší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elký počet malých provozních jednotek vyvolává vyšší potřebu pracovníků a je příčinou vyšších nákladů na zabezpečení provoz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hrnuje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stravovací služby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společensko-zábavní služby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ubytovací a hotelové služby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cateringové služby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rocesy sdružování v HO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685800" y="1268280"/>
            <a:ext cx="769608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typické příklady korporací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patří: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trust 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– podniky ztrácejí hosp. samostatnost, cílem je dosažení dominantního postavení na trhu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kartel 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– smluvní spojení podniků, mají hosp. i právní samostatnost, cílem je ovlivňování cen, výše prodejů, …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koncern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– spojení právně samostatných podniků, řízení je central. v rukou jednotného vedení, cílem je realizovat úspory z rozsahu výroby, koncentrovat kapitál a know-how, diverzifikovat činnosti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holding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– principem je vlastnické ovládání dceřiné společnosti společností mateřskou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konsorcium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– dočasné spojení právně samostatných podniků, je tvořeno za účelem splnění určitého cíle, po splnění cíle zaniká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rocesy sdružování v HO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1773000"/>
            <a:ext cx="76960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Další příklady sdružení podniků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ájmová sdružení a pracovní příležitosti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polečný podnik, tzv. Joint ventures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franchising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nadnárodní společnosti i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transnacionální korporac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333000"/>
            <a:ext cx="6870600" cy="43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Motivy a formy koncentrac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800" y="1268280"/>
            <a:ext cx="769608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úspory z rozsahu výroby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úspory při pořizování výrobních faktorů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růst podílu na trhu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oncentrace kapitálu a znalostí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řesuny daní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diverzifikace činností – snižování rizika výkyvů v hospodaření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Formy koncentrace: akvizice, fúze sloučením, fúze splynutím nebo (vnitřní růst, vnější růst, vytlačení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Typy fúzí: horizontální, vertikální, konglomerátní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Integrační procesy v HO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685800" y="1268280"/>
            <a:ext cx="769608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3 úrovně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oncentrace v omezeném geografickém prostor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oncentrace v rámci jedné národní ekonomik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kupina nadnárodního dosahu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růkopník spojování hotelů -franšízingový řetězec InterContinental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Holiday Inn - 1200 hotelů v USA, 245 v Evropě a 74 hotelů v Asii a Pacifiku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ejvětší hotelový řetězec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- Cendant Corp. s cca 6 300 hotely na světě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Nejdůl. sdruže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39640" y="1123560"/>
            <a:ext cx="78422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International Hotel &amp; Restaurant Association - IHRA - založena 1947 jako IHA (International Hotel Association), sdružení 147 zemí světa, resp. více než 300 tis. hotel. a rest. zařízení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International Union of National Associations of Hotels, Restaurants, Cafés Keepers - HORECA - sdružení se sídlem v Curychu - ubytovací a stravovací služby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The Confederation of National Associations of Hotels, Restaurants, Cafés and Similar Establishments in the European Union and the European Economic Area - HOTREC - víc než 1 mil. podnikatelů v 18 evr. zemích. Hlavním úkolem je monitoring legislativního procesu EU, lobbying a konzultační činnost zejména zákonodárcům při přípravě právních norem dotýkajících se podnikání v příslušejícím oboru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InterContinental, Holiday Inn, Mövenpick, Clarion…??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Č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685800" y="1197000"/>
            <a:ext cx="7696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Národní federace hotelů a restaurací České republiky -  NFHR (vznik - 1990 - největší zájmové sdružení hoteliérů v ČR), člen IHRA,  statut pozorovatele HOTREC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družení podnikatelů v pohostinství a cestovním ruchu - SPOLHOST (vznik 1991), smyslem činnosti - ochrana společných zájmů, specifikace problémů a hledání cest k jejich řešení, součástí sdružení je hotelová sekce, je členem IHRA a HK ČR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1042560" y="2276640"/>
            <a:ext cx="770436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DĚKUJI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ZA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POZORNOST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1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6" dur="5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1" dur="5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" dur="5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" dur="5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32000" y="475920"/>
            <a:ext cx="6541920" cy="93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Comic Sans MS"/>
              </a:rPr>
              <a:t>Struktura přednášk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86920" y="2060640"/>
            <a:ext cx="7269480" cy="400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Podnikání, podnikavost, OSVČ, živnost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vybrané typy sdružování podniků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integrační procesy v hotelnictví - ………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70c0"/>
                </a:solidFill>
                <a:latin typeface="Comic Sans MS"/>
              </a:rPr>
              <a:t>Podnikání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981000"/>
            <a:ext cx="76960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jem í byl ve 20. století předmětem vědeckých výzkumů z pohledu personálních a sociologických aspektů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ET charakterizují činnosti podnikatele jako subjektů na trhu (firmy), jak využívají zdroje a mění je na statky a tím vytvářejí přidanou hodnotu a jaký to má dopad na ekonomický systém, jde o roli podnikatelů ve vztahu k utváření tržní ekonomiky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z psychologického hlediska je podnikání činnost, která je motivována určitými pohnutkami, pohnutkami něco získat nebo dosáhnout, něco si vyzkoušet, něco splnit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dle sociologického hlediska je podnikání hledání cesty k dokonalejšímu využívání zdrojů vytvářením pracovních míst a příležitostí, na jehož konci je vytvoření blahobytu pro všechny zainteresované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4000" y="18900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dstatné rysy podniká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899640" y="1052280"/>
            <a:ext cx="748188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základní motiv - snaha o </a:t>
            </a: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zhodnocení vloženého kapitálu 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(v podstatě zisku)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zisk se dociluje </a:t>
            </a: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uspokojováním potřeb zákazníků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,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potřeby zákazníků uspokojuje statky na trhu, musí </a:t>
            </a: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čelit riziku, 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strategii a politiku volí s cílem  snížit riziko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podnikatel </a:t>
            </a: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vkládá kapitál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, cílem je zhodnocení zejména vlastního kapitálu a zvyšování hodnoty firmy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zisková orientace podniku by neměla zamlžovat </a:t>
            </a: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společenské poslání podniku -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služba zákazníkovi a všem ostatním, kteří jsou s vývojem podniku spjatí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dniká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39640" y="944280"/>
            <a:ext cx="7842240" cy="54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 Občanském zákoníku (§421) je ve vymezení pojmu podnikatel vymezeno i podnikání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dnikatelem je osoba, která má k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podnikání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živnostenské nebo jiné oprávnění podle jiného zákona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dnikatel, který nemá obchodní firmu, právně jedná při svém podnikání pod vlastním jménem; připojí-li k němu dodatky charakterizující blíže jeho osobu nebo obchodní závod, nesmí být klamavé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Podnikání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– soustavná nepřetržitá činnost, ale takovou, která je vykonávána s vidinou, že bude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ykonávána i nadál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dniká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9640" y="1125000"/>
            <a:ext cx="78422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činnost nesmí být náhodná, nahodilá nebo příležitostná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oustavná činnost je i to, když je podnikatel zaměstnán a podniká pouze ve svém volném čase nebo podniká pouze v určité roční době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amostatnost - osoba, která činnost provozuje, může sama rozhodovat o době a místě výkonu činnosti a organizaci práce podle své vlastní svobodné úvahy a volb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soba musí finančně sama zajišťovat chod podnikání a sama čerpat a rozhodovat o použití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isku z činnosti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4000" y="11592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dniká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394920" y="726840"/>
            <a:ext cx="7986600" cy="56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Hlavním cílem podnikání je dosažení zisku.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Smyslem podnikání je neustálý růst hodnoty firmy,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Použití </a:t>
            </a: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společného jmění k podnikání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jednoho z manželů upravuje § 715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Podnikající osoby jsou zákonem označovány jako </a:t>
            </a: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OSVČ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OSVČ dle zákona č. 155/1995 Sb., o důchodovém pojištění, ve znění pozdějších předpisů, je osoba, která vykonává samostatnou výdělečnou činnost, nebo spolupracuje při výkonu samostatné výdělečné činnosti, pokud podle zákona č. 586/1992 Sb., o daních z příjmů, ve znění pozdějších předpisů, lze na ni rozdělovat příjmy dosažené výkonem této činnosti a výdaje vynaložené na jejich dosažení, zajištění a udržení, ukončila povinnou školní docházku a dosáhla aspoň 15 let věku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96600" y="26028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Druhy OSVČ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696960" y="1052280"/>
            <a:ext cx="805176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Comic Sans MS"/>
              </a:rPr>
              <a:t>Česká správa soc. zabezpečení definuje druhy OSVČ, např.: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Comic Sans MS"/>
              </a:rPr>
              <a:t>podnikání v zemědělství, 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Comic Sans MS"/>
              </a:rPr>
              <a:t>činnosti znalců, tlumočníků, zprostředkovatelů kolektivních sporů, zprostředkovatelů kolekt.a hromadných smluv podle autorského zákona, rozhodce podle zvláštních právních předpisů a správce konkursní podstaty, předběžného správce, zvláštního správce a vyrovnacího správce, aj.      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100" spc="-1" strike="noStrike">
                <a:solidFill>
                  <a:srgbClr val="000000"/>
                </a:solidFill>
                <a:latin typeface="Comic Sans MS"/>
              </a:rPr>
              <a:t>OSVČ</a:t>
            </a:r>
            <a:r>
              <a:rPr b="0" lang="cs-CZ" sz="2100" spc="-1" strike="noStrike">
                <a:solidFill>
                  <a:srgbClr val="000000"/>
                </a:solidFill>
                <a:latin typeface="Comic Sans MS"/>
              </a:rPr>
              <a:t> může být </a:t>
            </a:r>
            <a:r>
              <a:rPr b="1" lang="cs-CZ" sz="2100" spc="-1" strike="noStrike">
                <a:solidFill>
                  <a:srgbClr val="000000"/>
                </a:solidFill>
                <a:latin typeface="Comic Sans MS"/>
              </a:rPr>
              <a:t>živnostník</a:t>
            </a:r>
            <a:r>
              <a:rPr b="0" lang="cs-CZ" sz="2100" spc="-1" strike="noStrike">
                <a:solidFill>
                  <a:srgbClr val="000000"/>
                </a:solidFill>
                <a:latin typeface="Comic Sans MS"/>
              </a:rPr>
              <a:t> podnikající dle 455/1991 Sb., zákona o živnostenském podnikání, ve znění pozdějších předpisů. § 2: Živností je soustavná činnost provozovaná samostatně, vlastním jménem, na vlastní odpovědnost, za účelem dosažení zisku a za podmínek stanovených tímto zákonem.  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Živnosti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se člení dle § 9 na: </a:t>
            </a:r>
            <a:r>
              <a:rPr b="1" lang="cs-CZ" sz="1800" spc="-1" strike="noStrike">
                <a:solidFill>
                  <a:srgbClr val="000000"/>
                </a:solidFill>
                <a:latin typeface="Comic Sans MS"/>
              </a:rPr>
              <a:t>ohlašovací, koncesované (řemeslné, ….., …..)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dnikavos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539640" y="1197000"/>
            <a:ext cx="784224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chopnost vidět příležitost a schopnost tuto příležitost využít a chápeme ji jako dovednost (talent), která je užitečná a nepochybně i žádaná také u zaměstnanc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dnikavý člověk - kdo má smysl pro iniciativu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a podnikavost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doporučení Evropského parlamentu a Rady o klíčových schopnostech pro celoživotní učení z roku 2006 nalezneme kompetenci nazvanou smysl pro iniciativu a podnikavos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9T11:03:34Z</dcterms:created>
  <dc:creator>Pavlína Pellešová</dc:creator>
  <dc:description/>
  <dc:language>en-US</dc:language>
  <cp:lastModifiedBy>pellesova</cp:lastModifiedBy>
  <dcterms:modified xsi:type="dcterms:W3CDTF">2017-09-17T17:21:09Z</dcterms:modified>
  <cp:revision>713</cp:revision>
  <dc:subject/>
  <dc:title>mikro-P1</dc:title>
</cp:coreProperties>
</file>