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BB943-A603-4527-9B75-AAC4D844B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77400-D412-474F-9F60-2A67308D4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DF270-7E38-4A64-AD61-DA35B05A3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9B1FC-F28B-4665-A3FD-049AE92C8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FC205-36FE-4AF9-A2AF-3C51C9CEE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95502-05BA-4A3D-A167-567507EDF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54C81-C515-42B8-A369-9465D7A4F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B76F8-17F3-4419-A2F1-332A4831B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6B2E2-08F4-4199-A8B0-591B46735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D42F0-4D58-4C1B-86FE-7B4C23995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26B13-E019-48B8-8162-7986F7D23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C04CB-2214-40D2-8E47-0067B5B98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BD3E4-F562-42CB-81D8-1006287329F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Příklad prezentace vytvořené v MS PowerPoint 200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30T12:19:25Z</dcterms:created>
  <dc:creator>Ing. Kateřina Slaninová</dc:creator>
  <dc:description/>
  <dc:language>en-US</dc:language>
  <cp:lastModifiedBy>Kateřina Slaninová</cp:lastModifiedBy>
  <dcterms:modified xsi:type="dcterms:W3CDTF">2008-09-23T14:50:01Z</dcterms:modified>
  <cp:revision>2</cp:revision>
  <dc:subject/>
  <dc:title>Příklad prezentace vytvořené v MS PowerPoint 2003</dc:title>
</cp:coreProperties>
</file>