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2DE4-7605-47EA-886F-3DA85C757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443B-2BA0-4516-B2EF-2F4E7B065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F867-6935-4300-BB05-13F1F4444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9D04-012A-4A9F-B24F-D13F447A6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83F2D-EDF1-4EF4-99D2-047FC34CD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703F9-7BD5-4457-8216-63BA43E3B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9DCF7-4B7B-4533-80D0-7F5FB23EC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A3D17-902A-466D-87E6-2F44329CB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1D906-83EE-403C-A51D-41A2B3C28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D7543-98BC-4D60-A5CC-33A6C524F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0CBA4-3FDF-4485-8783-FE777FD4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1304-8D6A-4F9C-89BE-BF4A2041E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CC1CB-7662-4E01-AB9A-BCE6879A8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719ED-5AA8-4021-BC0D-553F68F8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048D3-9017-49CE-A323-A4A52FA76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C4B59-F8E8-4284-8089-EBFBFA254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E10CA-9830-43EA-B3E2-7471FD4A5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F7AE-04E2-44DE-8082-F2980D6DA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682D-B782-4720-B808-B1EA09098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08DB-5BBD-4531-A949-F74BE42E4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1C1D-8FC0-4B40-AB18-6537A9484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30E4-4547-4249-AEBA-24148A22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ED04-E7CA-473B-81C7-B3D22839B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23C3-B5E9-4CC9-84A0-CDD38558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AA8E2-2629-4E20-AFEE-08DFEFFECA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D0D97-0F32-4840-8FF0-F58EEEEFC9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71600" y="6535800"/>
            <a:ext cx="4343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6 © Dale Carnegie &amp; Associates,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1826280"/>
            <a:ext cx="6248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ování stromů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en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místění stro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balení a příprava pů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čáteční rozpis zalé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Zdroje odborné pomoci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acovníci firmy 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efonní číslo odborné pomo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de se můžete zastavit na ra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ránky na Interne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hledejte si podle jména stromu, který chcete přesadit, možné zdroje inform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320400"/>
            <a:ext cx="784872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éče o přesazený strom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 dva týd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ch šest měsí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 šesti měsících a dá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S</a:t>
            </a: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hrnut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 vám může společnost Naše Zahrada, a.s. nabídn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Volný překlad ukázkového souboru kapitoly 14 Office XP SBS</dc:description>
  <dc:language>en-US</dc:language>
  <cp:lastModifiedBy>Jan Pokorný</cp:lastModifiedBy>
  <dcterms:modified xsi:type="dcterms:W3CDTF">2002-01-24T14:16:33Z</dcterms:modified>
  <cp:revision>3</cp:revision>
  <dc:subject/>
  <dc:title>Přesazování stromů</dc:title>
</cp:coreProperties>
</file>