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44A2-FE29-45D2-B4D2-09D6371C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7E3E7-888D-4E92-89BA-F16A49A4B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C2A0-D307-4FD7-BB20-05BFC3F76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6D80-4B78-4E7C-B2E7-CFAAAC646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0F3E-40BA-4E2C-AD8B-965B48AD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1A58A-D8CA-478E-A56E-54269B3F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64D6-AEC6-4E8E-8E79-D0B9417C3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412C-D47C-428D-A281-936F39F40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707C-A845-4679-ACEB-F25D137F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C03D-6C23-436C-959A-3163C81B4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1B6A-B128-4B62-B279-10AE35A0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67A3E-7C5C-4A46-9A0B-13F32951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DBB2-C9D9-4ABE-86D4-D92FFD05B95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Příklad prezentace vytvořené v MS PowerPoint 200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30T12:19:25Z</dcterms:created>
  <dc:creator>Ing. Kateřina Slaninová</dc:creator>
  <dc:description/>
  <dc:language>en-US</dc:language>
  <cp:lastModifiedBy>Kateřina Slaninová</cp:lastModifiedBy>
  <dcterms:modified xsi:type="dcterms:W3CDTF">2008-09-23T14:50:01Z</dcterms:modified>
  <cp:revision>2</cp:revision>
  <dc:subject/>
  <dc:title>Příklad prezentace vytvořené v MS PowerPoint 2003</dc:title>
</cp:coreProperties>
</file>