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A23C7-5C91-48F6-8196-751D93C41E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D0798-CE0C-4A7A-970B-3BE957C34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D12AA-1512-406B-AA69-5898BBA9B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09E81-CE17-4BB5-8D43-23FEDDDD84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59A7B-81EC-4C4A-9096-EA9807D0D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14840-8687-4C96-BC3C-432F5ACAE3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BC9C0-4498-4605-93F5-CD9617AB2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2D5F67-3B60-427A-A2B3-E897D72C0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DA8E74-C2D6-46FE-8155-B77F3B43C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228240" y="317520"/>
            <a:ext cx="746748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F323E-0645-4371-B9D8-02B65C463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16904-B6E4-47C2-AB57-364A8DC58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FF442-36FB-4A69-9E6C-484B62825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03E07-9F38-4309-92E9-94A6D2639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533A5-396E-4FDC-B7D2-6338327DB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0B17EC-CEE7-4549-808E-62FF3097A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2D8802-07FB-401C-92E5-648CA78C2A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277884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32980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2282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277884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32980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29A08-5D67-4D33-92C1-3587A983C5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1FA8B-96A7-42F4-9F59-DE7B88DAF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95E7A-F638-4E27-B8A4-1130EEA1A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BE138-C873-4A53-A9AC-0E1A27984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240" y="317520"/>
            <a:ext cx="746748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6499F-0FCD-499B-AC56-4A3D97989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C11D9-8B69-4C4A-99FB-BA63A1CAB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0939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DF580-22C7-47E9-B182-6DD6030B3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0939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24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DE61D-8A3E-40E2-8907-6D56C6A03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rcRect l="0" t="0" r="45976" b="0"/>
          <a:stretch/>
        </p:blipFill>
        <p:spPr>
          <a:xfrm>
            <a:off x="7353360" y="0"/>
            <a:ext cx="179064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240" y="317520"/>
            <a:ext cx="746748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5f5f5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248520"/>
            <a:ext cx="16002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09320" y="6248520"/>
            <a:ext cx="3505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24816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C106F-1D78-49D4-AD7F-81D6285446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rcRect l="0" t="0" r="13799" b="0"/>
          <a:stretch/>
        </p:blipFill>
        <p:spPr>
          <a:xfrm>
            <a:off x="6292800" y="-1440"/>
            <a:ext cx="2857680" cy="68688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1156320"/>
            <a:ext cx="624816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256680" y="6248520"/>
            <a:ext cx="1622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2108160" y="6248520"/>
            <a:ext cx="2997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5486400" y="6248520"/>
            <a:ext cx="13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1D19E-E0DE-4040-82F2-0A3788AFA1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5f5f5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5f5f5f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371600" y="6535800"/>
            <a:ext cx="4343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Copyright, 1996 © Dale Carnegie &amp; Associates, Inc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4920" y="1826280"/>
            <a:ext cx="624816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00"/>
                </a:solidFill>
                <a:latin typeface="Arial Black"/>
              </a:rPr>
              <a:t>Přesazování stromů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304560" y="3429000"/>
            <a:ext cx="601956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Naše zahrada, a.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240" y="98820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00"/>
                </a:solidFill>
                <a:latin typeface="Arial Black"/>
              </a:rPr>
              <a:t>Přesazení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Umístění strom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Zabalení a příprava půd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čáteční rozpis zalévá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240" y="320400"/>
            <a:ext cx="746748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00"/>
                </a:solidFill>
                <a:latin typeface="Arial Black"/>
              </a:rPr>
              <a:t>Zdroje odborné pomoci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acovníci firmy Naše Zahrada, a.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Telefonní číslo odborné pomoc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Kde se můžete zastavit na rad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Stránky na Internet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Vyhledejte si podle jména stromu, který chcete přesadit, možné zdroje informac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320400"/>
            <a:ext cx="784872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3300"/>
                </a:solidFill>
                <a:latin typeface="Arial Black"/>
              </a:rPr>
              <a:t>Péče o přesazený strom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3276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vní dva týdn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rvních šest měsíc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Po šesti měsících a dá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240" y="988200"/>
            <a:ext cx="74674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00"/>
                </a:solidFill>
                <a:latin typeface="Arial Black"/>
              </a:rPr>
              <a:t>S</a:t>
            </a:r>
            <a:r>
              <a:rPr b="0" lang="cs-CZ" sz="4400" spc="-1" strike="noStrike">
                <a:solidFill>
                  <a:srgbClr val="003300"/>
                </a:solidFill>
                <a:latin typeface="Arial Black"/>
              </a:rPr>
              <a:t>hrnutí</a:t>
            </a:r>
            <a:endParaRPr b="0" lang="en-US" sz="4400" spc="-1" strike="noStrike">
              <a:solidFill>
                <a:srgbClr val="003300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24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5f5f5f"/>
              </a:buClr>
              <a:buSzPct val="65000"/>
              <a:buFont typeface="Wingdings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Co vám může společnost Naše Zahrada, a.s. nabídnout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>Volný překlad ukázkového souboru kapitoly 14 Office XP SBS</dc:description>
  <dc:language>en-US</dc:language>
  <cp:lastModifiedBy>Jan Pokorný</cp:lastModifiedBy>
  <dcterms:modified xsi:type="dcterms:W3CDTF">2002-01-24T14:16:33Z</dcterms:modified>
  <cp:revision>3</cp:revision>
  <dc:subject/>
  <dc:title>Přesazování stromů</dc:title>
</cp:coreProperties>
</file>