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A65A-5AB7-462E-A9D4-E9BBD4509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EDDA-A022-4771-96F9-0AC0F9E6D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D1F7-3FC9-491D-8557-11B2C2758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DFC2-6AD6-4FC7-9E75-4A5E48034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38D6C-C455-4BB7-84EB-0C494EA5C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810DE-830F-4C59-8FB2-04E7300E0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53115-C06F-4E32-A0A1-FBE3CB6EC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B0F02-7B3A-4ABA-95B3-B96CAF589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7E7BB-4792-4601-AC01-0FA29A245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28E1B-59B8-419E-A869-6478BA4DD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031ED-B7C7-44E1-9E87-F3C2F986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311E-B94D-4192-ABAC-122A0382C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FC806-BAEC-433C-BB93-E5E9ED9A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8F423-A01F-4B4D-ADAB-5CE8EBD5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9780D-8CB3-45FA-B09B-FAF3868AE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8B62B-1997-4B0F-8A6A-C99796309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20F0C-7874-4CD4-A08C-DB5E76B6D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7986-C670-4BC0-99A0-269625DEA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4AEF-61E9-4390-9E2A-FB883FB6C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2869-8093-420D-9742-6E64BBA6D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FBA1-67A0-418A-8C6A-6B8C9A068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86FB-895F-4EE8-A965-C5094D14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AE63-D854-4A03-B4F6-33F430B7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1B2E-D41A-42D0-ACA3-9A77541A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47C8B-1586-4BE2-920B-2CA273B452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42C88-11C6-4A7E-B664-93E4E217B2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6535800"/>
            <a:ext cx="434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6 © Dale Carnegie &amp; Associates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826280"/>
            <a:ext cx="6248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ování stromů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en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místění stro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balení a příprava pů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čáteční rozpis zalé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Zdroje odborné pomoci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acovníci firmy 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efonní číslo odborné pomo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de se můžete zastavit na r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ánky na Intern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hledejte si podle jména stromu, který chcete přesadit, možné zdroje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78487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éče o přesazený strom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 dva týd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ch šest měsí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 šesti měsících a dá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</a:t>
            </a: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hrnut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vám může společnost Naše Zahrada, a.s. nabídn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Volný překlad ukázkového souboru kapitoly 14 Office XP SBS</dc:description>
  <dc:language>en-US</dc:language>
  <cp:lastModifiedBy>Jan Pokorný</cp:lastModifiedBy>
  <dcterms:modified xsi:type="dcterms:W3CDTF">2002-01-24T14:16:33Z</dcterms:modified>
  <cp:revision>3</cp:revision>
  <dc:subject/>
  <dc:title>Přesazování stromů</dc:title>
</cp:coreProperties>
</file>