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BAC4-48F2-47F5-8298-A627B2719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1B5C-023D-4F0C-8047-306B94F53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5F26-6525-4CE2-A260-431B8B3D8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A754-A4FA-4072-B0D4-203D516F6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AB919-992A-4989-801D-D66E1F1C9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E5066-605B-4DEC-9E7F-F58C5F0EF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09CA6-D2FD-46B2-BD91-32A4FE75C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21AA2-968F-42C8-AF14-00BDC05E3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767F2-65D7-4DB6-8B60-C53E47A5F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9E5F1-108E-4836-9A63-1C1DF4531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5D988-8A52-411D-BB6B-E4FCE0D66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D9A4-D0DC-4705-B8EE-A306E1347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B1158-AF97-4EBE-B036-DF4C13D4D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F597D-9B4B-495E-924A-01C6C736E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727BF-E901-442F-A91D-C812A07BC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1C564-0992-458A-B1E9-E7E6469EB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D45C0-64D6-4B4D-90FF-039B8A79C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8CA1-8E22-43EC-B862-69BBAE829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C6E3-B2F0-44D1-934D-15512D42F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0B39-E78E-4474-8B8E-F061FF8B9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D11B-ACAC-4F1D-B753-EA4B8CFEE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23D0-7DCC-4087-952A-ACF25ABC8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ADF8-B96D-4893-B1EA-E5547F023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E1D3-09C8-4AC1-AF92-CBC60208D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E9F24-9BB6-4788-B763-27BEFC3E88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3F036-02F4-4050-9000-9F1A7E78BC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371600" y="6535800"/>
            <a:ext cx="4343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6 © Dale Carnegie &amp; Associates,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1826280"/>
            <a:ext cx="6248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řesazování stromů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še zahrada, a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řesazení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místění stro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balení a příprava pů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čáteční rozpis zalé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Zdroje odborné pomoci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acovníci firmy Naše Zahrada, a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efonní číslo odborné pomo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de se můžete zastavit na ra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ránky na Interne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hledejte si podle jména stromu, který chcete přesadit, možné zdroje inform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320400"/>
            <a:ext cx="784872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éče o přesazený strom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ní dva týd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ních šest měsí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 šesti měsících a dá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S</a:t>
            </a: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hrnutí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 vám může společnost Naše Zahrada, a.s. nabídn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Volný překlad ukázkového souboru kapitoly 14 Office XP SBS</dc:description>
  <dc:language>en-US</dc:language>
  <cp:lastModifiedBy>Jan Pokorný</cp:lastModifiedBy>
  <dcterms:modified xsi:type="dcterms:W3CDTF">2002-01-24T14:16:33Z</dcterms:modified>
  <cp:revision>3</cp:revision>
  <dc:subject/>
  <dc:title>Přesazování stromů</dc:title>
</cp:coreProperties>
</file>