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8BEE-DF1D-4AFB-8C51-DBEEF8F68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AEDE-58A1-45B1-A2D9-3F7592800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9C2E-141F-47F1-B7C6-A3302FCF4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3648-98D9-4437-B9DA-22A4C2CF8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6367D-1952-4948-98E3-50D75F4B7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3FF27-9ABC-4F0D-9569-3F7C806FE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54526-27BC-492D-98A4-5D0668D19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901FC-CFA8-410B-8094-66C8C70DB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F9973-FE25-448B-B37D-20383EC10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3D3A5-B777-41A3-9012-9C3B1028E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EA754-435B-49FA-BBB7-565E2EA9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77E2-8036-41CB-921F-562A56D81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3C778-032B-4774-B751-3A8850D9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BC394-798C-479B-AF4A-BD79509E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0A1C6-6133-4A87-8016-A8542E28A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A2703-E6C2-4E1F-B7F2-FCBA31DBA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FA0F7-B37B-4899-91F4-E437A3C88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EB8C-420A-41DE-8E53-C0798C786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57D4-138C-4020-9FF4-158E2F3D7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C567-8778-4A94-B575-FF998E15E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7A6E-A0DA-4864-99C6-5DBBE8121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F2C4-5192-4DFD-BA90-BF4E7447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40EB-9684-4C9B-979B-E2580AA0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1C3E-F727-4864-8191-695434A3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94ADE-F7D5-46F3-A9C5-A478FB6286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ED442-F69B-4D23-952B-45461845DF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6535800"/>
            <a:ext cx="434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6 © Dale Carnegie &amp; Associates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826280"/>
            <a:ext cx="6248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ování stromů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en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místění stro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balení a příprava pů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čáteční rozpis zalé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Zdroje odborné pomoci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acovníci firmy 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efonní číslo odborné pomo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de se můžete zastavit na r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ánky na Intern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hledejte si podle jména stromu, který chcete přesadit, možné zdroje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78487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éče o přesazený strom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 dva týd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ch šest měsí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 šesti měsících a dá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</a:t>
            </a: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hrnut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vám může společnost Naše Zahrada, a.s. nabídn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Volný překlad ukázkového souboru kapitoly 14 Office XP SBS</dc:description>
  <dc:language>en-US</dc:language>
  <cp:lastModifiedBy>Jan Pokorný</cp:lastModifiedBy>
  <dcterms:modified xsi:type="dcterms:W3CDTF">2002-01-24T14:16:33Z</dcterms:modified>
  <cp:revision>3</cp:revision>
  <dc:subject/>
  <dc:title>Přesazování stromů</dc:title>
</cp:coreProperties>
</file>