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0499A-7DA5-4DAC-AA2C-F747CB04F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CF1EC-F439-4FE2-98EE-AA37B6273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9A93D-6AD6-4677-BFDC-C4F2E2D35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314C3-90A6-4AD9-A2FE-84D87F27F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17975-800F-4BEC-9CDB-CE7E4FBCE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DBE9E-9B29-4F59-AA32-ACE4A6B50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39807-5118-463A-84E0-9CD63D211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462B6-E916-40E1-95BB-A037F4868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8EB02-5931-4EA4-B5A0-A11B0F266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0C9F5-EDD8-4742-94E8-A01493097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7A39A-44C7-4A37-9DEE-7F8E3E180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E9872-D153-4EE3-B664-3A947F89D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C23E9-00BB-4383-A0AF-3D461E1B0A9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Příklad prezentace vytvořené v MS PowerPoint 200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30T12:19:25Z</dcterms:created>
  <dc:creator>Ing. Kateřina Slaninová</dc:creator>
  <dc:description/>
  <dc:language>en-US</dc:language>
  <cp:lastModifiedBy>Kateřina Slaninová</cp:lastModifiedBy>
  <dcterms:modified xsi:type="dcterms:W3CDTF">2008-09-23T14:50:01Z</dcterms:modified>
  <cp:revision>2</cp:revision>
  <dc:subject/>
  <dc:title>Příklad prezentace vytvořené v MS PowerPoint 2003</dc:title>
</cp:coreProperties>
</file>